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08C-5AE5-4022-B358-A5CFEE19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AAE-414A-402C-ACBC-58C0633A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7A9-9D92-41F0-869C-85D671E5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347-B426-4E19-ACF2-93A990AE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19EF-A7CC-4553-AE27-7C1183E3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61CE-9787-4688-98B1-643FD3B1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0167-B68C-4851-BCA9-643140C8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D88C-7FCA-44E5-9D9C-E38A824A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286B-1918-4FCC-8292-6206C15F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132F-41B7-406B-A8FD-8537ECA6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0C3F-A93B-48FC-9FD1-747C208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683-9EF4-4B99-AC07-B56E0175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312A-A833-404B-A50E-C7D3811B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5B68-D9D4-4212-A677-AAFBC9A7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876C-873E-4884-A1D7-091CD555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224D-0F18-423B-AFA3-B7C44669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C8E4-77F3-4194-BC14-333B3194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9A8-11E3-4689-AFF1-5A22ED05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E2B-B144-4B8B-B4A5-876855EA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265-021C-4502-8146-1C1E51A4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D9C-F24A-4348-9DAA-F8E83285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CFF-F728-4A23-8847-F5F9309F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198-A301-4887-9C9C-DFB0508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14A-1FFD-40B8-AF69-2BAA2EEB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F63D-ECF0-41DF-8C43-D9A932AAABE0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24D5-2214-4428-B78D-94EEE39FFF0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990720" y="6629400"/>
            <a:ext cx="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70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3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C24E-4A3D-48F1-9D52-D38A28E796D6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050E-870B-4113-9CC6-5E22786F7CD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ustom JSP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Arial"/>
              </a:rPr>
              <a:t>™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Ta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cott Stanchfie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ftware &amp; Systems Engine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GM, In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Copyright © 2002, Scott Stanchfield. All Rights Reserve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ke No Offense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grammers write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at’s why we hire them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ent writers write cont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at’s why we hire them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fferent skill se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oth are necessa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2BD-A678-45FD-AB27-9D740AD2FC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A2D82-4492-4B4B-864E-52AB62F6EE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stom Tags Seal the 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grammer writes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usiness logi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ata logi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ustom tag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ent writer writes J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t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s custom tags to talk with co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17B-7F8B-4257-9CBD-4C51F67C32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02985-5D50-48EF-90FB-86F8E50AEB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stom Tags Bridge the G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ustom tags are xml tag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y for content writ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n be validated for correctn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g handlers execute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ritten as Java class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municate with business &amp; data logi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ides implementation detai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135-0F18-4013-A715-C7C8B9ED82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AC5E4-438A-4F56-90C8-AC3C790118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y “NO” To Scriptlets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criptlets are EVI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ol, but EVI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ixing code and cont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quires two people to maintain J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tent writ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gramm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quires coordin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ither person could make a mistak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939-2F4D-41F5-9FA3-FD810DCE2F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8EE18-B033-493C-A0FD-BFAA457B11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ttom 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t your programmers program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t your writers write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eep their source separate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E61-5420-42CC-97DC-BF931E8B41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1989D-9F45-4333-90FE-DA3D8CAF45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a Custom Tag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tends generation capabilities of J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s an XML tag with a handl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utomatically translated to handler cal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suppor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mple substitution (macro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er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ata Acc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cop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5B0-6399-44FD-9704-7DC0222C24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D780E-BF63-4FA2-B3BA-011F3B16BD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ing Custom Ta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s is the programmer’s job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fine tags in Tag Library Descriptor (TLD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reate handler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cument tags for content writers’ u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DCE-798C-455A-8E80-31182CAD2A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053AD-2E55-402D-8D0D-EC18CE20C3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ing Custom Ta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s is the content writer’s job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clare which tag libraries you need in J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mbed tags like any other XML tag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Do not use scriptlets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555-48E0-4B06-BB7C-F032541AAA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43CA2-B1DA-4ACE-9E62-A8F3B9497C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Custom Ta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mpty tags have no bo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crunchyFrog&gt;&lt;/crunchyFrog&gt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crunchyFrog/&gt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rol tags tell page to use/skip bo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if condition=“x==4”&gt;</a:t>
            </a:r>
            <a:br>
              <a:rPr sz="2200"/>
            </a:b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!– some body --&gt;</a:t>
            </a:r>
            <a:br>
              <a:rPr sz="2200"/>
            </a:b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/if&gt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terator tags tell page to repeat bod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forEachPerson name=“x”&gt;</a:t>
            </a:r>
            <a:br>
              <a:rPr sz="2200"/>
            </a:b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!– some body --&gt;</a:t>
            </a:r>
            <a:br>
              <a:rPr sz="2200"/>
            </a:b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/forEachPerson&gt;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3F5-FB0E-496F-8DA1-481EBFA79C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743A1-4D8C-4338-8887-AE691DF1AA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gs With No Body Knowled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me tags don’t care what is inside th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mple tag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erator Tag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se tags can tell pa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examine bod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skip bod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loop over bod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7AB-BD27-4E3E-B9C5-CA6D1021D8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1FAB8-CA44-4F36-A350-E07B220474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sentation Goal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952880"/>
            <a:ext cx="6934320" cy="304920"/>
          </a:xfrm>
          <a:custGeom>
            <a:avLst/>
            <a:gdLst/>
            <a:ahLst/>
            <a:rect l="l" t="t" r="r" b="b"/>
            <a:pathLst>
              <a:path w="3840" h="96">
                <a:moveTo>
                  <a:pt x="0" y="0"/>
                </a:moveTo>
                <a:lnTo>
                  <a:pt x="0" y="96"/>
                </a:lnTo>
                <a:lnTo>
                  <a:pt x="3840" y="96"/>
                </a:lnTo>
                <a:lnTo>
                  <a:pt x="384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84920"/>
            <a:ext cx="6934320" cy="304920"/>
          </a:xfrm>
          <a:custGeom>
            <a:avLst/>
            <a:gdLst/>
            <a:ahLst/>
            <a:rect l="l" t="t" r="r" b="b"/>
            <a:pathLst>
              <a:path w="3840" h="96">
                <a:moveTo>
                  <a:pt x="0" y="0"/>
                </a:moveTo>
                <a:lnTo>
                  <a:pt x="0" y="96"/>
                </a:lnTo>
                <a:lnTo>
                  <a:pt x="3840" y="96"/>
                </a:lnTo>
                <a:lnTo>
                  <a:pt x="384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286000"/>
            <a:ext cx="6858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2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"/>
              </a:rPr>
              <a:t>Stop writing code in your JSPs!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2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"/>
              </a:rPr>
              <a:t>Separate your concerns with Custom Tags!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302-0915-4BE1-BAAF-E4ABFF0B31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674AB-FEC3-49E3-BE58-8A1D1A126B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g Attribu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ustom tags can have attributes</a:t>
            </a:r>
            <a:br>
              <a:rPr sz="3200"/>
            </a:br>
            <a:br>
              <a:rPr sz="26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&lt;header name=“Scott”&gt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g handler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have set methods for attributes per JavaBean spec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ublic void setName(String n) {…}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SP creates tag handler, sets attribut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75C-DF89-4434-9537-0CD15573C9E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B6C2B-F424-4862-A8EF-D13677542A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Tag Life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600200"/>
            <a:ext cx="914400" cy="457200"/>
          </a:xfrm>
          <a:prstGeom prst="rect">
            <a:avLst/>
          </a:prstGeom>
          <a:solidFill>
            <a:srgbClr val="9595ff"/>
          </a:solidFill>
          <a:ln w="19080">
            <a:solidFill>
              <a:srgbClr val="898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JSP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23760" y="2035080"/>
            <a:ext cx="5134320" cy="567000"/>
            <a:chOff x="923760" y="2035080"/>
            <a:chExt cx="5134320" cy="567000"/>
          </a:xfrm>
        </p:grpSpPr>
        <p:sp>
          <p:nvSpPr>
            <p:cNvPr id="182" name=""/>
            <p:cNvSpPr/>
            <p:nvPr/>
          </p:nvSpPr>
          <p:spPr>
            <a:xfrm>
              <a:off x="4152960" y="2144880"/>
              <a:ext cx="1905120" cy="4572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Arial"/>
                </a:rPr>
                <a:t>Tag Handler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3480" y="203508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Create tag handler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84" name=""/>
            <p:cNvCxnSpPr>
              <a:stCxn id="185" idx="3"/>
              <a:endCxn id="182" idx="1"/>
            </p:cNvCxnSpPr>
            <p:nvPr/>
          </p:nvCxnSpPr>
          <p:spPr>
            <a:xfrm>
              <a:off x="1219320" y="2373120"/>
              <a:ext cx="292464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923760" y="22208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0" idx="2"/>
              <a:endCxn id="185" idx="0"/>
            </p:cNvCxnSpPr>
            <p:nvPr/>
          </p:nvCxnSpPr>
          <p:spPr>
            <a:xfrm>
              <a:off x="1066320" y="2066760"/>
              <a:ext cx="1080" cy="14544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187" name=""/>
          <p:cNvGrpSpPr/>
          <p:nvPr/>
        </p:nvGrpSpPr>
        <p:grpSpPr>
          <a:xfrm>
            <a:off x="923760" y="2535120"/>
            <a:ext cx="4324680" cy="600120"/>
            <a:chOff x="923760" y="2535120"/>
            <a:chExt cx="4324680" cy="600120"/>
          </a:xfrm>
        </p:grpSpPr>
        <p:sp>
          <p:nvSpPr>
            <p:cNvPr id="188" name=""/>
            <p:cNvSpPr/>
            <p:nvPr/>
          </p:nvSpPr>
          <p:spPr>
            <a:xfrm>
              <a:off x="1293120" y="2633760"/>
              <a:ext cx="21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setPageContext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90" idx="3"/>
              <a:endCxn id="191" idx="1"/>
            </p:cNvCxnSpPr>
            <p:nvPr/>
          </p:nvCxnSpPr>
          <p:spPr>
            <a:xfrm>
              <a:off x="1218960" y="29826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190" name=""/>
            <p:cNvSpPr/>
            <p:nvPr/>
          </p:nvSpPr>
          <p:spPr>
            <a:xfrm>
              <a:off x="923760" y="28306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62600" y="28306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85" idx="2"/>
              <a:endCxn id="190" idx="0"/>
            </p:cNvCxnSpPr>
            <p:nvPr/>
          </p:nvCxnSpPr>
          <p:spPr>
            <a:xfrm>
              <a:off x="1066320" y="2535120"/>
              <a:ext cx="1080" cy="286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193" name=""/>
            <p:cNvCxnSpPr>
              <a:stCxn id="182" idx="2"/>
              <a:endCxn id="191" idx="0"/>
            </p:cNvCxnSpPr>
            <p:nvPr/>
          </p:nvCxnSpPr>
          <p:spPr>
            <a:xfrm>
              <a:off x="5105160" y="2611440"/>
              <a:ext cx="1080" cy="21024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194" name=""/>
          <p:cNvGrpSpPr/>
          <p:nvPr/>
        </p:nvGrpSpPr>
        <p:grpSpPr>
          <a:xfrm>
            <a:off x="923760" y="3090960"/>
            <a:ext cx="4324680" cy="501480"/>
            <a:chOff x="923760" y="3090960"/>
            <a:chExt cx="4324680" cy="501480"/>
          </a:xfrm>
        </p:grpSpPr>
        <p:sp>
          <p:nvSpPr>
            <p:cNvPr id="195" name=""/>
            <p:cNvSpPr/>
            <p:nvPr/>
          </p:nvSpPr>
          <p:spPr>
            <a:xfrm>
              <a:off x="1294200" y="309096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setParent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>
              <a:stCxn id="197" idx="3"/>
              <a:endCxn id="198" idx="1"/>
            </p:cNvCxnSpPr>
            <p:nvPr/>
          </p:nvCxnSpPr>
          <p:spPr>
            <a:xfrm>
              <a:off x="1218960" y="34398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197" name=""/>
            <p:cNvSpPr/>
            <p:nvPr/>
          </p:nvSpPr>
          <p:spPr>
            <a:xfrm>
              <a:off x="923760" y="32878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62600" y="32878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>
              <a:stCxn id="190" idx="2"/>
              <a:endCxn id="197" idx="0"/>
            </p:cNvCxnSpPr>
            <p:nvPr/>
          </p:nvCxnSpPr>
          <p:spPr>
            <a:xfrm>
              <a:off x="1066320" y="31449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00" name=""/>
            <p:cNvCxnSpPr>
              <a:stCxn id="191" idx="2"/>
              <a:endCxn id="198" idx="0"/>
            </p:cNvCxnSpPr>
            <p:nvPr/>
          </p:nvCxnSpPr>
          <p:spPr>
            <a:xfrm>
              <a:off x="5105160" y="31449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923760" y="3581280"/>
            <a:ext cx="4324680" cy="468360"/>
            <a:chOff x="923760" y="3581280"/>
            <a:chExt cx="4324680" cy="468360"/>
          </a:xfrm>
        </p:grpSpPr>
        <p:sp>
          <p:nvSpPr>
            <p:cNvPr id="202" name=""/>
            <p:cNvSpPr/>
            <p:nvPr/>
          </p:nvSpPr>
          <p:spPr>
            <a:xfrm>
              <a:off x="1292760" y="3581280"/>
              <a:ext cx="293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Set attributes (setXXX()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4" idx="3"/>
              <a:endCxn id="205" idx="1"/>
            </p:cNvCxnSpPr>
            <p:nvPr/>
          </p:nvCxnSpPr>
          <p:spPr>
            <a:xfrm>
              <a:off x="1218960" y="38970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204" name=""/>
            <p:cNvSpPr/>
            <p:nvPr/>
          </p:nvSpPr>
          <p:spPr>
            <a:xfrm>
              <a:off x="923760" y="37450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62600" y="37450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197" idx="2"/>
              <a:endCxn id="204" idx="0"/>
            </p:cNvCxnSpPr>
            <p:nvPr/>
          </p:nvCxnSpPr>
          <p:spPr>
            <a:xfrm>
              <a:off x="1066320" y="36021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07" name=""/>
            <p:cNvCxnSpPr>
              <a:stCxn id="198" idx="2"/>
              <a:endCxn id="205" idx="0"/>
            </p:cNvCxnSpPr>
            <p:nvPr/>
          </p:nvCxnSpPr>
          <p:spPr>
            <a:xfrm>
              <a:off x="5105160" y="36021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923760" y="4016520"/>
            <a:ext cx="7292520" cy="795240"/>
            <a:chOff x="923760" y="4016520"/>
            <a:chExt cx="7292520" cy="795240"/>
          </a:xfrm>
        </p:grpSpPr>
        <p:sp>
          <p:nvSpPr>
            <p:cNvPr id="209" name=""/>
            <p:cNvSpPr/>
            <p:nvPr/>
          </p:nvSpPr>
          <p:spPr>
            <a:xfrm>
              <a:off x="1294200" y="40165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doStartTag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11" idx="3"/>
              <a:endCxn id="212" idx="1"/>
            </p:cNvCxnSpPr>
            <p:nvPr/>
          </p:nvCxnSpPr>
          <p:spPr>
            <a:xfrm>
              <a:off x="1218960" y="43542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1982520" y="430992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EVAL_BODY_INCLUD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5" idx="3"/>
              <a:endCxn id="216" idx="1"/>
            </p:cNvCxnSpPr>
            <p:nvPr/>
          </p:nvCxnSpPr>
          <p:spPr>
            <a:xfrm>
              <a:off x="1218960" y="465912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head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923760" y="42022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62600" y="42022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23760" y="45068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62600" y="45068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62000" y="4309920"/>
              <a:ext cx="265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or return SKIP_BOD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>
              <a:stCxn id="204" idx="2"/>
              <a:endCxn id="211" idx="0"/>
            </p:cNvCxnSpPr>
            <p:nvPr/>
          </p:nvCxnSpPr>
          <p:spPr>
            <a:xfrm>
              <a:off x="1066320" y="40593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19" name=""/>
            <p:cNvCxnSpPr>
              <a:stCxn id="205" idx="2"/>
              <a:endCxn id="212" idx="0"/>
            </p:cNvCxnSpPr>
            <p:nvPr/>
          </p:nvCxnSpPr>
          <p:spPr>
            <a:xfrm>
              <a:off x="5105160" y="40593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220" name=""/>
          <p:cNvGrpSpPr/>
          <p:nvPr/>
        </p:nvGrpSpPr>
        <p:grpSpPr>
          <a:xfrm>
            <a:off x="923760" y="4767120"/>
            <a:ext cx="7277760" cy="806760"/>
            <a:chOff x="923760" y="4767120"/>
            <a:chExt cx="7277760" cy="806760"/>
          </a:xfrm>
        </p:grpSpPr>
        <p:sp>
          <p:nvSpPr>
            <p:cNvPr id="221" name=""/>
            <p:cNvSpPr/>
            <p:nvPr/>
          </p:nvSpPr>
          <p:spPr>
            <a:xfrm>
              <a:off x="1294920" y="476712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doEndTag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23" idx="3"/>
              <a:endCxn id="224" idx="1"/>
            </p:cNvCxnSpPr>
            <p:nvPr/>
          </p:nvCxnSpPr>
          <p:spPr>
            <a:xfrm>
              <a:off x="1218960" y="511632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225" name=""/>
            <p:cNvSpPr/>
            <p:nvPr/>
          </p:nvSpPr>
          <p:spPr>
            <a:xfrm>
              <a:off x="3202920" y="5064120"/>
              <a:ext cx="167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EVAL_P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3"/>
              <a:endCxn id="228" idx="1"/>
            </p:cNvCxnSpPr>
            <p:nvPr/>
          </p:nvCxnSpPr>
          <p:spPr>
            <a:xfrm>
              <a:off x="1218960" y="542088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head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923760" y="49640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62600" y="49640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3760" y="526896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2600" y="526896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2720" y="5064120"/>
              <a:ext cx="263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or return SKIP_P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215" idx="2"/>
              <a:endCxn id="223" idx="0"/>
            </p:cNvCxnSpPr>
            <p:nvPr/>
          </p:nvCxnSpPr>
          <p:spPr>
            <a:xfrm>
              <a:off x="1066320" y="4820760"/>
              <a:ext cx="1080" cy="1342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31" name=""/>
            <p:cNvCxnSpPr>
              <a:stCxn id="216" idx="2"/>
              <a:endCxn id="224" idx="0"/>
            </p:cNvCxnSpPr>
            <p:nvPr/>
          </p:nvCxnSpPr>
          <p:spPr>
            <a:xfrm>
              <a:off x="5105160" y="4820760"/>
              <a:ext cx="1080" cy="1342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232" name=""/>
          <p:cNvGrpSpPr/>
          <p:nvPr/>
        </p:nvGrpSpPr>
        <p:grpSpPr>
          <a:xfrm>
            <a:off x="923760" y="5583240"/>
            <a:ext cx="4324680" cy="893880"/>
            <a:chOff x="923760" y="5583240"/>
            <a:chExt cx="4324680" cy="893880"/>
          </a:xfrm>
        </p:grpSpPr>
        <p:sp>
          <p:nvSpPr>
            <p:cNvPr id="233" name=""/>
            <p:cNvSpPr/>
            <p:nvPr/>
          </p:nvSpPr>
          <p:spPr>
            <a:xfrm>
              <a:off x="1294200" y="562932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release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34" name=""/>
            <p:cNvCxnSpPr>
              <a:stCxn id="235" idx="3"/>
              <a:endCxn id="236" idx="1"/>
            </p:cNvCxnSpPr>
            <p:nvPr/>
          </p:nvCxnSpPr>
          <p:spPr>
            <a:xfrm>
              <a:off x="1218960" y="597816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235" name=""/>
            <p:cNvSpPr/>
            <p:nvPr/>
          </p:nvSpPr>
          <p:spPr>
            <a:xfrm>
              <a:off x="923760" y="582624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62600" y="582624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27" idx="2"/>
              <a:endCxn id="235" idx="0"/>
            </p:cNvCxnSpPr>
            <p:nvPr/>
          </p:nvCxnSpPr>
          <p:spPr>
            <a:xfrm>
              <a:off x="1066320" y="5583240"/>
              <a:ext cx="1080" cy="23400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38" name=""/>
            <p:cNvCxnSpPr>
              <a:stCxn id="228" idx="2"/>
              <a:endCxn id="236" idx="0"/>
            </p:cNvCxnSpPr>
            <p:nvPr/>
          </p:nvCxnSpPr>
          <p:spPr>
            <a:xfrm>
              <a:off x="5105160" y="5583240"/>
              <a:ext cx="1080" cy="23400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39" name=""/>
            <p:cNvCxnSpPr>
              <a:stCxn id="235" idx="2"/>
            </p:cNvCxnSpPr>
            <p:nvPr/>
          </p:nvCxnSpPr>
          <p:spPr>
            <a:xfrm>
              <a:off x="1066320" y="6140160"/>
              <a:ext cx="1080" cy="33732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C10-B3CD-4EBD-B0F6-D048420013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D2FB9-D27B-4D7A-933C-0897C73A2F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Tag Pseudo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// in JSP sourc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&lt;myTag name=“Scott” /&gt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// in generated servlet…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andler h = new MyTagHandler(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.setPageContext(pageContext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.setParent(someTagHandler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.setName(“Scott”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f (h.doStartTag() == EVAL_BODY_INCLUDE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process body conten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.release(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f (h.doEndTag() == SKIP_PAGE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abort rest of page pro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95E-97A1-4D44-9B6F-9E6C9910A69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0C9A3-5FFA-4AC9-A652-18B14FEA09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Tag Metho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tPageContext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SP passes its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pageContex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o the ta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tParent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SP tells which tag contains this o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etParent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g handler can access the parent ta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The “parent” is the closest containing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Tag Handl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15A-5FF2-4148-92D4-B503741325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A8A20-A503-4B45-AE5C-9FD327711C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Tag Metho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360" y="28951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oStartTag(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JSP tells handler it’s processing the start ta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oEndTag(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JSP tells handler it’s processing the end ta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lease(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JSP is done with the handler (cleanup time!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949400"/>
            <a:ext cx="77724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33ca0"/>
                </a:solidFill>
                <a:latin typeface="Arial"/>
              </a:rPr>
              <a:t>The following are called after the page context and parent have been set…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900-41DD-4248-B77A-68738B2065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2B155-5CC9-4A13-96DC-D81F540E33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oStartTag() Return Val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VAL_BODY_INCLU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lls JSP to process the contents between the handler’s start &amp; end tag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KIP_BO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lls JSP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o process the contents. All content up until the end tag is ignored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28D-44F5-47C6-B88E-68B1B34317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844EF-E771-4675-A669-13CC2773C0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oEndTag() Return Val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VAL_PA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Keep processing rest of p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KIP_PA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o not process the rest of this page reque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316-2878-4022-B3C8-3E5DF9AD42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5661C-7C52-4A7D-BE5B-FF0C71FDE9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Replacemen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pose we wa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&lt;header/&gt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be replaced with some nice header tex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B32-8DE3-45C9-8C57-80FAECBD25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758D0-BB01-4F52-9DAB-73A586EE5D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Header Tag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sam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x.servlet.jsp.JspException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x.servlet.jsp.PageContex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x.servlet.jsp.tagext.Tag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SimpleHeader1Tag implements Ta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rivate Tag pare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rivate PageContext contex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ublic void release() {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884-F62A-44FF-9476-C12207D6EB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B3CAC-58F2-4172-8CCF-CF5D3ED8EF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Header Tag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PageContext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PageContext context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his.context = contex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ublic void setParent(Tag parent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his.parent = pare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ublic Tag getParen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return pare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57D-614C-4017-AED8-E6CD2DCEDF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6ED23-A45A-4432-8075-05C7652C3D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fter I’m done blabbing, you might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derstand page content vs. page gener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e able to create custom tags th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mplify your pag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ide code from content write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llow content writers and programmers to work independent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093-7D81-4E00-BABE-DA15CC8573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61AD7-AF19-4E28-B3A9-737E0823F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Header Tag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doStart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ry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ontext.getOut().println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"&lt;h1&gt;A Sample Header&lt;/h1&gt;"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atch (Exception e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throw new JspException(e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return EVAL_BODY_INCLUD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ublic int doEnd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return EVAL_PAG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28F-2CAC-4512-A6F2-8DBA24D0F6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497A8-67D9-4354-A054-6EE7E21523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Header T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StartTag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int the header text to the current strea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turn EVAL_BODY_INCLU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cess body if there is on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EndTag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turn EVAL_P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eep processing rest of pa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073-7FB4-426C-AA65-1FAD27D5D2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5DF94-6FEF-4198-BA9A-95C01AEDA4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Tag Library Descrip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?xml version="1.0" encoding="ISO-8859-1" ?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!DOCTYPE taglib PUBLIC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"-//Sun Microsystems, Inc.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//DTD JSP Tag Library 1.2//EN“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"http://java.sun.com/j2ee/dtd/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web-jsptaglibrary_1_2.dtd"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taglib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tlib-version&gt;1.0&lt;/tlib-versi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jsp-version&gt;1.2&lt;/jsp-versi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short-name&gt;mytags&lt;/short-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uri&gt;http://javadude.com/jsp/my-taglib&lt;/uri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description&gt;A sample taglib&lt;/description&gt;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CED-3658-4DEE-976E-A96A2EEF84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81921-AA81-47F6-9E17-67D5523751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Tag Library Descrip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tag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header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/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tag-class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sample.SimpleHeader1Tag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/tag-class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body-content&gt;JSP&lt;/body-content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descripti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Create a simple header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/descripti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/tag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aglib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9DF-6B99-43AE-9C87-0A2CA4335C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4BC40-0974-46E9-A187-991EA1DD6C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ing the Simple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%@ taglib uri="WEB-INF/jsp/my-taglib.tld“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prefix="my" %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head&gt;. . .&lt;/hea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body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my:header/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p&gt;My id is 123&lt;/p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505320" y="3809880"/>
            <a:ext cx="346716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E7D-E566-4E58-ADD6-0688AC29204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ECE58-0811-47E8-B59E-80672ECE0D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Web Application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tomcat/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webapps/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ample/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  test.jsp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WEB-INF/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    my-taglib.tld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lasses/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      SimpleHeader1Tag.clas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8B8-1870-459B-8024-1C06769B3E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A2BD8-112C-4DDF-88B9-171DC73E4A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Header With a Na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pose we wa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&lt;header name=“Scott”/&gt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be replaced with some nice header tex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9FC-D2A9-43C7-9E48-44A2015B83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31341-B978-42DF-A6CE-40F5649CEC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ed Header Tag Clas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ackage sam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JspExcep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PageContex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tagext.Tag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SimpleHeader2Tag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implements Tag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Tag paren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PageContext contex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private String name; // An attribute!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F24-3F67-400A-8AD0-D78B8A88083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59C3D-E397-49D6-90BD-901178203D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ed Header Tag Clas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void release() {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void setPageContext(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     PageContext context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his.context = contex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void setParent(Tag parent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his.parent = paren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Tag getParent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paren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public String getName() {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return name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public void setName(String name) {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this.name = name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7B3-E2B6-40D4-A706-08E43B8DAD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99687-B4BE-4769-A197-91784733E6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ed Header Tag Clas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int doStart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ry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context.getOut().println(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"&lt;h1&gt;"+ getName() +"'s Home Page&lt;/h1&gt;"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catch (Exception e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throw new JspException(e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EVAL_BODY_INCLUD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int doEnd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EVAL_PAG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4DC-1470-4A18-8FEA-D78DB7E73C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8E7D3-964A-4890-9344-1613E98F9A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aker’s Qualific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ava Guru with 500 years of Java experie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ols recruiters easil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ught Java for four yea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poken at JavaOne for four yea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OFs and Technical Presenta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nages Swing and AWT FAQs at http://www.jGuru.co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ad author of</a:t>
            </a:r>
            <a:br>
              <a:rPr sz="2800"/>
            </a:b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Effective VisualAge for Java, Version 3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D92-131B-48DC-8A5B-9594F27219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66C1C-2F0B-480C-8D29-8A4A0F5A90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ed Header Descrip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tag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name&gt;header&lt;/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tag-class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sample.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SimpleHeader2Tag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ag-class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body-content&gt;JSP&lt;/body-content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descripti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A simple header with a name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description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&lt;attribute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&lt;name&gt;name&lt;/name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&lt;required&gt;true&lt;/required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&lt;rtexprvalue&gt;true&lt;/rtexprvalue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&lt;/attribut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/tag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644-F99F-4C64-952D-D71D065A13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CAD94-CD52-41BB-A738-402B489209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ing the Named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%@ taglib uri="WEB-INF/jsp/my-taglib.tld“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prefix="my" %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head&gt;. . .&lt;/hea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body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my:header name=“Scott”/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p&gt;My id is 123&lt;/p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143160" y="3809880"/>
            <a:ext cx="346716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016-1BC4-47BA-9EDC-FC9DCF1AF2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029FD-CCBE-47A8-943D-449D866A07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Conditional T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ustom tags can be used for conditions</a:t>
            </a:r>
            <a:br>
              <a:rPr sz="3200"/>
            </a:br>
            <a:br>
              <a:rPr sz="3200"/>
            </a:br>
            <a:r>
              <a:rPr b="1" lang="en-US" sz="2600" spc="-1" strike="noStrike">
                <a:solidFill>
                  <a:srgbClr val="545472"/>
                </a:solidFill>
                <a:latin typeface="Courier New"/>
              </a:rPr>
              <a:t>&lt;my:if condition=“x”&gt;</a:t>
            </a:r>
            <a:br>
              <a:rPr sz="2600"/>
            </a:br>
            <a:r>
              <a:rPr b="1" lang="en-US" sz="2600" spc="-1" strike="noStrike">
                <a:solidFill>
                  <a:srgbClr val="545472"/>
                </a:solidFill>
                <a:latin typeface="Courier New"/>
              </a:rPr>
              <a:t>  &lt;!-- some body content --&gt;</a:t>
            </a:r>
            <a:br>
              <a:rPr sz="2600"/>
            </a:br>
            <a:r>
              <a:rPr b="1" lang="en-US" sz="2600" spc="-1" strike="noStrike">
                <a:solidFill>
                  <a:srgbClr val="545472"/>
                </a:solidFill>
                <a:latin typeface="Courier New"/>
              </a:rPr>
              <a:t>&lt;/my:if&gt;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condition is an attribu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You can control inclusion of the bo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243-A4D0-4A75-AE76-300F4B58634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2F285-A0AF-4194-947A-85AC1484A4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tional Tag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ackage sam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JspExcep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tagext.TagSuppor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class MyIfTag extends TagSupport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String condi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int doStart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if (“true”.equals(condition)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// should add error checks!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return EVAL_BODY_INCLUD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else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return SKIP_BODY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8AA-C57F-43EC-ABB5-D130D03596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B6D7C-BEC9-410E-9028-B0090E8B8A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tional Tag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String getCondition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condi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void setCondition(String condition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his.condition = condi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FE7-D51E-4F85-A4DD-1DAAB05EF0F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76E8E-4F50-41A3-8A13-9F16D92D40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Conditional Tag U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%@ taglib uri="WEB-INF/jsp/my-taglib.tld" prefix="my" %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body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my:headerWithName name="Scott"/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my:if condition=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'&lt;%= request.getParameter("showName") %&gt;'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p&gt;My name is Mikey!&lt;/p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/my:if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p&gt;My id is 123&lt;/p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7A7-3A8C-490F-80F5-1CDC8D7E7C4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D2002-7C70-45E7-89D1-275A3B4072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Conditional Tag U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876920" y="3600360"/>
            <a:ext cx="3876480" cy="25718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838080" y="2076480"/>
            <a:ext cx="387684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EFB-56FC-46DF-AC2E-5506E5CF577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3F08C-272A-4D65-B9BB-D47BB90F1D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Life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600200"/>
            <a:ext cx="914400" cy="457200"/>
          </a:xfrm>
          <a:prstGeom prst="rect">
            <a:avLst/>
          </a:prstGeom>
          <a:solidFill>
            <a:srgbClr val="9595ff"/>
          </a:solidFill>
          <a:ln w="19080">
            <a:solidFill>
              <a:srgbClr val="898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JSP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23760" y="2035080"/>
            <a:ext cx="5134320" cy="567000"/>
            <a:chOff x="923760" y="2035080"/>
            <a:chExt cx="5134320" cy="567000"/>
          </a:xfrm>
        </p:grpSpPr>
        <p:sp>
          <p:nvSpPr>
            <p:cNvPr id="297" name=""/>
            <p:cNvSpPr/>
            <p:nvPr/>
          </p:nvSpPr>
          <p:spPr>
            <a:xfrm>
              <a:off x="4152960" y="2144880"/>
              <a:ext cx="1905120" cy="4572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Arial"/>
                </a:rPr>
                <a:t>Tag Handler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3480" y="203508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Create tag handler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300" idx="3"/>
              <a:endCxn id="297" idx="1"/>
            </p:cNvCxnSpPr>
            <p:nvPr/>
          </p:nvCxnSpPr>
          <p:spPr>
            <a:xfrm>
              <a:off x="1219320" y="2373120"/>
              <a:ext cx="292464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00" name=""/>
            <p:cNvSpPr/>
            <p:nvPr/>
          </p:nvSpPr>
          <p:spPr>
            <a:xfrm>
              <a:off x="923760" y="22208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295" idx="2"/>
              <a:endCxn id="300" idx="0"/>
            </p:cNvCxnSpPr>
            <p:nvPr/>
          </p:nvCxnSpPr>
          <p:spPr>
            <a:xfrm>
              <a:off x="1066320" y="2066760"/>
              <a:ext cx="1080" cy="14544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302" name=""/>
          <p:cNvGrpSpPr/>
          <p:nvPr/>
        </p:nvGrpSpPr>
        <p:grpSpPr>
          <a:xfrm>
            <a:off x="923760" y="2535120"/>
            <a:ext cx="4324680" cy="600120"/>
            <a:chOff x="923760" y="2535120"/>
            <a:chExt cx="4324680" cy="600120"/>
          </a:xfrm>
        </p:grpSpPr>
        <p:sp>
          <p:nvSpPr>
            <p:cNvPr id="303" name=""/>
            <p:cNvSpPr/>
            <p:nvPr/>
          </p:nvSpPr>
          <p:spPr>
            <a:xfrm>
              <a:off x="1291680" y="2633760"/>
              <a:ext cx="35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Set Context, Parent, attributes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04" name=""/>
            <p:cNvCxnSpPr>
              <a:stCxn id="305" idx="3"/>
              <a:endCxn id="306" idx="1"/>
            </p:cNvCxnSpPr>
            <p:nvPr/>
          </p:nvCxnSpPr>
          <p:spPr>
            <a:xfrm>
              <a:off x="1218960" y="29826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05" name=""/>
            <p:cNvSpPr/>
            <p:nvPr/>
          </p:nvSpPr>
          <p:spPr>
            <a:xfrm>
              <a:off x="923760" y="28306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62600" y="28306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07" name=""/>
            <p:cNvCxnSpPr>
              <a:stCxn id="300" idx="2"/>
              <a:endCxn id="305" idx="0"/>
            </p:cNvCxnSpPr>
            <p:nvPr/>
          </p:nvCxnSpPr>
          <p:spPr>
            <a:xfrm>
              <a:off x="1066320" y="2535120"/>
              <a:ext cx="1080" cy="286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08" name=""/>
            <p:cNvCxnSpPr>
              <a:stCxn id="297" idx="2"/>
              <a:endCxn id="306" idx="0"/>
            </p:cNvCxnSpPr>
            <p:nvPr/>
          </p:nvCxnSpPr>
          <p:spPr>
            <a:xfrm>
              <a:off x="5105160" y="2611440"/>
              <a:ext cx="1080" cy="21024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309" name=""/>
          <p:cNvGrpSpPr/>
          <p:nvPr/>
        </p:nvGrpSpPr>
        <p:grpSpPr>
          <a:xfrm>
            <a:off x="923760" y="3132000"/>
            <a:ext cx="7292520" cy="795600"/>
            <a:chOff x="923760" y="3132000"/>
            <a:chExt cx="7292520" cy="795600"/>
          </a:xfrm>
        </p:grpSpPr>
        <p:sp>
          <p:nvSpPr>
            <p:cNvPr id="310" name=""/>
            <p:cNvSpPr/>
            <p:nvPr/>
          </p:nvSpPr>
          <p:spPr>
            <a:xfrm>
              <a:off x="1294200" y="313200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doStartTag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11" name=""/>
            <p:cNvCxnSpPr>
              <a:stCxn id="312" idx="3"/>
              <a:endCxn id="313" idx="1"/>
            </p:cNvCxnSpPr>
            <p:nvPr/>
          </p:nvCxnSpPr>
          <p:spPr>
            <a:xfrm>
              <a:off x="1218960" y="347004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14" name=""/>
            <p:cNvSpPr/>
            <p:nvPr/>
          </p:nvSpPr>
          <p:spPr>
            <a:xfrm>
              <a:off x="1998360" y="34257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EVAL_BODY_INCLUD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15" name=""/>
            <p:cNvCxnSpPr>
              <a:stCxn id="316" idx="3"/>
              <a:endCxn id="317" idx="1"/>
            </p:cNvCxnSpPr>
            <p:nvPr/>
          </p:nvCxnSpPr>
          <p:spPr>
            <a:xfrm>
              <a:off x="1218960" y="37746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headEnd len="med" type="triangle" w="med"/>
            </a:ln>
          </p:spPr>
        </p:cxnSp>
        <p:sp>
          <p:nvSpPr>
            <p:cNvPr id="312" name=""/>
            <p:cNvSpPr/>
            <p:nvPr/>
          </p:nvSpPr>
          <p:spPr>
            <a:xfrm>
              <a:off x="923760" y="331776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2600" y="331776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23760" y="362268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62600" y="362268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62000" y="3425760"/>
              <a:ext cx="265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or return SKIP_BOD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05" idx="2"/>
              <a:endCxn id="312" idx="0"/>
            </p:cNvCxnSpPr>
            <p:nvPr/>
          </p:nvCxnSpPr>
          <p:spPr>
            <a:xfrm>
              <a:off x="1066320" y="3144960"/>
              <a:ext cx="1080" cy="1641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20" name=""/>
            <p:cNvCxnSpPr>
              <a:stCxn id="306" idx="2"/>
              <a:endCxn id="313" idx="0"/>
            </p:cNvCxnSpPr>
            <p:nvPr/>
          </p:nvCxnSpPr>
          <p:spPr>
            <a:xfrm>
              <a:off x="5105160" y="3144960"/>
              <a:ext cx="1080" cy="1641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321" name=""/>
          <p:cNvGrpSpPr/>
          <p:nvPr/>
        </p:nvGrpSpPr>
        <p:grpSpPr>
          <a:xfrm>
            <a:off x="923760" y="5114880"/>
            <a:ext cx="7277760" cy="873000"/>
            <a:chOff x="923760" y="5114880"/>
            <a:chExt cx="7277760" cy="873000"/>
          </a:xfrm>
        </p:grpSpPr>
        <p:sp>
          <p:nvSpPr>
            <p:cNvPr id="322" name=""/>
            <p:cNvSpPr/>
            <p:nvPr/>
          </p:nvSpPr>
          <p:spPr>
            <a:xfrm>
              <a:off x="1294920" y="518148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doEndTag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23" name=""/>
            <p:cNvCxnSpPr>
              <a:stCxn id="324" idx="3"/>
              <a:endCxn id="325" idx="1"/>
            </p:cNvCxnSpPr>
            <p:nvPr/>
          </p:nvCxnSpPr>
          <p:spPr>
            <a:xfrm>
              <a:off x="1218960" y="553032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26" name=""/>
            <p:cNvSpPr/>
            <p:nvPr/>
          </p:nvSpPr>
          <p:spPr>
            <a:xfrm>
              <a:off x="3272760" y="5497560"/>
              <a:ext cx="167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EVAL_P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27" name=""/>
            <p:cNvCxnSpPr>
              <a:stCxn id="328" idx="3"/>
              <a:endCxn id="329" idx="1"/>
            </p:cNvCxnSpPr>
            <p:nvPr/>
          </p:nvCxnSpPr>
          <p:spPr>
            <a:xfrm>
              <a:off x="1218960" y="583524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headEnd len="med" type="triangle" w="med"/>
            </a:ln>
          </p:spPr>
        </p:cxnSp>
        <p:sp>
          <p:nvSpPr>
            <p:cNvPr id="324" name=""/>
            <p:cNvSpPr/>
            <p:nvPr/>
          </p:nvSpPr>
          <p:spPr>
            <a:xfrm>
              <a:off x="923760" y="53784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62600" y="53784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23760" y="568332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62600" y="568332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62720" y="5497560"/>
              <a:ext cx="263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or return SKIP_P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2" idx="2"/>
              <a:endCxn id="324" idx="0"/>
            </p:cNvCxnSpPr>
            <p:nvPr/>
          </p:nvCxnSpPr>
          <p:spPr>
            <a:xfrm>
              <a:off x="1066320" y="5114880"/>
              <a:ext cx="1080" cy="2548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33" name=""/>
            <p:cNvCxnSpPr>
              <a:stCxn id="334" idx="2"/>
              <a:endCxn id="325" idx="0"/>
            </p:cNvCxnSpPr>
            <p:nvPr/>
          </p:nvCxnSpPr>
          <p:spPr>
            <a:xfrm>
              <a:off x="5105160" y="5114880"/>
              <a:ext cx="1080" cy="2548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335" name=""/>
          <p:cNvGrpSpPr/>
          <p:nvPr/>
        </p:nvGrpSpPr>
        <p:grpSpPr>
          <a:xfrm>
            <a:off x="923760" y="5934240"/>
            <a:ext cx="4324680" cy="847440"/>
            <a:chOff x="923760" y="5934240"/>
            <a:chExt cx="4324680" cy="847440"/>
          </a:xfrm>
        </p:grpSpPr>
        <p:sp>
          <p:nvSpPr>
            <p:cNvPr id="336" name=""/>
            <p:cNvSpPr/>
            <p:nvPr/>
          </p:nvSpPr>
          <p:spPr>
            <a:xfrm>
              <a:off x="1294200" y="593424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release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8" idx="3"/>
              <a:endCxn id="339" idx="1"/>
            </p:cNvCxnSpPr>
            <p:nvPr/>
          </p:nvCxnSpPr>
          <p:spPr>
            <a:xfrm>
              <a:off x="1218960" y="628308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38" name=""/>
            <p:cNvSpPr/>
            <p:nvPr/>
          </p:nvSpPr>
          <p:spPr>
            <a:xfrm>
              <a:off x="923760" y="61308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62600" y="61308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40" name=""/>
            <p:cNvCxnSpPr>
              <a:stCxn id="328" idx="2"/>
              <a:endCxn id="338" idx="0"/>
            </p:cNvCxnSpPr>
            <p:nvPr/>
          </p:nvCxnSpPr>
          <p:spPr>
            <a:xfrm>
              <a:off x="1066320" y="5997600"/>
              <a:ext cx="1080" cy="124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41" name=""/>
            <p:cNvCxnSpPr>
              <a:stCxn id="329" idx="2"/>
              <a:endCxn id="339" idx="0"/>
            </p:cNvCxnSpPr>
            <p:nvPr/>
          </p:nvCxnSpPr>
          <p:spPr>
            <a:xfrm>
              <a:off x="5105160" y="5997600"/>
              <a:ext cx="1080" cy="124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42" name=""/>
            <p:cNvCxnSpPr>
              <a:stCxn id="338" idx="2"/>
            </p:cNvCxnSpPr>
            <p:nvPr/>
          </p:nvCxnSpPr>
          <p:spPr>
            <a:xfrm>
              <a:off x="1066320" y="6444720"/>
              <a:ext cx="1080" cy="33732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</p:grpSp>
      <p:grpSp>
        <p:nvGrpSpPr>
          <p:cNvPr id="343" name=""/>
          <p:cNvGrpSpPr/>
          <p:nvPr/>
        </p:nvGrpSpPr>
        <p:grpSpPr>
          <a:xfrm>
            <a:off x="923760" y="3936960"/>
            <a:ext cx="7292520" cy="1168560"/>
            <a:chOff x="923760" y="3936960"/>
            <a:chExt cx="7292520" cy="1168560"/>
          </a:xfrm>
        </p:grpSpPr>
        <p:sp>
          <p:nvSpPr>
            <p:cNvPr id="332" name=""/>
            <p:cNvSpPr/>
            <p:nvPr/>
          </p:nvSpPr>
          <p:spPr>
            <a:xfrm>
              <a:off x="923760" y="48006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62600" y="48006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84480" y="4289400"/>
              <a:ext cx="175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doAfterBody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45" name=""/>
            <p:cNvCxnSpPr>
              <a:stCxn id="346" idx="3"/>
              <a:endCxn id="347" idx="1"/>
            </p:cNvCxnSpPr>
            <p:nvPr/>
          </p:nvCxnSpPr>
          <p:spPr>
            <a:xfrm>
              <a:off x="1218960" y="464796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48" name=""/>
            <p:cNvSpPr/>
            <p:nvPr/>
          </p:nvSpPr>
          <p:spPr>
            <a:xfrm>
              <a:off x="2287800" y="4591080"/>
              <a:ext cx="262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EVAL_BODY_AGAIN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49" name=""/>
            <p:cNvCxnSpPr/>
            <p:nvPr/>
          </p:nvCxnSpPr>
          <p:spPr>
            <a:xfrm>
              <a:off x="1218960" y="495252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headEnd len="med" type="triangle" w="med"/>
            </a:ln>
          </p:spPr>
        </p:cxnSp>
        <p:sp>
          <p:nvSpPr>
            <p:cNvPr id="346" name=""/>
            <p:cNvSpPr/>
            <p:nvPr/>
          </p:nvSpPr>
          <p:spPr>
            <a:xfrm>
              <a:off x="923760" y="449568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62600" y="449568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62000" y="4591080"/>
              <a:ext cx="265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or return SKIP_BOD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51" name=""/>
            <p:cNvCxnSpPr>
              <a:stCxn id="316" idx="2"/>
              <a:endCxn id="346" idx="0"/>
            </p:cNvCxnSpPr>
            <p:nvPr/>
          </p:nvCxnSpPr>
          <p:spPr>
            <a:xfrm>
              <a:off x="1066320" y="3936960"/>
              <a:ext cx="1080" cy="550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52" name=""/>
            <p:cNvCxnSpPr>
              <a:stCxn id="317" idx="2"/>
              <a:endCxn id="347" idx="0"/>
            </p:cNvCxnSpPr>
            <p:nvPr/>
          </p:nvCxnSpPr>
          <p:spPr>
            <a:xfrm>
              <a:off x="5105160" y="3936960"/>
              <a:ext cx="1080" cy="550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sp>
          <p:nvSpPr>
            <p:cNvPr id="353" name=""/>
            <p:cNvSpPr/>
            <p:nvPr/>
          </p:nvSpPr>
          <p:spPr>
            <a:xfrm>
              <a:off x="1290960" y="3962520"/>
              <a:ext cx="38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0066"/>
                  </a:solidFill>
                  <a:latin typeface="Arial"/>
                </a:rPr>
                <a:t>JSP evaluates tag body contents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6E5-1846-41DF-A741-C50FE790BC2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60C14-A589-463E-8AC9-4F52B9EEA4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Pseudo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// in JSP source</a:t>
            </a:r>
            <a:br>
              <a:rPr sz="1800"/>
            </a:b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&lt;myForTag name=“Scott”&gt;. . .&lt;/myForTag&gt;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// in generated servlet…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andler h = new MyTagHandler();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set pageContext, parent, attribute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f (h.doStartTag() == EVAL_BODY_INCLUDE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process body content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while(h.doAfterBody() == EVAL_BODY_AGAIN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process body content again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.release(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f (h.doEndTag() == SKIP_PAGE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abort rest of page pro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5AA-CB95-4F8B-8469-3F5A56ABAF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F6485-8FC2-4283-ABB9-CED740E682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Metho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AfterBody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SP is done processing body</a:t>
            </a:r>
            <a:br>
              <a:rPr sz="2800"/>
            </a:b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for this iter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retur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VAL_BODY_AGAI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ells JSP to re-loop through the bod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KIP_BOD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ells JSP it should stop loop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8E6-2BFF-4C99-97A4-4A91122765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6FB24-F579-4313-BCDB-BA7AF4931B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sentation Agend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y Do We Need Separation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Custom Tag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mple Custom Tag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terator Tag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ment Examp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EF9-4B99-4EF8-A64B-DBA07D542B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E93DD-9735-4670-B439-F5F6283F60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s and Vari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terator tags usually need to set variabl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rmally set in pageContext as attribu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clare variables in T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ariables can be accessed in J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&lt;jsp:getProperty …&gt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&lt;jsp:setProperty …&gt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C76-9C71-4B0F-A431-D3505E24362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3AFD4-A7E3-4D28-A47C-538EF2D843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riable Scop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YI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ariables have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scop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ESTE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nly alive between start/end ta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T_BEGI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live after start tag to end of pa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T_EN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live after end tag to end of pa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9B2-B0D7-42B6-AD6B-170AEE817F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0A5D7-18FB-4AB1-8E2D-60804238BA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Iterator T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pose we want to walk database row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Best to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hide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the database-ness!!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r examp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ol&gt;</a:t>
            </a:r>
            <a:br>
              <a:rPr sz="1800"/>
            </a:br>
            <a:r>
              <a:rPr b="0" lang="en-US" sz="1800" spc="-1" strike="noStrike">
                <a:solidFill>
                  <a:srgbClr val="8888ae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my:forEachPerson name=“person”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li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jsp:getProperty name=“person”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            property=“fullName”/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/li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/my:forEachPers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ol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F3B-54F0-404F-A855-957C3533050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03412-64DF-4BBA-A97D-F7264D33FF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Iterator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ackage sam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JspExcep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tagext.BodyTagSuppor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.util.Iterator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class ForEachPersonTag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extends BodyTagSupport {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// BodyTagSupport handles context/paren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String id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String getId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id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void setId(String id) 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his.id = id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3A2-C123-4249-AAAD-0B1106A39A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252B2-702D-4EAE-9ADD-FB0E7F8EDB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Iterator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private PersonManager personManager = 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               new PersonManager()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// PersonManager grabs People from database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//   and returns them in a List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Iterator peo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int doStart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ry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people = personManager.list().iterator(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catch (Exception e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throw new JspException(e.toString()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if (people.hasNext()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return EVAL_BODY_INCLUD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else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return SKIP_BODY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4A7-1AFB-4BF8-8DFB-460BDF9534C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443DE-3821-49DD-8353-14206811C2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Iterator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int doEnd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EVAL_PAG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void doInitBody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// doStartTag() checked hasNext(). . .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pageContext.setAttribute(getId(),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                  people.next()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int doAfterBody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if (!people.hasNext()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people = null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return SKIP_BODY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else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pageContext.setAttribute(getId(),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                      people.next()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return EVAL_BODY_AGAI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FAC-DC0A-44F8-9894-B707BD1580D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6E46E-F7ED-41EF-A150-0BCA7FF5F4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Simple Person Obj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ackage sam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class Pers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String nam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String phon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String fax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Person(String name, String phone,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     String fax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setName(name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setPhone(phone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setFax(fax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String getName() {…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void setName(String name) {…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. . .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CB6-13B5-402F-9537-8B6F11B40A3A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9F1C4-CB59-486F-BECD-910B26582D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tag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name&gt;forEachPerson&lt;/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tag-class&gt;sample.ForEachPersonTag&lt;/tag-class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body-content&gt;JSP&lt;/body-content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description&gt;Iterate through all People&lt;/description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variable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&lt;name-from-attribute&gt;id&lt;/name-from-attribute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&lt;variable-class&gt;sample.Person&lt;/variable-class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&lt;/variable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attribut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name&gt;id&lt;/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required&gt;true&lt;/require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/attribut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ag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029-D7D6-4BC4-B2FA-3E8AFBF1D78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4A79B-A0D4-4719-95E6-87BBE39D0D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%@ taglib uri="WEB-INF/jsp/people-taglib.tld“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prefix="people" %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body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h1&gt;People in the database&lt;/h1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table border="1"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tr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th&gt;Name&lt;/th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th&gt;Phone&lt;/th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th&gt;Fax&lt;/th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/tr&gt;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D49-2437-4072-BE8B-9DEF0D6EBE4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DF067-251E-454A-BABA-982703D127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people:forEachPerson id="person"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tr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&lt;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jsp:getProperty name="person“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                property="name"/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&lt;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jsp:getProperty name="person“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                property="phone"/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&lt;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jsp:getProperty name="person“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                property="fax"/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/tr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&lt;/people:forEachPers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/tabl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50C-C698-48E6-A875-43E720D2218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A62B9-B8C5-442C-9AE5-555792B008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tes on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l examples in this session assum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rvlet API v2.3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JSP v1.2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l examples were tested using Apache Tomcat 4.0.1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amples will be available 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ttp://javadude.com/articl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e the JavaOne sec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metimes cut/paste messes up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AAC-D88E-4F22-8468-6BF022E7CE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87050-0B2C-41AE-84EF-379099EB65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2624040" y="2181240"/>
            <a:ext cx="3895920" cy="36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12A-055F-44DD-9E50-A315986D060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FFE7C-34B5-4D1B-BA4A-C6D960CB80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Capabil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yCatchFinall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gs implementing this interface are told when problems occur in JSP process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alid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g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g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FF8-F743-43C5-A6C1-083B719648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DE1D4-B2E2-4930-B6C7-8CD95B65D3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yout Managemen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placement can have interesting effec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gs can examine their parents and body tex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following will demonstra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mple replac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naging body tex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ecking parent tag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4E7-3689-4639-8236-3CC0B2FE4F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734E7-2F34-4C06-9E7A-515FF5C9DA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grammers and Content Writ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o different job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ve different skill set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ustom Tags are your friend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viding a bridge between JSP and cod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ustom tags can act a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acro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terato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ditional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E30-E346-4E0B-8736-751C211B903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584F3-C534-48E7-9DA6-80DC1495DF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f You Only Remember One Thing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330280"/>
            <a:ext cx="70102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"/>
              </a:rPr>
              <a:t>Separate! Separate! Separate!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"/>
              </a:rPr>
              <a:t>Custom Tags are easy, and provide that separation!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"/>
              </a:rPr>
              <a:t>(ok… so that’s two things…)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352-5ACA-4713-A04F-F88928757C60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84E7A-6AA6-42F7-97A3-ADD70D13A3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Do We Need Separation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de and Content don’t mix well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grammers write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ent writers write cont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mixed, programmers and content writers colli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52E-518E-4A10-AA17-35BC15FB7C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4FBCE-C424-4304-9A9B-684659B61E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SP is a Good Star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rvlets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looked lik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SP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looks lik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HTML/XM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riendlier to non-programm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n change content w/o programm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t not friendly enoug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n contain code (cause confus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ften requires programmer assista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ABE-9941-4BF9-B750-67063825A5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52A0E-0745-4D75-82E3-F1D6CF7E2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st-Effective Hi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ood programmer/good wri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t many (I’m one…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$$$$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ood programm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$$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ood wri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$$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7F5-153C-4098-9C2F-7B01598AF7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189A2-FC5B-4BEA-93A0-3A78F76E6D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21:02:18Z</dcterms:created>
  <dc:creator>Andrew Penick</dc:creator>
  <dc:description/>
  <dc:language>en-US</dc:language>
  <cp:lastModifiedBy>Scott Stanchfield</cp:lastModifiedBy>
  <dcterms:modified xsi:type="dcterms:W3CDTF">2002-04-08T01:03:18Z</dcterms:modified>
  <cp:revision>336</cp:revision>
  <dc:subject/>
  <dc:title>No Slide Title</dc:title>
</cp:coreProperties>
</file>