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20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79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53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60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161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F85E-8581-41DD-AC5C-66F1CE10A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C3EF-5284-4EB6-92FC-46E0919D3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A57C-71D7-47A9-A1A2-728F83B69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4A45-600E-406B-8478-E24D30D82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2DC2F-116C-4F8B-AC5B-AC904E3F8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7D907-AF08-4137-B353-9A0EC6658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6FA41-F10D-41E9-B89F-83EE22071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168C2-4893-495E-96D5-4FF0222D1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DA9BB-BFCA-4561-90F8-CE8BA4240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348CD-FDBB-4511-81E9-52E5D1931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7DAB6-15EC-4607-9887-9E56D5D9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40B3-3D7E-4914-8A63-A66747F05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B3ED2-94E4-454E-912C-CCBA40C0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9A747-0631-4D4F-A2FF-9CC453AC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1BE23-E832-426D-AEB5-95FA5F4B4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DAF7B-E8F8-4108-A0D7-DB3E87E32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5CC24-05E0-474E-B248-0A33D4C03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5322-0AAD-4EAC-8C52-68F5400C5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32DA-C38D-44B4-A0CA-5F54A3F72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DD81-0155-457C-BC97-D459E127E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8567-945E-4C21-A44E-77EFB0042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2C38-F28F-4974-9817-22CC0567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D3AC-AE9B-4733-A99E-A6BC5A76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0DC2-B284-4BA7-999B-0472D25B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70FA7-CA70-429A-9694-7E123B88280D}" type="datetime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BD9A6-92D1-42E0-9CC2-E6D09AF4F116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A6200-C615-4512-A28B-5F5143744939}" type="datetime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4DA69-7FDC-449C-B1BB-463029613421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2.png"/><Relationship Id="rId7" Type="http://schemas.openxmlformats.org/officeDocument/2006/relationships/image" Target="../media/image9.png"/><Relationship Id="rId8" Type="http://schemas.openxmlformats.org/officeDocument/2006/relationships/image" Target="../media/image48.png"/><Relationship Id="rId9" Type="http://schemas.openxmlformats.org/officeDocument/2006/relationships/image" Target="../media/image49.png"/><Relationship Id="rId10" Type="http://schemas.openxmlformats.org/officeDocument/2006/relationships/image" Target="../media/image50.png"/><Relationship Id="rId11" Type="http://schemas.openxmlformats.org/officeDocument/2006/relationships/image" Target="../media/image51.png"/><Relationship Id="rId12" Type="http://schemas.openxmlformats.org/officeDocument/2006/relationships/image" Target="../media/image52.png"/><Relationship Id="rId13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2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2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2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7.png"/><Relationship Id="rId5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6.png"/><Relationship Id="rId5" Type="http://schemas.openxmlformats.org/officeDocument/2006/relationships/slideLayout" Target="../slideLayouts/slideLayout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16.png"/><Relationship Id="rId5" Type="http://schemas.openxmlformats.org/officeDocument/2006/relationships/image" Target="../media/image56.png"/><Relationship Id="rId6" Type="http://schemas.openxmlformats.org/officeDocument/2006/relationships/slideLayout" Target="../slideLayouts/slideLayout3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9.png"/><Relationship Id="rId8" Type="http://schemas.openxmlformats.org/officeDocument/2006/relationships/image" Target="../media/image56.png"/><Relationship Id="rId9" Type="http://schemas.openxmlformats.org/officeDocument/2006/relationships/slideLayout" Target="../slideLayouts/slideLayout3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58.png"/><Relationship Id="rId5" Type="http://schemas.openxmlformats.org/officeDocument/2006/relationships/image" Target="../media/image58.png"/><Relationship Id="rId6" Type="http://schemas.openxmlformats.org/officeDocument/2006/relationships/image" Target="../media/image58.png"/><Relationship Id="rId7" Type="http://schemas.openxmlformats.org/officeDocument/2006/relationships/image" Target="../media/image8.png"/><Relationship Id="rId8" Type="http://schemas.openxmlformats.org/officeDocument/2006/relationships/image" Target="../media/image16.png"/><Relationship Id="rId9" Type="http://schemas.openxmlformats.org/officeDocument/2006/relationships/image" Target="../media/image56.png"/><Relationship Id="rId10" Type="http://schemas.openxmlformats.org/officeDocument/2006/relationships/slideLayout" Target="../slideLayouts/slideLayout3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59.png"/><Relationship Id="rId6" Type="http://schemas.openxmlformats.org/officeDocument/2006/relationships/slideLayout" Target="../slideLayouts/slideLayout3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59.png"/><Relationship Id="rId10" Type="http://schemas.openxmlformats.org/officeDocument/2006/relationships/slideLayout" Target="../slideLayouts/slideLayout3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6.png"/><Relationship Id="rId6" Type="http://schemas.openxmlformats.org/officeDocument/2006/relationships/image" Target="../media/image9.png"/><Relationship Id="rId7" Type="http://schemas.openxmlformats.org/officeDocument/2006/relationships/image" Target="../media/image59.png"/><Relationship Id="rId8" Type="http://schemas.openxmlformats.org/officeDocument/2006/relationships/slideLayout" Target="../slideLayouts/slideLayout3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59.png"/><Relationship Id="rId12" Type="http://schemas.openxmlformats.org/officeDocument/2006/relationships/slideLayout" Target="../slideLayouts/slideLayout3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3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3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3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3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3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2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2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44.png"/><Relationship Id="rId8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2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ffective Layout Manage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Scott Stanchfield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oftware Engineer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WeGo Systems, Inc.</a:t>
            </a:r>
            <a:br>
              <a:rPr sz="3200"/>
            </a:b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5472"/>
                </a:solidFill>
                <a:latin typeface="Tahoma"/>
              </a:rPr>
              <a:t>Copyright © 2001, Scott Stanchfield. All Rights Reserved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70F1E-86F1-44A0-8691-36927DF85058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E4BF6FA7-7D45-4C5D-8EEC-DBFDCD73668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hy Do We Need Layout Managers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GUI Sin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952560" indent="-495360">
              <a:spcBef>
                <a:spcPts val="700"/>
              </a:spcBef>
              <a:buClr>
                <a:srgbClr val="545472"/>
              </a:buClr>
              <a:buSzPct val="8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Not respecting user siz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952560" indent="-495360">
              <a:spcBef>
                <a:spcPts val="700"/>
              </a:spcBef>
              <a:buClr>
                <a:srgbClr val="545472"/>
              </a:buClr>
              <a:buSzPct val="8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ssuming Look and feel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952560" indent="-495360">
              <a:spcBef>
                <a:spcPts val="700"/>
              </a:spcBef>
              <a:buClr>
                <a:srgbClr val="545472"/>
              </a:buClr>
              <a:buSzPct val="8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ssuming one languag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533520" indent="-53352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riendlier, adaptable user interfac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5860-F32F-4F96-9A35-C3769B5D378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966404-9A1E-4286-82A9-8C4125F89CC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oxLayou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ll components start at preferred siz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f more room availabl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Components that are not at maximum grow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f not enough room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Components that are not at minimum shrink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F9E3-9FF6-4014-8DFF-E64E3B38E8A3}" type="slidenum">
              <a:t>10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1246B4-E6BD-46DD-8668-C2398239A37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oxBea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http://javadude.com/tools/boxbean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ree!!!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Helps use BoxLayout in GUI Builder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B3D9-11B2-4F6F-8879-92AC169F221F}" type="slidenum">
              <a:t>10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777716-7688-46D3-9B0B-4FF16A75A9F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oxBea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BoxAdapter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Decorator to fix siz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Horizontal, Vertical Strut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nvisible fixed spacing component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Horizontal, Vertical Glu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nvisible filler spacing component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455" name="boxadapter" descr=""/>
          <p:cNvPicPr/>
          <p:nvPr/>
        </p:nvPicPr>
        <p:blipFill>
          <a:blip r:embed="rId8"/>
          <a:stretch/>
        </p:blipFill>
        <p:spPr>
          <a:xfrm>
            <a:off x="3505320" y="20574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56" name="boxhstrut" descr=""/>
          <p:cNvPicPr/>
          <p:nvPr/>
        </p:nvPicPr>
        <p:blipFill>
          <a:blip r:embed="rId9"/>
          <a:stretch/>
        </p:blipFill>
        <p:spPr>
          <a:xfrm>
            <a:off x="5943600" y="3657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57" name="boxvstrut" descr=""/>
          <p:cNvPicPr/>
          <p:nvPr/>
        </p:nvPicPr>
        <p:blipFill>
          <a:blip r:embed="rId10"/>
          <a:stretch/>
        </p:blipFill>
        <p:spPr>
          <a:xfrm>
            <a:off x="6324480" y="3662280"/>
            <a:ext cx="304920" cy="295200"/>
          </a:xfrm>
          <a:prstGeom prst="rect">
            <a:avLst/>
          </a:prstGeom>
          <a:ln w="0">
            <a:noFill/>
          </a:ln>
        </p:spPr>
      </p:pic>
      <p:pic>
        <p:nvPicPr>
          <p:cNvPr id="458" name="boxhglue" descr=""/>
          <p:cNvPicPr/>
          <p:nvPr/>
        </p:nvPicPr>
        <p:blipFill>
          <a:blip r:embed="rId11"/>
          <a:stretch/>
        </p:blipFill>
        <p:spPr>
          <a:xfrm>
            <a:off x="5638680" y="5181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59" name="boxvglue" descr=""/>
          <p:cNvPicPr/>
          <p:nvPr/>
        </p:nvPicPr>
        <p:blipFill>
          <a:blip r:embed="rId12"/>
          <a:stretch/>
        </p:blipFill>
        <p:spPr>
          <a:xfrm>
            <a:off x="6019920" y="5181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6118-5ED7-4A31-9940-181764A5CAAD}" type="slidenum">
              <a:t>10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5E0FC4-E552-44B9-8B81-45BEEC7F52F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oxAdapt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mple decorator container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djusts maximum/minimum size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roperties (boolean)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tretchHorizonta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tretchVertica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hrinkHorizonta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hrinkVertica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462" name="boxadapter" descr=""/>
          <p:cNvPicPr/>
          <p:nvPr/>
        </p:nvPicPr>
        <p:blipFill>
          <a:blip r:embed="rId9"/>
          <a:stretch/>
        </p:blipFill>
        <p:spPr>
          <a:xfrm>
            <a:off x="6254640" y="1225440"/>
            <a:ext cx="603360" cy="60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CE29-1769-4038-BFBF-175577C5F31C}" type="slidenum">
              <a:t>10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30F054-B987-4AB2-8A29-6E7E7B36386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tru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Invisible fixed-size componen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rovides fixed spacing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roperty (int)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ixel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465" name="boxhstrut" descr=""/>
          <p:cNvPicPr/>
          <p:nvPr/>
        </p:nvPicPr>
        <p:blipFill>
          <a:blip r:embed="rId6"/>
          <a:stretch/>
        </p:blipFill>
        <p:spPr>
          <a:xfrm>
            <a:off x="5562720" y="12193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66" name="boxvstrut" descr=""/>
          <p:cNvPicPr/>
          <p:nvPr/>
        </p:nvPicPr>
        <p:blipFill>
          <a:blip r:embed="rId7"/>
          <a:stretch/>
        </p:blipFill>
        <p:spPr>
          <a:xfrm>
            <a:off x="6400800" y="1219320"/>
            <a:ext cx="609480" cy="59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9CD4-B3B9-4CE2-8A12-975E9AA19DFB}" type="slidenum">
              <a:t>10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2C63CF-7DA9-41C2-8519-3A3FDC843A9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lu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Invisible maximizing componen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rovides variable spacing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469" name="boxhglue" descr=""/>
          <p:cNvPicPr/>
          <p:nvPr/>
        </p:nvPicPr>
        <p:blipFill>
          <a:blip r:embed="rId4"/>
          <a:stretch/>
        </p:blipFill>
        <p:spPr>
          <a:xfrm>
            <a:off x="5340240" y="1225440"/>
            <a:ext cx="603360" cy="603360"/>
          </a:xfrm>
          <a:prstGeom prst="rect">
            <a:avLst/>
          </a:prstGeom>
          <a:ln w="0">
            <a:noFill/>
          </a:ln>
        </p:spPr>
      </p:pic>
      <p:pic>
        <p:nvPicPr>
          <p:cNvPr id="470" name="boxvglue" descr=""/>
          <p:cNvPicPr/>
          <p:nvPr/>
        </p:nvPicPr>
        <p:blipFill>
          <a:blip r:embed="rId5"/>
          <a:stretch/>
        </p:blipFill>
        <p:spPr>
          <a:xfrm>
            <a:off x="6178680" y="1225440"/>
            <a:ext cx="603000" cy="60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B810-55C6-4C16-AD10-295D1414CD29}" type="slidenum">
              <a:t>10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CD18B7-7D8F-4E83-8B1C-103C8A82F26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oxBeans in a GUI Build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At “design time”, red lines disclose box bean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473" name="box1" descr=""/>
          <p:cNvPicPr/>
          <p:nvPr/>
        </p:nvPicPr>
        <p:blipFill>
          <a:blip r:embed="rId3"/>
          <a:stretch/>
        </p:blipFill>
        <p:spPr>
          <a:xfrm>
            <a:off x="2363760" y="2630520"/>
            <a:ext cx="5484960" cy="3389400"/>
          </a:xfrm>
          <a:prstGeom prst="rect">
            <a:avLst/>
          </a:prstGeom>
          <a:ln w="9360">
            <a:solidFill>
              <a:srgbClr val="545472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33FC-00E3-4274-B763-F326A84B05B4}" type="slidenum">
              <a:t>10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9C8E96-0CEB-4300-9581-4DF90627A7D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box2" descr=""/>
          <p:cNvPicPr/>
          <p:nvPr/>
        </p:nvPicPr>
        <p:blipFill>
          <a:blip r:embed="rId2"/>
          <a:stretch/>
        </p:blipFill>
        <p:spPr>
          <a:xfrm>
            <a:off x="2436840" y="2662200"/>
            <a:ext cx="5411880" cy="3333960"/>
          </a:xfrm>
          <a:prstGeom prst="rect">
            <a:avLst/>
          </a:prstGeom>
          <a:ln w="9360">
            <a:solidFill>
              <a:srgbClr val="545472"/>
            </a:solidFill>
            <a:miter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oxBeans in a GUI Build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Drop components insid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1EF6-77ED-42F3-86EC-A3CC56153615}" type="slidenum">
              <a:t>10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F5096E-94C9-4959-A319-4E8CA2ED2B5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ig Bad Evil GridBagLayou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Manages all components at onc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Usually breaks 7</a:t>
            </a:r>
            <a:r>
              <a:rPr b="0" lang="en-US" sz="2800" spc="-1" strike="noStrike" u="sng">
                <a:solidFill>
                  <a:srgbClr val="545472"/>
                </a:solidFill>
                <a:uFillTx/>
                <a:latin typeface="Tahoma"/>
              </a:rPr>
              <a:t>+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2 rule!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11 constraints per componen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Breaks 7</a:t>
            </a:r>
            <a:r>
              <a:rPr b="0" lang="en-US" sz="2800" spc="-1" strike="noStrike" u="sng">
                <a:solidFill>
                  <a:srgbClr val="545472"/>
                </a:solidFill>
                <a:uFillTx/>
                <a:latin typeface="Tahoma"/>
              </a:rPr>
              <a:t>+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2 rule!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Most flexible (at complexity cost)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Most GUIs can be created via nesting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6F1F-1FD1-46DA-82FC-0AF3B6E197C4}" type="slidenum">
              <a:t>10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77C917-56A4-4CB0-8925-9D494EB5E4C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ig Bad Evil GridBagLayou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Why is it evil?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Overly complex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onstraints can be inconsistent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teep learning curv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E485-6CFD-4917-ACF0-1AF02324FE0E}" type="slidenum">
              <a:t>10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AF6CF9-355C-4D63-9D76-1C5545A0013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UI Sin #1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t Respecting User Siz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My name won’t fit!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59" name="sin1a" descr=""/>
          <p:cNvPicPr/>
          <p:nvPr/>
        </p:nvPicPr>
        <p:blipFill>
          <a:blip r:embed="rId3"/>
          <a:stretch/>
        </p:blipFill>
        <p:spPr>
          <a:xfrm>
            <a:off x="1447920" y="2693880"/>
            <a:ext cx="4360680" cy="3249720"/>
          </a:xfrm>
          <a:prstGeom prst="rect">
            <a:avLst/>
          </a:prstGeom>
          <a:ln w="9360">
            <a:solidFill>
              <a:srgbClr val="545472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9984-2A50-4D15-A80C-6EAE42973E24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4C12A4-ADE1-4C19-BC74-9AB6BC3D187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ig Bad Evil GridBagLayou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But </a:t>
            </a:r>
            <a:r>
              <a:rPr b="0" lang="en-US" sz="2800" spc="-1" strike="noStrike">
                <a:solidFill>
                  <a:srgbClr val="8888ae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know it well. It works for </a:t>
            </a:r>
            <a:r>
              <a:rPr b="0" lang="en-US" sz="2800" spc="-1" strike="noStrike">
                <a:solidFill>
                  <a:srgbClr val="8888ae"/>
                </a:solidFill>
                <a:latin typeface="Tahoma"/>
              </a:rPr>
              <a:t>me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.”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nk about the maintenance programmer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ey must know it at least as well as you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Hard to visualize all constraints (7</a:t>
            </a:r>
            <a:r>
              <a:rPr b="0" lang="en-US" sz="2400" spc="-1" strike="noStrike" u="sng">
                <a:solidFill>
                  <a:srgbClr val="545472"/>
                </a:solidFill>
                <a:uFillTx/>
                <a:latin typeface="Tahoma"/>
              </a:rPr>
              <a:t>+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2)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Unless you want to maintain forever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Avoid Big Bad Evil GridBagLayout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Use nesting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Write Simpler Custom Layout Manager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AA76-1CFD-4012-95FC-2FDB0EE44340}" type="slidenum">
              <a:t>1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EE9F45-9083-4A63-9CB8-5F888B60968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ig Bad Evil GridBagLayou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Divides GUI into a grid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olumns might not be same width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Rows might not be same height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omponents can span columns, row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omponents start at preferred siz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Extra space divided by weight constraint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4226-9972-4B20-9351-234FF674FE1B}" type="slidenum">
              <a:t>1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DB65E0-BDBD-491B-8B44-8A5B576FFE9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ample GU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486" name="gridbag1" descr=""/>
          <p:cNvPicPr/>
          <p:nvPr/>
        </p:nvPicPr>
        <p:blipFill>
          <a:blip r:embed="rId2"/>
          <a:stretch/>
        </p:blipFill>
        <p:spPr>
          <a:xfrm>
            <a:off x="1152360" y="2019240"/>
            <a:ext cx="6837480" cy="4000680"/>
          </a:xfrm>
          <a:prstGeom prst="rect">
            <a:avLst/>
          </a:prstGeom>
          <a:ln w="9360">
            <a:solidFill>
              <a:srgbClr val="545472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60D6-A212-41AA-A4B9-DE3D03272AD7}" type="slidenum">
              <a:t>1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78522D-1D85-4771-9B8E-8B887CEE70E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roup Nested GU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1152360" y="2019240"/>
            <a:ext cx="6837480" cy="4000680"/>
            <a:chOff x="1152360" y="2019240"/>
            <a:chExt cx="6837480" cy="4000680"/>
          </a:xfrm>
        </p:grpSpPr>
        <p:pic>
          <p:nvPicPr>
            <p:cNvPr id="489" name="gridbag1" descr=""/>
            <p:cNvPicPr/>
            <p:nvPr/>
          </p:nvPicPr>
          <p:blipFill>
            <a:blip r:embed="rId2"/>
            <a:stretch/>
          </p:blipFill>
          <p:spPr>
            <a:xfrm>
              <a:off x="1152360" y="2019240"/>
              <a:ext cx="6837480" cy="4000680"/>
            </a:xfrm>
            <a:prstGeom prst="rect">
              <a:avLst/>
            </a:prstGeom>
            <a:ln w="9360">
              <a:solidFill>
                <a:srgbClr val="545472"/>
              </a:solidFill>
              <a:miter/>
            </a:ln>
          </p:spPr>
        </p:pic>
        <p:sp>
          <p:nvSpPr>
            <p:cNvPr id="490" name=""/>
            <p:cNvSpPr/>
            <p:nvPr/>
          </p:nvSpPr>
          <p:spPr>
            <a:xfrm>
              <a:off x="5638680" y="5371920"/>
              <a:ext cx="2210040" cy="533520"/>
            </a:xfrm>
            <a:prstGeom prst="rect">
              <a:avLst/>
            </a:prstGeom>
            <a:solidFill>
              <a:srgbClr val="a7ccd9">
                <a:alpha val="50000"/>
              </a:srgbClr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7953-55D1-4401-BB0F-E052F49C8C83}" type="slidenum">
              <a:t>1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E50F40-39D1-4CD7-A302-1FBE370C818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ivide Into Cel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990720" y="1828800"/>
            <a:ext cx="7162560" cy="4648320"/>
            <a:chOff x="990720" y="1828800"/>
            <a:chExt cx="7162560" cy="4648320"/>
          </a:xfrm>
        </p:grpSpPr>
        <p:grpSp>
          <p:nvGrpSpPr>
            <p:cNvPr id="493" name=""/>
            <p:cNvGrpSpPr/>
            <p:nvPr/>
          </p:nvGrpSpPr>
          <p:grpSpPr>
            <a:xfrm>
              <a:off x="1152360" y="2057400"/>
              <a:ext cx="6837480" cy="4000680"/>
              <a:chOff x="1152360" y="2057400"/>
              <a:chExt cx="6837480" cy="4000680"/>
            </a:xfrm>
          </p:grpSpPr>
          <p:pic>
            <p:nvPicPr>
              <p:cNvPr id="494" name="gridbag1" descr=""/>
              <p:cNvPicPr/>
              <p:nvPr/>
            </p:nvPicPr>
            <p:blipFill>
              <a:blip r:embed="rId2"/>
              <a:stretch/>
            </p:blipFill>
            <p:spPr>
              <a:xfrm>
                <a:off x="1152360" y="2057400"/>
                <a:ext cx="6837480" cy="4000680"/>
              </a:xfrm>
              <a:prstGeom prst="rect">
                <a:avLst/>
              </a:prstGeom>
              <a:ln w="9360">
                <a:solidFill>
                  <a:srgbClr val="545472"/>
                </a:solidFill>
                <a:miter/>
              </a:ln>
            </p:spPr>
          </p:pic>
          <p:sp>
            <p:nvSpPr>
              <p:cNvPr id="495" name=""/>
              <p:cNvSpPr/>
              <p:nvPr/>
            </p:nvSpPr>
            <p:spPr>
              <a:xfrm>
                <a:off x="5638680" y="5410080"/>
                <a:ext cx="2210040" cy="533520"/>
              </a:xfrm>
              <a:prstGeom prst="rect">
                <a:avLst/>
              </a:prstGeom>
              <a:solidFill>
                <a:srgbClr val="a7ccd9">
                  <a:alpha val="50000"/>
                </a:srgbClr>
              </a:solidFill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496" name=""/>
            <p:cNvSpPr/>
            <p:nvPr/>
          </p:nvSpPr>
          <p:spPr>
            <a:xfrm>
              <a:off x="2514600" y="1828800"/>
              <a:ext cx="0" cy="4648320"/>
            </a:xfrm>
            <a:prstGeom prst="line">
              <a:avLst/>
            </a:prstGeom>
            <a:ln w="63360">
              <a:solidFill>
                <a:srgbClr val="888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724280" y="1828800"/>
              <a:ext cx="0" cy="4648320"/>
            </a:xfrm>
            <a:prstGeom prst="line">
              <a:avLst/>
            </a:prstGeom>
            <a:ln w="63360">
              <a:solidFill>
                <a:srgbClr val="888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715000" y="1828800"/>
              <a:ext cx="0" cy="4648320"/>
            </a:xfrm>
            <a:prstGeom prst="line">
              <a:avLst/>
            </a:prstGeom>
            <a:ln w="63360">
              <a:solidFill>
                <a:srgbClr val="888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V="1">
              <a:off x="990720" y="3048120"/>
              <a:ext cx="7162560" cy="1440"/>
            </a:xfrm>
            <a:prstGeom prst="line">
              <a:avLst/>
            </a:prstGeom>
            <a:ln w="63360">
              <a:solidFill>
                <a:srgbClr val="888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990720" y="3656160"/>
              <a:ext cx="7162560" cy="1440"/>
            </a:xfrm>
            <a:prstGeom prst="line">
              <a:avLst/>
            </a:prstGeom>
            <a:ln w="63360">
              <a:solidFill>
                <a:srgbClr val="888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>
              <a:off x="990720" y="4265640"/>
              <a:ext cx="7162560" cy="1440"/>
            </a:xfrm>
            <a:prstGeom prst="line">
              <a:avLst/>
            </a:prstGeom>
            <a:ln w="63360">
              <a:solidFill>
                <a:srgbClr val="888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990720" y="4874760"/>
              <a:ext cx="7162560" cy="1800"/>
            </a:xfrm>
            <a:prstGeom prst="line">
              <a:avLst/>
            </a:prstGeom>
            <a:ln w="63360">
              <a:solidFill>
                <a:srgbClr val="888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1853-1953-45F0-88E9-3B6D57C2E67E}" type="slidenum">
              <a:t>1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A7B095-872B-4ACE-AF4D-3764C11CBAD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nnotate for Resize Behavio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990720" y="1828800"/>
            <a:ext cx="7162560" cy="4648320"/>
            <a:chOff x="990720" y="1828800"/>
            <a:chExt cx="7162560" cy="4648320"/>
          </a:xfrm>
        </p:grpSpPr>
        <p:grpSp>
          <p:nvGrpSpPr>
            <p:cNvPr id="505" name=""/>
            <p:cNvGrpSpPr/>
            <p:nvPr/>
          </p:nvGrpSpPr>
          <p:grpSpPr>
            <a:xfrm>
              <a:off x="990720" y="1828800"/>
              <a:ext cx="7162560" cy="4648320"/>
              <a:chOff x="990720" y="1828800"/>
              <a:chExt cx="7162560" cy="4648320"/>
            </a:xfrm>
          </p:grpSpPr>
          <p:grpSp>
            <p:nvGrpSpPr>
              <p:cNvPr id="506" name=""/>
              <p:cNvGrpSpPr/>
              <p:nvPr/>
            </p:nvGrpSpPr>
            <p:grpSpPr>
              <a:xfrm>
                <a:off x="1152360" y="2057400"/>
                <a:ext cx="6837480" cy="4000680"/>
                <a:chOff x="1152360" y="2057400"/>
                <a:chExt cx="6837480" cy="4000680"/>
              </a:xfrm>
            </p:grpSpPr>
            <p:pic>
              <p:nvPicPr>
                <p:cNvPr id="507" name="gridbag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152360" y="2057400"/>
                  <a:ext cx="6837480" cy="4000680"/>
                </a:xfrm>
                <a:prstGeom prst="rect">
                  <a:avLst/>
                </a:prstGeom>
                <a:ln w="9360">
                  <a:solidFill>
                    <a:srgbClr val="545472"/>
                  </a:solidFill>
                  <a:miter/>
                </a:ln>
              </p:spPr>
            </p:pic>
            <p:sp>
              <p:nvSpPr>
                <p:cNvPr id="508" name=""/>
                <p:cNvSpPr/>
                <p:nvPr/>
              </p:nvSpPr>
              <p:spPr>
                <a:xfrm>
                  <a:off x="5638680" y="5410080"/>
                  <a:ext cx="2210040" cy="533520"/>
                </a:xfrm>
                <a:prstGeom prst="rect">
                  <a:avLst/>
                </a:prstGeom>
                <a:solidFill>
                  <a:srgbClr val="a7ccd9">
                    <a:alpha val="50000"/>
                  </a:srgbClr>
                </a:solidFill>
                <a:ln w="93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9" name=""/>
              <p:cNvSpPr/>
              <p:nvPr/>
            </p:nvSpPr>
            <p:spPr>
              <a:xfrm>
                <a:off x="2514600" y="1828800"/>
                <a:ext cx="0" cy="4648320"/>
              </a:xfrm>
              <a:prstGeom prst="line">
                <a:avLst/>
              </a:prstGeom>
              <a:ln w="63360">
                <a:solidFill>
                  <a:srgbClr val="8888a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724280" y="1828800"/>
                <a:ext cx="0" cy="4648320"/>
              </a:xfrm>
              <a:prstGeom prst="line">
                <a:avLst/>
              </a:prstGeom>
              <a:ln w="63360">
                <a:solidFill>
                  <a:srgbClr val="8888a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715000" y="1828800"/>
                <a:ext cx="0" cy="4648320"/>
              </a:xfrm>
              <a:prstGeom prst="line">
                <a:avLst/>
              </a:prstGeom>
              <a:ln w="63360">
                <a:solidFill>
                  <a:srgbClr val="8888a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V="1">
                <a:off x="990720" y="3048120"/>
                <a:ext cx="7162560" cy="1440"/>
              </a:xfrm>
              <a:prstGeom prst="line">
                <a:avLst/>
              </a:prstGeom>
              <a:ln w="63360">
                <a:solidFill>
                  <a:srgbClr val="8888a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V="1">
                <a:off x="990720" y="3656160"/>
                <a:ext cx="7162560" cy="1440"/>
              </a:xfrm>
              <a:prstGeom prst="line">
                <a:avLst/>
              </a:prstGeom>
              <a:ln w="63360">
                <a:solidFill>
                  <a:srgbClr val="8888a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V="1">
                <a:off x="990720" y="4265640"/>
                <a:ext cx="7162560" cy="1440"/>
              </a:xfrm>
              <a:prstGeom prst="line">
                <a:avLst/>
              </a:prstGeom>
              <a:ln w="63360">
                <a:solidFill>
                  <a:srgbClr val="8888a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V="1">
                <a:off x="990720" y="4874760"/>
                <a:ext cx="7162560" cy="1800"/>
              </a:xfrm>
              <a:prstGeom prst="line">
                <a:avLst/>
              </a:prstGeom>
              <a:ln w="63360">
                <a:solidFill>
                  <a:srgbClr val="8888a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516" name=""/>
            <p:cNvSpPr/>
            <p:nvPr/>
          </p:nvSpPr>
          <p:spPr>
            <a:xfrm>
              <a:off x="2590920" y="2743200"/>
              <a:ext cx="518148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666880" y="3352680"/>
              <a:ext cx="510552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600200" y="5486400"/>
              <a:ext cx="61722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666880" y="3962520"/>
              <a:ext cx="190512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867280" y="3962520"/>
              <a:ext cx="190512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666880" y="4572000"/>
              <a:ext cx="190512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031000" y="25527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66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031000" y="31622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66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088400" y="37814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66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888000" y="37720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66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659400" y="43909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66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335920" y="37908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66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135520" y="25909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66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135520" y="31622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66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135520" y="37940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66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135520" y="4403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66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3581280" y="5105520"/>
              <a:ext cx="1800" cy="838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842E-9A78-4875-A70F-1F608FCD0ACD}" type="slidenum">
              <a:t>1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639349-AF69-44A2-9CE6-2EA745A11FE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termine Positio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gridx, gridy specify upper-left-most cell containing componen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9F8F-602C-47CF-9E48-D3FFF59B9A94}" type="slidenum">
              <a:t>1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D9C6B8-3D46-491A-90A8-1248AB000D4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termine Positio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990720" y="1828800"/>
            <a:ext cx="7162560" cy="4648320"/>
            <a:chOff x="990720" y="1828800"/>
            <a:chExt cx="7162560" cy="4648320"/>
          </a:xfrm>
        </p:grpSpPr>
        <p:grpSp>
          <p:nvGrpSpPr>
            <p:cNvPr id="537" name=""/>
            <p:cNvGrpSpPr/>
            <p:nvPr/>
          </p:nvGrpSpPr>
          <p:grpSpPr>
            <a:xfrm>
              <a:off x="990720" y="1828800"/>
              <a:ext cx="7162560" cy="4648320"/>
              <a:chOff x="990720" y="1828800"/>
              <a:chExt cx="7162560" cy="4648320"/>
            </a:xfrm>
          </p:grpSpPr>
          <p:grpSp>
            <p:nvGrpSpPr>
              <p:cNvPr id="538" name=""/>
              <p:cNvGrpSpPr/>
              <p:nvPr/>
            </p:nvGrpSpPr>
            <p:grpSpPr>
              <a:xfrm>
                <a:off x="990720" y="1828800"/>
                <a:ext cx="7162560" cy="4648320"/>
                <a:chOff x="990720" y="1828800"/>
                <a:chExt cx="7162560" cy="4648320"/>
              </a:xfrm>
            </p:grpSpPr>
            <p:grpSp>
              <p:nvGrpSpPr>
                <p:cNvPr id="539" name=""/>
                <p:cNvGrpSpPr/>
                <p:nvPr/>
              </p:nvGrpSpPr>
              <p:grpSpPr>
                <a:xfrm>
                  <a:off x="1152360" y="2057400"/>
                  <a:ext cx="6837480" cy="4000680"/>
                  <a:chOff x="1152360" y="2057400"/>
                  <a:chExt cx="6837480" cy="4000680"/>
                </a:xfrm>
              </p:grpSpPr>
              <p:pic>
                <p:nvPicPr>
                  <p:cNvPr id="540" name="gridbag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2360" y="2057400"/>
                    <a:ext cx="6837480" cy="4000680"/>
                  </a:xfrm>
                  <a:prstGeom prst="rect">
                    <a:avLst/>
                  </a:prstGeom>
                  <a:ln w="9360">
                    <a:solidFill>
                      <a:srgbClr val="545472"/>
                    </a:solidFill>
                    <a:miter/>
                  </a:ln>
                </p:spPr>
              </p:pic>
              <p:sp>
                <p:nvSpPr>
                  <p:cNvPr id="541" name=""/>
                  <p:cNvSpPr/>
                  <p:nvPr/>
                </p:nvSpPr>
                <p:spPr>
                  <a:xfrm>
                    <a:off x="5638680" y="5410080"/>
                    <a:ext cx="2210040" cy="533520"/>
                  </a:xfrm>
                  <a:prstGeom prst="rect">
                    <a:avLst/>
                  </a:prstGeom>
                  <a:solidFill>
                    <a:srgbClr val="a7ccd9">
                      <a:alpha val="50000"/>
                    </a:srgbClr>
                  </a:solidFill>
                  <a:ln w="9360">
                    <a:solidFill>
                      <a:srgbClr val="54547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2" name=""/>
                <p:cNvSpPr/>
                <p:nvPr/>
              </p:nvSpPr>
              <p:spPr>
                <a:xfrm>
                  <a:off x="2514600" y="1828800"/>
                  <a:ext cx="0" cy="4648320"/>
                </a:xfrm>
                <a:prstGeom prst="line">
                  <a:avLst/>
                </a:prstGeom>
                <a:ln w="63360">
                  <a:solidFill>
                    <a:srgbClr val="8888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4724280" y="1828800"/>
                  <a:ext cx="0" cy="4648320"/>
                </a:xfrm>
                <a:prstGeom prst="line">
                  <a:avLst/>
                </a:prstGeom>
                <a:ln w="63360">
                  <a:solidFill>
                    <a:srgbClr val="8888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5715000" y="1828800"/>
                  <a:ext cx="0" cy="4648320"/>
                </a:xfrm>
                <a:prstGeom prst="line">
                  <a:avLst/>
                </a:prstGeom>
                <a:ln w="63360">
                  <a:solidFill>
                    <a:srgbClr val="8888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 flipV="1">
                  <a:off x="990720" y="3048120"/>
                  <a:ext cx="7162560" cy="1440"/>
                </a:xfrm>
                <a:prstGeom prst="line">
                  <a:avLst/>
                </a:prstGeom>
                <a:ln w="63360">
                  <a:solidFill>
                    <a:srgbClr val="8888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 flipV="1">
                  <a:off x="990720" y="3656160"/>
                  <a:ext cx="7162560" cy="1440"/>
                </a:xfrm>
                <a:prstGeom prst="line">
                  <a:avLst/>
                </a:prstGeom>
                <a:ln w="63360">
                  <a:solidFill>
                    <a:srgbClr val="8888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V="1">
                  <a:off x="990720" y="4265640"/>
                  <a:ext cx="7162560" cy="1440"/>
                </a:xfrm>
                <a:prstGeom prst="line">
                  <a:avLst/>
                </a:prstGeom>
                <a:ln w="63360">
                  <a:solidFill>
                    <a:srgbClr val="8888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 flipV="1">
                  <a:off x="990720" y="4874760"/>
                  <a:ext cx="7162560" cy="1800"/>
                </a:xfrm>
                <a:prstGeom prst="line">
                  <a:avLst/>
                </a:prstGeom>
                <a:ln w="63360">
                  <a:solidFill>
                    <a:srgbClr val="8888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9" name=""/>
              <p:cNvSpPr/>
              <p:nvPr/>
            </p:nvSpPr>
            <p:spPr>
              <a:xfrm>
                <a:off x="2590920" y="2743200"/>
                <a:ext cx="5181480" cy="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2666880" y="3352680"/>
                <a:ext cx="5105520" cy="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600200" y="5486400"/>
                <a:ext cx="6172200" cy="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666880" y="3962520"/>
                <a:ext cx="1905120" cy="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867280" y="3962520"/>
                <a:ext cx="1905120" cy="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666880" y="4572000"/>
                <a:ext cx="1905120" cy="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031000" y="255276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0066"/>
                    </a:solidFill>
                    <a:latin typeface="Courier New"/>
                  </a:rPr>
                  <a:t>I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031000" y="316224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0066"/>
                    </a:solidFill>
                    <a:latin typeface="Courier New"/>
                  </a:rPr>
                  <a:t>I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088400" y="378144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0066"/>
                    </a:solidFill>
                    <a:latin typeface="Courier New"/>
                  </a:rPr>
                  <a:t>I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888000" y="377208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0066"/>
                    </a:solidFill>
                    <a:latin typeface="Courier New"/>
                  </a:rPr>
                  <a:t>I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659400" y="439092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0066"/>
                    </a:solidFill>
                    <a:latin typeface="Courier New"/>
                  </a:rPr>
                  <a:t>I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335920" y="3790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0066"/>
                    </a:solidFill>
                    <a:latin typeface="Courier New"/>
                  </a:rPr>
                  <a:t>I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2135520" y="259092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0066"/>
                    </a:solidFill>
                    <a:latin typeface="Courier New"/>
                  </a:rPr>
                  <a:t>I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2135520" y="316224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0066"/>
                    </a:solidFill>
                    <a:latin typeface="Courier New"/>
                  </a:rPr>
                  <a:t>I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135520" y="379404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0066"/>
                    </a:solidFill>
                    <a:latin typeface="Courier New"/>
                  </a:rPr>
                  <a:t>I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135520" y="440388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0066"/>
                    </a:solidFill>
                    <a:latin typeface="Courier New"/>
                  </a:rPr>
                  <a:t>I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V="1">
                <a:off x="3581280" y="5105520"/>
                <a:ext cx="1800" cy="83808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566" name=""/>
            <p:cNvSpPr/>
            <p:nvPr/>
          </p:nvSpPr>
          <p:spPr>
            <a:xfrm>
              <a:off x="1225800" y="2518560"/>
              <a:ext cx="307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597400" y="2518560"/>
              <a:ext cx="307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225800" y="3128040"/>
              <a:ext cx="307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97400" y="3128040"/>
              <a:ext cx="307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25800" y="3737880"/>
              <a:ext cx="307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597400" y="3737880"/>
              <a:ext cx="307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883400" y="3737880"/>
              <a:ext cx="307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874120" y="3737880"/>
              <a:ext cx="307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225800" y="4347360"/>
              <a:ext cx="307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597760" y="4347360"/>
              <a:ext cx="43380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226160" y="4956840"/>
              <a:ext cx="43380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09BC-B0A0-45D0-934C-36573738095F}" type="slidenum">
              <a:t>1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E0796D-EFE8-476D-8414-25F6B1CE164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termine Positio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838080" y="1733400"/>
          <a:ext cx="7848720" cy="4395960"/>
        </p:xfrm>
        <a:graphic>
          <a:graphicData uri="http://schemas.openxmlformats.org/drawingml/2006/table">
            <a:tbl>
              <a:tblPr/>
              <a:tblGrid>
                <a:gridCol w="2057400"/>
                <a:gridCol w="533520"/>
                <a:gridCol w="533520"/>
                <a:gridCol w="533160"/>
                <a:gridCol w="457200"/>
                <a:gridCol w="533520"/>
                <a:gridCol w="533520"/>
                <a:gridCol w="533160"/>
                <a:gridCol w="533520"/>
                <a:gridCol w="533520"/>
                <a:gridCol w="533160"/>
                <a:gridCol w="533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ridx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ridy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ridWidth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ridHeight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fill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anchor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ipadx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ipady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inset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weightx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weighty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CE2D-B3FF-472E-B604-55D3D3E83117}" type="slidenum">
              <a:t>1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73C595-503F-4C37-A8AB-90635167836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termine Cell Bound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gridwidth, gridheight specify how many cells the component span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5E46-E733-4873-9723-71417835C920}" type="slidenum">
              <a:t>1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BDFB7D-6E49-4AC8-97EA-A9EBB193E4D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sin1a" descr=""/>
          <p:cNvPicPr/>
          <p:nvPr/>
        </p:nvPicPr>
        <p:blipFill>
          <a:blip r:embed="rId2"/>
          <a:stretch/>
        </p:blipFill>
        <p:spPr>
          <a:xfrm>
            <a:off x="1447920" y="2693880"/>
            <a:ext cx="4360680" cy="3249720"/>
          </a:xfrm>
          <a:prstGeom prst="rect">
            <a:avLst/>
          </a:prstGeom>
          <a:ln w="9360">
            <a:solidFill>
              <a:srgbClr val="545472"/>
            </a:solidFill>
            <a:miter/>
          </a:ln>
        </p:spPr>
      </p:pic>
      <p:sp>
        <p:nvSpPr>
          <p:cNvPr id="161" name=""/>
          <p:cNvSpPr/>
          <p:nvPr/>
        </p:nvSpPr>
        <p:spPr>
          <a:xfrm>
            <a:off x="5715000" y="3657600"/>
            <a:ext cx="1905120" cy="485640"/>
          </a:xfrm>
          <a:custGeom>
            <a:avLst/>
            <a:gdLst>
              <a:gd name="textAreaLeft" fmla="*/ 297720 w 1905120"/>
              <a:gd name="textAreaRight" fmla="*/ 1667160 w 19051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UI Sin #1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t Respecting User Siz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My name </a:t>
            </a:r>
            <a:r>
              <a:rPr b="0" lang="en-US" sz="3200" spc="-1" strike="noStrike">
                <a:solidFill>
                  <a:srgbClr val="8888ae"/>
                </a:solidFill>
                <a:latin typeface="Tahoma"/>
              </a:rPr>
              <a:t>still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won’t fit!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447920" y="2697120"/>
            <a:ext cx="6253200" cy="3781800"/>
            <a:chOff x="1447920" y="2697120"/>
            <a:chExt cx="6253200" cy="3781800"/>
          </a:xfrm>
        </p:grpSpPr>
        <p:pic>
          <p:nvPicPr>
            <p:cNvPr id="165" name="sin1b" descr=""/>
            <p:cNvPicPr/>
            <p:nvPr/>
          </p:nvPicPr>
          <p:blipFill>
            <a:blip r:embed="rId4"/>
            <a:stretch/>
          </p:blipFill>
          <p:spPr>
            <a:xfrm>
              <a:off x="1447920" y="2697120"/>
              <a:ext cx="6253200" cy="3254400"/>
            </a:xfrm>
            <a:prstGeom prst="rect">
              <a:avLst/>
            </a:prstGeom>
            <a:ln w="9360">
              <a:solidFill>
                <a:srgbClr val="545472"/>
              </a:solidFill>
              <a:miter/>
            </a:ln>
          </p:spPr>
        </p:pic>
        <p:sp>
          <p:nvSpPr>
            <p:cNvPr id="166" name=""/>
            <p:cNvSpPr/>
            <p:nvPr/>
          </p:nvSpPr>
          <p:spPr>
            <a:xfrm>
              <a:off x="4567680" y="5897520"/>
              <a:ext cx="3119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45472"/>
                  </a:solidFill>
                  <a:latin typeface="Arial"/>
                </a:rPr>
                <a:t>grrrrrrrrrrrrrrrrr…</a:t>
              </a:r>
              <a:endParaRPr b="0" lang="en-US" sz="3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557B-7ABE-4AC7-83A8-F4AAC296EE1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DBF1F8-026D-404F-AA49-87BFFC0D011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termine Cell Bound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990720" y="1828800"/>
            <a:ext cx="7162560" cy="4648320"/>
            <a:chOff x="990720" y="1828800"/>
            <a:chExt cx="7162560" cy="4648320"/>
          </a:xfrm>
        </p:grpSpPr>
        <p:grpSp>
          <p:nvGrpSpPr>
            <p:cNvPr id="583" name=""/>
            <p:cNvGrpSpPr/>
            <p:nvPr/>
          </p:nvGrpSpPr>
          <p:grpSpPr>
            <a:xfrm>
              <a:off x="990720" y="1828800"/>
              <a:ext cx="7162560" cy="4648320"/>
              <a:chOff x="990720" y="1828800"/>
              <a:chExt cx="7162560" cy="4648320"/>
            </a:xfrm>
          </p:grpSpPr>
          <p:grpSp>
            <p:nvGrpSpPr>
              <p:cNvPr id="584" name=""/>
              <p:cNvGrpSpPr/>
              <p:nvPr/>
            </p:nvGrpSpPr>
            <p:grpSpPr>
              <a:xfrm>
                <a:off x="990720" y="1828800"/>
                <a:ext cx="7162560" cy="4648320"/>
                <a:chOff x="990720" y="1828800"/>
                <a:chExt cx="7162560" cy="4648320"/>
              </a:xfrm>
            </p:grpSpPr>
            <p:grpSp>
              <p:nvGrpSpPr>
                <p:cNvPr id="585" name=""/>
                <p:cNvGrpSpPr/>
                <p:nvPr/>
              </p:nvGrpSpPr>
              <p:grpSpPr>
                <a:xfrm>
                  <a:off x="1152360" y="2057400"/>
                  <a:ext cx="6837480" cy="4000680"/>
                  <a:chOff x="1152360" y="2057400"/>
                  <a:chExt cx="6837480" cy="4000680"/>
                </a:xfrm>
              </p:grpSpPr>
              <p:pic>
                <p:nvPicPr>
                  <p:cNvPr id="586" name="gridbag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2360" y="2057400"/>
                    <a:ext cx="6837480" cy="4000680"/>
                  </a:xfrm>
                  <a:prstGeom prst="rect">
                    <a:avLst/>
                  </a:prstGeom>
                  <a:ln w="9360">
                    <a:solidFill>
                      <a:srgbClr val="545472"/>
                    </a:solidFill>
                    <a:miter/>
                  </a:ln>
                </p:spPr>
              </p:pic>
              <p:sp>
                <p:nvSpPr>
                  <p:cNvPr id="587" name=""/>
                  <p:cNvSpPr/>
                  <p:nvPr/>
                </p:nvSpPr>
                <p:spPr>
                  <a:xfrm>
                    <a:off x="5638680" y="5410080"/>
                    <a:ext cx="2210040" cy="533520"/>
                  </a:xfrm>
                  <a:prstGeom prst="rect">
                    <a:avLst/>
                  </a:prstGeom>
                  <a:solidFill>
                    <a:srgbClr val="a7ccd9">
                      <a:alpha val="50000"/>
                    </a:srgbClr>
                  </a:solidFill>
                  <a:ln w="9360">
                    <a:solidFill>
                      <a:srgbClr val="54547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88" name=""/>
                <p:cNvSpPr/>
                <p:nvPr/>
              </p:nvSpPr>
              <p:spPr>
                <a:xfrm>
                  <a:off x="2514600" y="1828800"/>
                  <a:ext cx="0" cy="4648320"/>
                </a:xfrm>
                <a:prstGeom prst="line">
                  <a:avLst/>
                </a:prstGeom>
                <a:ln w="63360">
                  <a:solidFill>
                    <a:srgbClr val="8888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4724280" y="1828800"/>
                  <a:ext cx="0" cy="4648320"/>
                </a:xfrm>
                <a:prstGeom prst="line">
                  <a:avLst/>
                </a:prstGeom>
                <a:ln w="63360">
                  <a:solidFill>
                    <a:srgbClr val="8888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5715000" y="1828800"/>
                  <a:ext cx="0" cy="4648320"/>
                </a:xfrm>
                <a:prstGeom prst="line">
                  <a:avLst/>
                </a:prstGeom>
                <a:ln w="63360">
                  <a:solidFill>
                    <a:srgbClr val="8888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 flipV="1">
                  <a:off x="990720" y="3048120"/>
                  <a:ext cx="7162560" cy="1440"/>
                </a:xfrm>
                <a:prstGeom prst="line">
                  <a:avLst/>
                </a:prstGeom>
                <a:ln w="63360">
                  <a:solidFill>
                    <a:srgbClr val="8888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 flipV="1">
                  <a:off x="990720" y="3656160"/>
                  <a:ext cx="7162560" cy="1440"/>
                </a:xfrm>
                <a:prstGeom prst="line">
                  <a:avLst/>
                </a:prstGeom>
                <a:ln w="63360">
                  <a:solidFill>
                    <a:srgbClr val="8888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 flipV="1">
                  <a:off x="990720" y="4265640"/>
                  <a:ext cx="7162560" cy="1440"/>
                </a:xfrm>
                <a:prstGeom prst="line">
                  <a:avLst/>
                </a:prstGeom>
                <a:ln w="63360">
                  <a:solidFill>
                    <a:srgbClr val="8888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 flipV="1">
                  <a:off x="990720" y="4874760"/>
                  <a:ext cx="7162560" cy="1800"/>
                </a:xfrm>
                <a:prstGeom prst="line">
                  <a:avLst/>
                </a:prstGeom>
                <a:ln w="63360">
                  <a:solidFill>
                    <a:srgbClr val="8888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5" name=""/>
              <p:cNvSpPr/>
              <p:nvPr/>
            </p:nvSpPr>
            <p:spPr>
              <a:xfrm>
                <a:off x="2590920" y="2743200"/>
                <a:ext cx="5181480" cy="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666880" y="3352680"/>
                <a:ext cx="5105520" cy="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600200" y="5486400"/>
                <a:ext cx="6172200" cy="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666880" y="3962520"/>
                <a:ext cx="1905120" cy="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867280" y="3962520"/>
                <a:ext cx="1905120" cy="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2666880" y="4572000"/>
                <a:ext cx="1905120" cy="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031000" y="255276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0066"/>
                    </a:solidFill>
                    <a:latin typeface="Courier New"/>
                  </a:rPr>
                  <a:t>I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031000" y="316224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0066"/>
                    </a:solidFill>
                    <a:latin typeface="Courier New"/>
                  </a:rPr>
                  <a:t>I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7088400" y="378144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0066"/>
                    </a:solidFill>
                    <a:latin typeface="Courier New"/>
                  </a:rPr>
                  <a:t>I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888000" y="377208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0066"/>
                    </a:solidFill>
                    <a:latin typeface="Courier New"/>
                  </a:rPr>
                  <a:t>I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3659400" y="439092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0066"/>
                    </a:solidFill>
                    <a:latin typeface="Courier New"/>
                  </a:rPr>
                  <a:t>I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5335920" y="3790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0066"/>
                    </a:solidFill>
                    <a:latin typeface="Courier New"/>
                  </a:rPr>
                  <a:t>I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135520" y="259092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0066"/>
                    </a:solidFill>
                    <a:latin typeface="Courier New"/>
                  </a:rPr>
                  <a:t>I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135520" y="316224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0066"/>
                    </a:solidFill>
                    <a:latin typeface="Courier New"/>
                  </a:rPr>
                  <a:t>I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135520" y="379404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0066"/>
                    </a:solidFill>
                    <a:latin typeface="Courier New"/>
                  </a:rPr>
                  <a:t>I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135520" y="440388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0066"/>
                    </a:solidFill>
                    <a:latin typeface="Courier New"/>
                  </a:rPr>
                  <a:t>I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V="1">
                <a:off x="3581280" y="5105520"/>
                <a:ext cx="1800" cy="83808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612" name=""/>
            <p:cNvSpPr/>
            <p:nvPr/>
          </p:nvSpPr>
          <p:spPr>
            <a:xfrm>
              <a:off x="1225800" y="2518560"/>
              <a:ext cx="307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597400" y="2518560"/>
              <a:ext cx="307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225800" y="3128040"/>
              <a:ext cx="307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597400" y="3128040"/>
              <a:ext cx="307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225800" y="3737880"/>
              <a:ext cx="307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597400" y="3737880"/>
              <a:ext cx="307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883400" y="3737880"/>
              <a:ext cx="307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874120" y="3737880"/>
              <a:ext cx="307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25800" y="4347360"/>
              <a:ext cx="307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597760" y="4347360"/>
              <a:ext cx="43380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226160" y="4956840"/>
              <a:ext cx="43380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FABA-32ED-4487-A1AB-5AF5C08F6D1C}" type="slidenum">
              <a:t>1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63736F-7148-43CB-8833-9FCE71B23F9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termine Cell Bound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624" name=""/>
          <p:cNvGraphicFramePr/>
          <p:nvPr/>
        </p:nvGraphicFramePr>
        <p:xfrm>
          <a:off x="838080" y="1733400"/>
          <a:ext cx="7848720" cy="4395960"/>
        </p:xfrm>
        <a:graphic>
          <a:graphicData uri="http://schemas.openxmlformats.org/drawingml/2006/table">
            <a:tbl>
              <a:tblPr/>
              <a:tblGrid>
                <a:gridCol w="2057400"/>
                <a:gridCol w="533520"/>
                <a:gridCol w="533520"/>
                <a:gridCol w="533160"/>
                <a:gridCol w="457200"/>
                <a:gridCol w="533520"/>
                <a:gridCol w="533520"/>
                <a:gridCol w="533160"/>
                <a:gridCol w="533520"/>
                <a:gridCol w="533520"/>
                <a:gridCol w="533160"/>
                <a:gridCol w="533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ridx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ridy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ridWidth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ridHeight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fill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anchor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ipadx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ipady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inset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weightx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weighty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A263-562C-4846-B67D-1D33227CDA24}" type="slidenum">
              <a:t>1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C4B154-44C6-4759-881C-1A5B028BC01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termine Fill and Ancho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Fill specifies if the component should expand inside its cell group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NONE, HORIZONTAL, VERTICA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nchor specifies where component lives in cell group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NORTH, SOUTH, EAST, WEST, CENTER, NORTHEAST, SOUTHEAST, NORTHWEST, SOUTHWEST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CF2B-54F5-4499-B2D4-C1C4E83BB786}" type="slidenum">
              <a:t>1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C33BD1-780D-40EC-A9FF-75BA8A5CD1C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termine Fill and Ancho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990720" y="1828800"/>
            <a:ext cx="7162560" cy="4648320"/>
            <a:chOff x="990720" y="1828800"/>
            <a:chExt cx="7162560" cy="4648320"/>
          </a:xfrm>
        </p:grpSpPr>
        <p:grpSp>
          <p:nvGrpSpPr>
            <p:cNvPr id="629" name=""/>
            <p:cNvGrpSpPr/>
            <p:nvPr/>
          </p:nvGrpSpPr>
          <p:grpSpPr>
            <a:xfrm>
              <a:off x="990720" y="1828800"/>
              <a:ext cx="7162560" cy="4648320"/>
              <a:chOff x="990720" y="1828800"/>
              <a:chExt cx="7162560" cy="4648320"/>
            </a:xfrm>
          </p:grpSpPr>
          <p:grpSp>
            <p:nvGrpSpPr>
              <p:cNvPr id="630" name=""/>
              <p:cNvGrpSpPr/>
              <p:nvPr/>
            </p:nvGrpSpPr>
            <p:grpSpPr>
              <a:xfrm>
                <a:off x="990720" y="1828800"/>
                <a:ext cx="7162560" cy="4648320"/>
                <a:chOff x="990720" y="1828800"/>
                <a:chExt cx="7162560" cy="4648320"/>
              </a:xfrm>
            </p:grpSpPr>
            <p:grpSp>
              <p:nvGrpSpPr>
                <p:cNvPr id="631" name=""/>
                <p:cNvGrpSpPr/>
                <p:nvPr/>
              </p:nvGrpSpPr>
              <p:grpSpPr>
                <a:xfrm>
                  <a:off x="1152360" y="2057400"/>
                  <a:ext cx="6837480" cy="4000680"/>
                  <a:chOff x="1152360" y="2057400"/>
                  <a:chExt cx="6837480" cy="4000680"/>
                </a:xfrm>
              </p:grpSpPr>
              <p:pic>
                <p:nvPicPr>
                  <p:cNvPr id="632" name="gridbag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2360" y="2057400"/>
                    <a:ext cx="6837480" cy="4000680"/>
                  </a:xfrm>
                  <a:prstGeom prst="rect">
                    <a:avLst/>
                  </a:prstGeom>
                  <a:ln w="9360">
                    <a:solidFill>
                      <a:srgbClr val="545472"/>
                    </a:solidFill>
                    <a:miter/>
                  </a:ln>
                </p:spPr>
              </p:pic>
              <p:sp>
                <p:nvSpPr>
                  <p:cNvPr id="633" name=""/>
                  <p:cNvSpPr/>
                  <p:nvPr/>
                </p:nvSpPr>
                <p:spPr>
                  <a:xfrm>
                    <a:off x="5638680" y="5410080"/>
                    <a:ext cx="2210040" cy="533520"/>
                  </a:xfrm>
                  <a:prstGeom prst="rect">
                    <a:avLst/>
                  </a:prstGeom>
                  <a:solidFill>
                    <a:srgbClr val="a7ccd9">
                      <a:alpha val="50000"/>
                    </a:srgbClr>
                  </a:solidFill>
                  <a:ln w="9360">
                    <a:solidFill>
                      <a:srgbClr val="54547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34" name=""/>
                <p:cNvSpPr/>
                <p:nvPr/>
              </p:nvSpPr>
              <p:spPr>
                <a:xfrm>
                  <a:off x="2514600" y="1828800"/>
                  <a:ext cx="0" cy="4648320"/>
                </a:xfrm>
                <a:prstGeom prst="line">
                  <a:avLst/>
                </a:prstGeom>
                <a:ln w="63360">
                  <a:solidFill>
                    <a:srgbClr val="8888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4724280" y="1828800"/>
                  <a:ext cx="0" cy="4648320"/>
                </a:xfrm>
                <a:prstGeom prst="line">
                  <a:avLst/>
                </a:prstGeom>
                <a:ln w="63360">
                  <a:solidFill>
                    <a:srgbClr val="8888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5715000" y="1828800"/>
                  <a:ext cx="0" cy="4648320"/>
                </a:xfrm>
                <a:prstGeom prst="line">
                  <a:avLst/>
                </a:prstGeom>
                <a:ln w="63360">
                  <a:solidFill>
                    <a:srgbClr val="8888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 flipV="1">
                  <a:off x="990720" y="3048120"/>
                  <a:ext cx="7162560" cy="1440"/>
                </a:xfrm>
                <a:prstGeom prst="line">
                  <a:avLst/>
                </a:prstGeom>
                <a:ln w="63360">
                  <a:solidFill>
                    <a:srgbClr val="8888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 flipV="1">
                  <a:off x="990720" y="3656160"/>
                  <a:ext cx="7162560" cy="1440"/>
                </a:xfrm>
                <a:prstGeom prst="line">
                  <a:avLst/>
                </a:prstGeom>
                <a:ln w="63360">
                  <a:solidFill>
                    <a:srgbClr val="8888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 flipV="1">
                  <a:off x="990720" y="4265640"/>
                  <a:ext cx="7162560" cy="1440"/>
                </a:xfrm>
                <a:prstGeom prst="line">
                  <a:avLst/>
                </a:prstGeom>
                <a:ln w="63360">
                  <a:solidFill>
                    <a:srgbClr val="8888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 flipV="1">
                  <a:off x="990720" y="4874760"/>
                  <a:ext cx="7162560" cy="1800"/>
                </a:xfrm>
                <a:prstGeom prst="line">
                  <a:avLst/>
                </a:prstGeom>
                <a:ln w="63360">
                  <a:solidFill>
                    <a:srgbClr val="8888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1" name=""/>
              <p:cNvSpPr/>
              <p:nvPr/>
            </p:nvSpPr>
            <p:spPr>
              <a:xfrm>
                <a:off x="2590920" y="2743200"/>
                <a:ext cx="5181480" cy="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666880" y="3352680"/>
                <a:ext cx="5105520" cy="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600200" y="5486400"/>
                <a:ext cx="6172200" cy="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2666880" y="3962520"/>
                <a:ext cx="1905120" cy="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5867280" y="3962520"/>
                <a:ext cx="1905120" cy="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2666880" y="4572000"/>
                <a:ext cx="1905120" cy="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5031000" y="255276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0066"/>
                    </a:solidFill>
                    <a:latin typeface="Courier New"/>
                  </a:rPr>
                  <a:t>I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031000" y="316224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0066"/>
                    </a:solidFill>
                    <a:latin typeface="Courier New"/>
                  </a:rPr>
                  <a:t>I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7088400" y="378144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0066"/>
                    </a:solidFill>
                    <a:latin typeface="Courier New"/>
                  </a:rPr>
                  <a:t>I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888000" y="377208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0066"/>
                    </a:solidFill>
                    <a:latin typeface="Courier New"/>
                  </a:rPr>
                  <a:t>I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659400" y="439092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0066"/>
                    </a:solidFill>
                    <a:latin typeface="Courier New"/>
                  </a:rPr>
                  <a:t>I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335920" y="3790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0066"/>
                    </a:solidFill>
                    <a:latin typeface="Courier New"/>
                  </a:rPr>
                  <a:t>I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2135520" y="259092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0066"/>
                    </a:solidFill>
                    <a:latin typeface="Courier New"/>
                  </a:rPr>
                  <a:t>I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135520" y="316224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0066"/>
                    </a:solidFill>
                    <a:latin typeface="Courier New"/>
                  </a:rPr>
                  <a:t>I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2135520" y="379404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0066"/>
                    </a:solidFill>
                    <a:latin typeface="Courier New"/>
                  </a:rPr>
                  <a:t>I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135520" y="440388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0066"/>
                    </a:solidFill>
                    <a:latin typeface="Courier New"/>
                  </a:rPr>
                  <a:t>I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flipV="1">
                <a:off x="3581280" y="5105520"/>
                <a:ext cx="1800" cy="83808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658" name=""/>
            <p:cNvSpPr/>
            <p:nvPr/>
          </p:nvSpPr>
          <p:spPr>
            <a:xfrm>
              <a:off x="1225800" y="2518560"/>
              <a:ext cx="307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597400" y="2518560"/>
              <a:ext cx="307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225800" y="3128040"/>
              <a:ext cx="307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597400" y="3128040"/>
              <a:ext cx="307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225800" y="3737880"/>
              <a:ext cx="307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597400" y="3737880"/>
              <a:ext cx="307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883400" y="3737880"/>
              <a:ext cx="307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874120" y="3737880"/>
              <a:ext cx="307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225800" y="4347360"/>
              <a:ext cx="307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597760" y="4347360"/>
              <a:ext cx="43380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226160" y="4956840"/>
              <a:ext cx="43380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D63C-ED93-4845-B2C9-657737B9FBCA}" type="slidenum">
              <a:t>1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796673-087D-43F6-91A7-CDCFE834510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termine Fill and Ancho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670" name=""/>
          <p:cNvGraphicFramePr/>
          <p:nvPr/>
        </p:nvGraphicFramePr>
        <p:xfrm>
          <a:off x="838080" y="1733400"/>
          <a:ext cx="7848720" cy="4395960"/>
        </p:xfrm>
        <a:graphic>
          <a:graphicData uri="http://schemas.openxmlformats.org/drawingml/2006/table">
            <a:tbl>
              <a:tblPr/>
              <a:tblGrid>
                <a:gridCol w="2057400"/>
                <a:gridCol w="533520"/>
                <a:gridCol w="533520"/>
                <a:gridCol w="533160"/>
                <a:gridCol w="457200"/>
                <a:gridCol w="533520"/>
                <a:gridCol w="533520"/>
                <a:gridCol w="533160"/>
                <a:gridCol w="533520"/>
                <a:gridCol w="457200"/>
                <a:gridCol w="533520"/>
                <a:gridCol w="609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ridx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ridy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ridWidth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ridHeight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fill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N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N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N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N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N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N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anchor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W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W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W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W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W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S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ipadx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ipady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inset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weightx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weighty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7713-954F-496F-9115-755BC7908AD8}" type="slidenum">
              <a:t>1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61DEE4-0FD8-49C1-90BA-81B04979346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t Spac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ipadx, ipady specify additional “preferred size” for the componen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omponent starts out that much bigger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insets reserves space (top, left, bottom, right) inside cell group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97BD-7C9D-400D-8128-42EC35CD2869}" type="slidenum">
              <a:t>1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8789C0-622B-4DAC-AFCA-0B824CB36F6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t Spac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990720" y="1828800"/>
            <a:ext cx="7162560" cy="4648320"/>
            <a:chOff x="990720" y="1828800"/>
            <a:chExt cx="7162560" cy="4648320"/>
          </a:xfrm>
        </p:grpSpPr>
        <p:grpSp>
          <p:nvGrpSpPr>
            <p:cNvPr id="675" name=""/>
            <p:cNvGrpSpPr/>
            <p:nvPr/>
          </p:nvGrpSpPr>
          <p:grpSpPr>
            <a:xfrm>
              <a:off x="990720" y="1828800"/>
              <a:ext cx="7162560" cy="4648320"/>
              <a:chOff x="990720" y="1828800"/>
              <a:chExt cx="7162560" cy="4648320"/>
            </a:xfrm>
          </p:grpSpPr>
          <p:grpSp>
            <p:nvGrpSpPr>
              <p:cNvPr id="676" name=""/>
              <p:cNvGrpSpPr/>
              <p:nvPr/>
            </p:nvGrpSpPr>
            <p:grpSpPr>
              <a:xfrm>
                <a:off x="990720" y="1828800"/>
                <a:ext cx="7162560" cy="4648320"/>
                <a:chOff x="990720" y="1828800"/>
                <a:chExt cx="7162560" cy="4648320"/>
              </a:xfrm>
            </p:grpSpPr>
            <p:grpSp>
              <p:nvGrpSpPr>
                <p:cNvPr id="677" name=""/>
                <p:cNvGrpSpPr/>
                <p:nvPr/>
              </p:nvGrpSpPr>
              <p:grpSpPr>
                <a:xfrm>
                  <a:off x="1152360" y="2057400"/>
                  <a:ext cx="6837480" cy="4000680"/>
                  <a:chOff x="1152360" y="2057400"/>
                  <a:chExt cx="6837480" cy="4000680"/>
                </a:xfrm>
              </p:grpSpPr>
              <p:pic>
                <p:nvPicPr>
                  <p:cNvPr id="678" name="gridbag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2360" y="2057400"/>
                    <a:ext cx="6837480" cy="4000680"/>
                  </a:xfrm>
                  <a:prstGeom prst="rect">
                    <a:avLst/>
                  </a:prstGeom>
                  <a:ln w="9360">
                    <a:solidFill>
                      <a:srgbClr val="545472"/>
                    </a:solidFill>
                    <a:miter/>
                  </a:ln>
                </p:spPr>
              </p:pic>
              <p:sp>
                <p:nvSpPr>
                  <p:cNvPr id="679" name=""/>
                  <p:cNvSpPr/>
                  <p:nvPr/>
                </p:nvSpPr>
                <p:spPr>
                  <a:xfrm>
                    <a:off x="5638680" y="5410080"/>
                    <a:ext cx="2210040" cy="533520"/>
                  </a:xfrm>
                  <a:prstGeom prst="rect">
                    <a:avLst/>
                  </a:prstGeom>
                  <a:solidFill>
                    <a:srgbClr val="a7ccd9">
                      <a:alpha val="50000"/>
                    </a:srgbClr>
                  </a:solidFill>
                  <a:ln w="9360">
                    <a:solidFill>
                      <a:srgbClr val="54547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80" name=""/>
                <p:cNvSpPr/>
                <p:nvPr/>
              </p:nvSpPr>
              <p:spPr>
                <a:xfrm>
                  <a:off x="2514600" y="1828800"/>
                  <a:ext cx="0" cy="4648320"/>
                </a:xfrm>
                <a:prstGeom prst="line">
                  <a:avLst/>
                </a:prstGeom>
                <a:ln w="63360">
                  <a:solidFill>
                    <a:srgbClr val="8888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4724280" y="1828800"/>
                  <a:ext cx="0" cy="4648320"/>
                </a:xfrm>
                <a:prstGeom prst="line">
                  <a:avLst/>
                </a:prstGeom>
                <a:ln w="63360">
                  <a:solidFill>
                    <a:srgbClr val="8888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5715000" y="1828800"/>
                  <a:ext cx="0" cy="4648320"/>
                </a:xfrm>
                <a:prstGeom prst="line">
                  <a:avLst/>
                </a:prstGeom>
                <a:ln w="63360">
                  <a:solidFill>
                    <a:srgbClr val="8888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 flipV="1">
                  <a:off x="990720" y="3048120"/>
                  <a:ext cx="7162560" cy="1440"/>
                </a:xfrm>
                <a:prstGeom prst="line">
                  <a:avLst/>
                </a:prstGeom>
                <a:ln w="63360">
                  <a:solidFill>
                    <a:srgbClr val="8888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 flipV="1">
                  <a:off x="990720" y="3656160"/>
                  <a:ext cx="7162560" cy="1440"/>
                </a:xfrm>
                <a:prstGeom prst="line">
                  <a:avLst/>
                </a:prstGeom>
                <a:ln w="63360">
                  <a:solidFill>
                    <a:srgbClr val="8888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 flipV="1">
                  <a:off x="990720" y="4265640"/>
                  <a:ext cx="7162560" cy="1440"/>
                </a:xfrm>
                <a:prstGeom prst="line">
                  <a:avLst/>
                </a:prstGeom>
                <a:ln w="63360">
                  <a:solidFill>
                    <a:srgbClr val="8888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 flipV="1">
                  <a:off x="990720" y="4874760"/>
                  <a:ext cx="7162560" cy="1800"/>
                </a:xfrm>
                <a:prstGeom prst="line">
                  <a:avLst/>
                </a:prstGeom>
                <a:ln w="63360">
                  <a:solidFill>
                    <a:srgbClr val="8888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7" name=""/>
              <p:cNvSpPr/>
              <p:nvPr/>
            </p:nvSpPr>
            <p:spPr>
              <a:xfrm>
                <a:off x="2590920" y="2743200"/>
                <a:ext cx="5181480" cy="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666880" y="3352680"/>
                <a:ext cx="5105520" cy="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600200" y="5486400"/>
                <a:ext cx="6172200" cy="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666880" y="3962520"/>
                <a:ext cx="1905120" cy="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867280" y="3962520"/>
                <a:ext cx="1905120" cy="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2666880" y="4572000"/>
                <a:ext cx="1905120" cy="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031000" y="255276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0066"/>
                    </a:solidFill>
                    <a:latin typeface="Courier New"/>
                  </a:rPr>
                  <a:t>I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031000" y="316224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0066"/>
                    </a:solidFill>
                    <a:latin typeface="Courier New"/>
                  </a:rPr>
                  <a:t>I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7088400" y="378144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0066"/>
                    </a:solidFill>
                    <a:latin typeface="Courier New"/>
                  </a:rPr>
                  <a:t>I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888000" y="377208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0066"/>
                    </a:solidFill>
                    <a:latin typeface="Courier New"/>
                  </a:rPr>
                  <a:t>I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3659400" y="439092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0066"/>
                    </a:solidFill>
                    <a:latin typeface="Courier New"/>
                  </a:rPr>
                  <a:t>I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335920" y="3790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0066"/>
                    </a:solidFill>
                    <a:latin typeface="Courier New"/>
                  </a:rPr>
                  <a:t>I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135520" y="259092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0066"/>
                    </a:solidFill>
                    <a:latin typeface="Courier New"/>
                  </a:rPr>
                  <a:t>I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2135520" y="316224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0066"/>
                    </a:solidFill>
                    <a:latin typeface="Courier New"/>
                  </a:rPr>
                  <a:t>I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2135520" y="379404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0066"/>
                    </a:solidFill>
                    <a:latin typeface="Courier New"/>
                  </a:rPr>
                  <a:t>I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2135520" y="440388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0066"/>
                    </a:solidFill>
                    <a:latin typeface="Courier New"/>
                  </a:rPr>
                  <a:t>I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V="1">
                <a:off x="3581280" y="5105520"/>
                <a:ext cx="1800" cy="83808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704" name=""/>
            <p:cNvSpPr/>
            <p:nvPr/>
          </p:nvSpPr>
          <p:spPr>
            <a:xfrm>
              <a:off x="1225800" y="2518560"/>
              <a:ext cx="307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597400" y="2518560"/>
              <a:ext cx="307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25800" y="3128040"/>
              <a:ext cx="307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597400" y="3128040"/>
              <a:ext cx="307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25800" y="3737880"/>
              <a:ext cx="307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597400" y="3737880"/>
              <a:ext cx="307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883400" y="3737880"/>
              <a:ext cx="307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874120" y="3737880"/>
              <a:ext cx="307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225800" y="4347360"/>
              <a:ext cx="307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597760" y="4347360"/>
              <a:ext cx="43380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226160" y="4956840"/>
              <a:ext cx="43380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13F0-8CCA-4606-9E6D-432794879603}" type="slidenum">
              <a:t>1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FFA6D5-37DB-4BA8-9ACD-081BF08421F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t Spac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716" name=""/>
          <p:cNvGraphicFramePr/>
          <p:nvPr/>
        </p:nvGraphicFramePr>
        <p:xfrm>
          <a:off x="838080" y="1733400"/>
          <a:ext cx="7848720" cy="4395960"/>
        </p:xfrm>
        <a:graphic>
          <a:graphicData uri="http://schemas.openxmlformats.org/drawingml/2006/table">
            <a:tbl>
              <a:tblPr/>
              <a:tblGrid>
                <a:gridCol w="2057400"/>
                <a:gridCol w="533520"/>
                <a:gridCol w="533520"/>
                <a:gridCol w="533160"/>
                <a:gridCol w="457200"/>
                <a:gridCol w="533520"/>
                <a:gridCol w="533520"/>
                <a:gridCol w="533160"/>
                <a:gridCol w="533520"/>
                <a:gridCol w="457200"/>
                <a:gridCol w="533520"/>
                <a:gridCol w="609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ridx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ridy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ridWidth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ridHeight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fill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N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N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N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N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N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N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anchor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W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W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W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W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W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S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ipadx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ipady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inset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weightx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weighty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64A4-6A66-419B-9436-CC8AA53719A5}" type="slidenum">
              <a:t>1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F7B897-52E3-436B-8807-107E915D1D2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termine Weigh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weightx, weighty specify how additional space (over preferredSize) should be allocated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Ratio of all components spanning a row or column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an be any number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1770-DEC9-4D55-8473-32EFAC97558C}" type="slidenum">
              <a:t>1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6E2D54-C76B-4A6B-A757-686D4568BED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termine Weigh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990720" y="1828800"/>
            <a:ext cx="7162560" cy="4648320"/>
            <a:chOff x="990720" y="1828800"/>
            <a:chExt cx="7162560" cy="4648320"/>
          </a:xfrm>
        </p:grpSpPr>
        <p:grpSp>
          <p:nvGrpSpPr>
            <p:cNvPr id="721" name=""/>
            <p:cNvGrpSpPr/>
            <p:nvPr/>
          </p:nvGrpSpPr>
          <p:grpSpPr>
            <a:xfrm>
              <a:off x="990720" y="1828800"/>
              <a:ext cx="7162560" cy="4648320"/>
              <a:chOff x="990720" y="1828800"/>
              <a:chExt cx="7162560" cy="4648320"/>
            </a:xfrm>
          </p:grpSpPr>
          <p:grpSp>
            <p:nvGrpSpPr>
              <p:cNvPr id="722" name=""/>
              <p:cNvGrpSpPr/>
              <p:nvPr/>
            </p:nvGrpSpPr>
            <p:grpSpPr>
              <a:xfrm>
                <a:off x="990720" y="1828800"/>
                <a:ext cx="7162560" cy="4648320"/>
                <a:chOff x="990720" y="1828800"/>
                <a:chExt cx="7162560" cy="4648320"/>
              </a:xfrm>
            </p:grpSpPr>
            <p:grpSp>
              <p:nvGrpSpPr>
                <p:cNvPr id="723" name=""/>
                <p:cNvGrpSpPr/>
                <p:nvPr/>
              </p:nvGrpSpPr>
              <p:grpSpPr>
                <a:xfrm>
                  <a:off x="1152360" y="2057400"/>
                  <a:ext cx="6837480" cy="4000680"/>
                  <a:chOff x="1152360" y="2057400"/>
                  <a:chExt cx="6837480" cy="4000680"/>
                </a:xfrm>
              </p:grpSpPr>
              <p:pic>
                <p:nvPicPr>
                  <p:cNvPr id="724" name="gridbag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2360" y="2057400"/>
                    <a:ext cx="6837480" cy="4000680"/>
                  </a:xfrm>
                  <a:prstGeom prst="rect">
                    <a:avLst/>
                  </a:prstGeom>
                  <a:ln w="9360">
                    <a:solidFill>
                      <a:srgbClr val="545472"/>
                    </a:solidFill>
                    <a:miter/>
                  </a:ln>
                </p:spPr>
              </p:pic>
              <p:sp>
                <p:nvSpPr>
                  <p:cNvPr id="725" name=""/>
                  <p:cNvSpPr/>
                  <p:nvPr/>
                </p:nvSpPr>
                <p:spPr>
                  <a:xfrm>
                    <a:off x="5638680" y="5410080"/>
                    <a:ext cx="2210040" cy="533520"/>
                  </a:xfrm>
                  <a:prstGeom prst="rect">
                    <a:avLst/>
                  </a:prstGeom>
                  <a:solidFill>
                    <a:srgbClr val="a7ccd9">
                      <a:alpha val="50000"/>
                    </a:srgbClr>
                  </a:solidFill>
                  <a:ln w="9360">
                    <a:solidFill>
                      <a:srgbClr val="54547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26" name=""/>
                <p:cNvSpPr/>
                <p:nvPr/>
              </p:nvSpPr>
              <p:spPr>
                <a:xfrm>
                  <a:off x="2514600" y="1828800"/>
                  <a:ext cx="0" cy="4648320"/>
                </a:xfrm>
                <a:prstGeom prst="line">
                  <a:avLst/>
                </a:prstGeom>
                <a:ln w="63360">
                  <a:solidFill>
                    <a:srgbClr val="8888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4724280" y="1828800"/>
                  <a:ext cx="0" cy="4648320"/>
                </a:xfrm>
                <a:prstGeom prst="line">
                  <a:avLst/>
                </a:prstGeom>
                <a:ln w="63360">
                  <a:solidFill>
                    <a:srgbClr val="8888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5715000" y="1828800"/>
                  <a:ext cx="0" cy="4648320"/>
                </a:xfrm>
                <a:prstGeom prst="line">
                  <a:avLst/>
                </a:prstGeom>
                <a:ln w="63360">
                  <a:solidFill>
                    <a:srgbClr val="8888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 flipV="1">
                  <a:off x="990720" y="3048120"/>
                  <a:ext cx="7162560" cy="1440"/>
                </a:xfrm>
                <a:prstGeom prst="line">
                  <a:avLst/>
                </a:prstGeom>
                <a:ln w="63360">
                  <a:solidFill>
                    <a:srgbClr val="8888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 flipV="1">
                  <a:off x="990720" y="3656160"/>
                  <a:ext cx="7162560" cy="1440"/>
                </a:xfrm>
                <a:prstGeom prst="line">
                  <a:avLst/>
                </a:prstGeom>
                <a:ln w="63360">
                  <a:solidFill>
                    <a:srgbClr val="8888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 flipV="1">
                  <a:off x="990720" y="4265640"/>
                  <a:ext cx="7162560" cy="1440"/>
                </a:xfrm>
                <a:prstGeom prst="line">
                  <a:avLst/>
                </a:prstGeom>
                <a:ln w="63360">
                  <a:solidFill>
                    <a:srgbClr val="8888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 flipV="1">
                  <a:off x="990720" y="4874760"/>
                  <a:ext cx="7162560" cy="1800"/>
                </a:xfrm>
                <a:prstGeom prst="line">
                  <a:avLst/>
                </a:prstGeom>
                <a:ln w="63360">
                  <a:solidFill>
                    <a:srgbClr val="8888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3" name=""/>
              <p:cNvSpPr/>
              <p:nvPr/>
            </p:nvSpPr>
            <p:spPr>
              <a:xfrm>
                <a:off x="2590920" y="2743200"/>
                <a:ext cx="5181480" cy="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2666880" y="3352680"/>
                <a:ext cx="5105520" cy="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1600200" y="5486400"/>
                <a:ext cx="6172200" cy="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2666880" y="3962520"/>
                <a:ext cx="1905120" cy="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867280" y="3962520"/>
                <a:ext cx="1905120" cy="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2666880" y="4572000"/>
                <a:ext cx="1905120" cy="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031000" y="255276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0066"/>
                    </a:solidFill>
                    <a:latin typeface="Courier New"/>
                  </a:rPr>
                  <a:t>I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031000" y="316224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0066"/>
                    </a:solidFill>
                    <a:latin typeface="Courier New"/>
                  </a:rPr>
                  <a:t>I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088400" y="378144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0066"/>
                    </a:solidFill>
                    <a:latin typeface="Courier New"/>
                  </a:rPr>
                  <a:t>I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3888000" y="377208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0066"/>
                    </a:solidFill>
                    <a:latin typeface="Courier New"/>
                  </a:rPr>
                  <a:t>I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3659400" y="439092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0066"/>
                    </a:solidFill>
                    <a:latin typeface="Courier New"/>
                  </a:rPr>
                  <a:t>I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335920" y="3790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0066"/>
                    </a:solidFill>
                    <a:latin typeface="Courier New"/>
                  </a:rPr>
                  <a:t>I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2135520" y="259092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0066"/>
                    </a:solidFill>
                    <a:latin typeface="Courier New"/>
                  </a:rPr>
                  <a:t>I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2135520" y="316224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0066"/>
                    </a:solidFill>
                    <a:latin typeface="Courier New"/>
                  </a:rPr>
                  <a:t>I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2135520" y="379404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0066"/>
                    </a:solidFill>
                    <a:latin typeface="Courier New"/>
                  </a:rPr>
                  <a:t>I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135520" y="440388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0066"/>
                    </a:solidFill>
                    <a:latin typeface="Courier New"/>
                  </a:rPr>
                  <a:t>I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V="1">
                <a:off x="3581280" y="5105520"/>
                <a:ext cx="1800" cy="83808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750" name=""/>
            <p:cNvSpPr/>
            <p:nvPr/>
          </p:nvSpPr>
          <p:spPr>
            <a:xfrm>
              <a:off x="1225800" y="2518560"/>
              <a:ext cx="307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597400" y="2518560"/>
              <a:ext cx="307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225800" y="3128040"/>
              <a:ext cx="307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597400" y="3128040"/>
              <a:ext cx="307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225800" y="3737880"/>
              <a:ext cx="307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597400" y="3737880"/>
              <a:ext cx="307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883400" y="3737880"/>
              <a:ext cx="307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874120" y="3737880"/>
              <a:ext cx="307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225800" y="4347360"/>
              <a:ext cx="307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597760" y="4347360"/>
              <a:ext cx="43380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226160" y="4956840"/>
              <a:ext cx="43380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A9AA-FC0C-4A76-945C-ABD3D1A290DE}" type="slidenum">
              <a:t>1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A64DF4-CA36-45E1-AAC2-933D479772D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UI Sin #2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ssuming Look and Fe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Looks good on </a:t>
            </a:r>
            <a:r>
              <a:rPr b="0" lang="en-US" sz="3200" spc="-1" strike="noStrike">
                <a:solidFill>
                  <a:srgbClr val="8888ae"/>
                </a:solidFill>
                <a:latin typeface="Tahoma"/>
              </a:rPr>
              <a:t>my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machine…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I assume Windows L&amp;F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69" name="sin2a" descr=""/>
          <p:cNvPicPr/>
          <p:nvPr/>
        </p:nvPicPr>
        <p:blipFill>
          <a:blip r:embed="rId4"/>
          <a:stretch/>
        </p:blipFill>
        <p:spPr>
          <a:xfrm>
            <a:off x="2679840" y="2773440"/>
            <a:ext cx="3784320" cy="2636640"/>
          </a:xfrm>
          <a:prstGeom prst="rect">
            <a:avLst/>
          </a:prstGeom>
          <a:ln w="9360">
            <a:solidFill>
              <a:srgbClr val="545472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0053-35A4-4F96-A7EC-A80914B81BA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09F4ED-D53A-49D9-BD5F-AA1765DB786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termine Weigh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762" name=""/>
          <p:cNvGraphicFramePr/>
          <p:nvPr/>
        </p:nvGraphicFramePr>
        <p:xfrm>
          <a:off x="838080" y="1733400"/>
          <a:ext cx="7848720" cy="4395960"/>
        </p:xfrm>
        <a:graphic>
          <a:graphicData uri="http://schemas.openxmlformats.org/drawingml/2006/table">
            <a:tbl>
              <a:tblPr/>
              <a:tblGrid>
                <a:gridCol w="2057400"/>
                <a:gridCol w="533520"/>
                <a:gridCol w="533520"/>
                <a:gridCol w="533160"/>
                <a:gridCol w="457200"/>
                <a:gridCol w="533520"/>
                <a:gridCol w="533520"/>
                <a:gridCol w="533160"/>
                <a:gridCol w="533520"/>
                <a:gridCol w="457200"/>
                <a:gridCol w="533520"/>
                <a:gridCol w="609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ridx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ridy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ridWidth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ridHeight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fill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N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N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N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N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N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N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anchor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W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W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W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W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W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S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ipadx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ipady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inset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weightx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weighty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2064-331A-4EFB-9862-4A0D0CB38C16}" type="slidenum">
              <a:t>1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11B707-FAD6-4FC9-8A1E-1484BD92A5A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ample GridBag Co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GridBagConstraints gbc </a:t>
            </a: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=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7c7df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GridBagConstraints();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gbc</a:t>
            </a: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.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gridx </a:t>
            </a: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=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gbc</a:t>
            </a: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.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gridy = </a:t>
            </a: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gbc</a:t>
            </a: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.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gridwidth  </a:t>
            </a: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=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3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gbc</a:t>
            </a: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.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gridheight </a:t>
            </a: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=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gbc</a:t>
            </a: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.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anchor </a:t>
            </a: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=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GridBagConstraints</a:t>
            </a: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.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CENTER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gbc</a:t>
            </a: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.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fill   </a:t>
            </a: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=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GridBagConstraints</a:t>
            </a: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.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HORIZONTAL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gbc</a:t>
            </a: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.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ipadx  </a:t>
            </a: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=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gbc</a:t>
            </a: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.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ipady </a:t>
            </a: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= 0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gbc</a:t>
            </a: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.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insets </a:t>
            </a: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=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c7c7df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Insets(</a:t>
            </a: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0,0,0,0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)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gbc</a:t>
            </a: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.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weightx </a:t>
            </a: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=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gbc</a:t>
            </a: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.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weighty </a:t>
            </a: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=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0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;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Panel p </a:t>
            </a: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=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new Panel(</a:t>
            </a:r>
            <a:r>
              <a:rPr b="1" lang="en-US" sz="1800" spc="-1" strike="noStrike">
                <a:solidFill>
                  <a:srgbClr val="c7c7df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GridBagLayout())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p</a:t>
            </a: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.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add(</a:t>
            </a:r>
            <a:r>
              <a:rPr b="1" lang="en-US" sz="1800" spc="-1" strike="noStrike">
                <a:solidFill>
                  <a:srgbClr val="c7c7df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TextField(), gbc); </a:t>
            </a:r>
            <a:r>
              <a:rPr b="1" lang="en-US" sz="1800" spc="-1" strike="noStrike">
                <a:solidFill>
                  <a:srgbClr val="660066"/>
                </a:solidFill>
                <a:latin typeface="Courier New"/>
              </a:rPr>
              <a:t>// that’s </a:t>
            </a:r>
            <a:r>
              <a:rPr b="1" i="1" lang="en-US" sz="1800" spc="-1" strike="noStrike">
                <a:solidFill>
                  <a:srgbClr val="660066"/>
                </a:solidFill>
                <a:latin typeface="Courier New"/>
              </a:rPr>
              <a:t>one</a:t>
            </a:r>
            <a:r>
              <a:rPr b="1" lang="en-US" sz="1800" spc="-1" strike="noStrike">
                <a:solidFill>
                  <a:srgbClr val="660066"/>
                </a:solidFill>
                <a:latin typeface="Courier New"/>
              </a:rPr>
              <a:t>!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B55A-220C-47D4-8802-0B08276BD7D7}" type="slidenum">
              <a:t>1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AAA72B-7DE9-41E9-8030-596AED92DC8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ample Layout Desig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766" name="ftp1" descr=""/>
          <p:cNvPicPr/>
          <p:nvPr/>
        </p:nvPicPr>
        <p:blipFill>
          <a:blip r:embed="rId2"/>
          <a:stretch/>
        </p:blipFill>
        <p:spPr>
          <a:xfrm>
            <a:off x="2165400" y="1893960"/>
            <a:ext cx="4692600" cy="4278240"/>
          </a:xfrm>
          <a:prstGeom prst="rect">
            <a:avLst/>
          </a:prstGeom>
          <a:ln w="9360">
            <a:solidFill>
              <a:srgbClr val="545472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D666-EB69-4D7B-83E9-A9BC2C7F7BED}" type="slidenum">
              <a:t>13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131EE4-1810-4088-B784-4D9922A0932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atch for Commonality!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768" name="ftp1" descr=""/>
          <p:cNvPicPr/>
          <p:nvPr/>
        </p:nvPicPr>
        <p:blipFill>
          <a:blip r:embed="rId2"/>
          <a:stretch/>
        </p:blipFill>
        <p:spPr>
          <a:xfrm>
            <a:off x="2122560" y="1893960"/>
            <a:ext cx="4692600" cy="4278240"/>
          </a:xfrm>
          <a:prstGeom prst="rect">
            <a:avLst/>
          </a:prstGeom>
          <a:ln w="9360">
            <a:solidFill>
              <a:srgbClr val="545472"/>
            </a:solidFill>
            <a:miter/>
          </a:ln>
        </p:spPr>
      </p:pic>
      <p:sp>
        <p:nvSpPr>
          <p:cNvPr id="769" name=""/>
          <p:cNvSpPr/>
          <p:nvPr/>
        </p:nvSpPr>
        <p:spPr>
          <a:xfrm>
            <a:off x="2090880" y="2122560"/>
            <a:ext cx="2243160" cy="3135240"/>
          </a:xfrm>
          <a:prstGeom prst="rect">
            <a:avLst/>
          </a:prstGeom>
          <a:solidFill>
            <a:srgbClr val="660066">
              <a:alpha val="50000"/>
            </a:srgbClr>
          </a:solidFill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572000" y="2133720"/>
            <a:ext cx="2176560" cy="3124080"/>
          </a:xfrm>
          <a:prstGeom prst="rect">
            <a:avLst/>
          </a:prstGeom>
          <a:solidFill>
            <a:srgbClr val="660066">
              <a:alpha val="50000"/>
            </a:srgbClr>
          </a:solidFill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F942-ABAE-43C8-8A31-A89D779A0418}" type="slidenum">
              <a:t>13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9E2985-280E-4201-8047-64C29780DCF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FileDispla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10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Annotate the drawing with resize info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en examine the edges…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grpSp>
        <p:nvGrpSpPr>
          <p:cNvPr id="773" name=""/>
          <p:cNvGrpSpPr/>
          <p:nvPr/>
        </p:nvGrpSpPr>
        <p:grpSpPr>
          <a:xfrm>
            <a:off x="6324480" y="2562120"/>
            <a:ext cx="2038320" cy="3024360"/>
            <a:chOff x="6324480" y="2562120"/>
            <a:chExt cx="2038320" cy="3024360"/>
          </a:xfrm>
        </p:grpSpPr>
        <p:pic>
          <p:nvPicPr>
            <p:cNvPr id="774" name="ftp2" descr=""/>
            <p:cNvPicPr/>
            <p:nvPr/>
          </p:nvPicPr>
          <p:blipFill>
            <a:blip r:embed="rId4"/>
            <a:stretch/>
          </p:blipFill>
          <p:spPr>
            <a:xfrm>
              <a:off x="6324480" y="2643120"/>
              <a:ext cx="2038320" cy="2943360"/>
            </a:xfrm>
            <a:prstGeom prst="rect">
              <a:avLst/>
            </a:prstGeom>
            <a:ln w="9360">
              <a:solidFill>
                <a:srgbClr val="545472"/>
              </a:solidFill>
              <a:miter/>
            </a:ln>
          </p:spPr>
        </p:pic>
        <p:sp>
          <p:nvSpPr>
            <p:cNvPr id="775" name=""/>
            <p:cNvSpPr/>
            <p:nvPr/>
          </p:nvSpPr>
          <p:spPr>
            <a:xfrm>
              <a:off x="7315200" y="2743200"/>
              <a:ext cx="91440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934320" y="2971800"/>
              <a:ext cx="91440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705720" y="4114800"/>
              <a:ext cx="91440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7162920" y="3581280"/>
              <a:ext cx="0" cy="106704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8048520" y="5086440"/>
              <a:ext cx="0" cy="45720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002800" y="30002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8002800" y="32004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8002800" y="34290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8002800" y="36576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8002800" y="3878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8002800" y="41148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8002800" y="43275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8002800" y="45147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8002800" y="47433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621920" y="25621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202520" y="27939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rot="16200000">
              <a:off x="7900560" y="5102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AECA-9C04-4DE0-9112-1B1FFDA35624}" type="slidenum">
              <a:t>1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5676D6-C154-467F-875E-A5CFC929236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"/>
          <p:cNvGrpSpPr/>
          <p:nvPr/>
        </p:nvGrpSpPr>
        <p:grpSpPr>
          <a:xfrm>
            <a:off x="6324480" y="2562120"/>
            <a:ext cx="2038320" cy="3024360"/>
            <a:chOff x="6324480" y="2562120"/>
            <a:chExt cx="2038320" cy="3024360"/>
          </a:xfrm>
        </p:grpSpPr>
        <p:pic>
          <p:nvPicPr>
            <p:cNvPr id="793" name="ftp2" descr=""/>
            <p:cNvPicPr/>
            <p:nvPr/>
          </p:nvPicPr>
          <p:blipFill>
            <a:blip r:embed="rId2"/>
            <a:stretch/>
          </p:blipFill>
          <p:spPr>
            <a:xfrm>
              <a:off x="6324480" y="2643120"/>
              <a:ext cx="2038320" cy="2943360"/>
            </a:xfrm>
            <a:prstGeom prst="rect">
              <a:avLst/>
            </a:prstGeom>
            <a:ln w="9360">
              <a:solidFill>
                <a:srgbClr val="545472"/>
              </a:solidFill>
              <a:miter/>
            </a:ln>
          </p:spPr>
        </p:pic>
        <p:sp>
          <p:nvSpPr>
            <p:cNvPr id="794" name=""/>
            <p:cNvSpPr/>
            <p:nvPr/>
          </p:nvSpPr>
          <p:spPr>
            <a:xfrm>
              <a:off x="7315200" y="2743200"/>
              <a:ext cx="91440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934320" y="2971800"/>
              <a:ext cx="91440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705720" y="4114800"/>
              <a:ext cx="91440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V="1">
              <a:off x="7162920" y="3581280"/>
              <a:ext cx="0" cy="106704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>
              <a:off x="8048520" y="5086440"/>
              <a:ext cx="0" cy="45720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8002800" y="30002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8002800" y="32004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8002800" y="34290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8002800" y="36576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8002800" y="3878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8002800" y="41148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8002800" y="43275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8002800" y="45147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8002800" y="47433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621920" y="25621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202520" y="27939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rot="16200000">
              <a:off x="7900560" y="5102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811" name=""/>
          <p:cNvSpPr/>
          <p:nvPr/>
        </p:nvSpPr>
        <p:spPr>
          <a:xfrm>
            <a:off x="6324480" y="3124080"/>
            <a:ext cx="1371600" cy="2514600"/>
          </a:xfrm>
          <a:prstGeom prst="rect">
            <a:avLst/>
          </a:prstGeom>
          <a:solidFill>
            <a:srgbClr val="660066">
              <a:alpha val="50000"/>
            </a:srgbClr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324480" y="2590920"/>
            <a:ext cx="2057400" cy="533160"/>
          </a:xfrm>
          <a:prstGeom prst="rect">
            <a:avLst/>
          </a:prstGeom>
          <a:solidFill>
            <a:srgbClr val="a7ccd9">
              <a:alpha val="50000"/>
            </a:srgbClr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7696080" y="3124080"/>
            <a:ext cx="685800" cy="2514600"/>
          </a:xfrm>
          <a:prstGeom prst="rect">
            <a:avLst/>
          </a:prstGeom>
          <a:solidFill>
            <a:srgbClr val="8888ae">
              <a:alpha val="50000"/>
            </a:srgbClr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FileDispla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Examine the edges first…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Looks like a BorderLayout!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ccd9"/>
                </a:solidFill>
                <a:latin typeface="Tahoma"/>
              </a:rPr>
              <a:t>NORTH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Label, Directory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CENTER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le list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88ae"/>
                </a:solidFill>
                <a:latin typeface="Tahoma"/>
              </a:rPr>
              <a:t>EAST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Buttons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816" name=""/>
          <p:cNvSpPr/>
          <p:nvPr/>
        </p:nvSpPr>
        <p:spPr>
          <a:xfrm flipV="1">
            <a:off x="3048120" y="2895120"/>
            <a:ext cx="3276360" cy="381240"/>
          </a:xfrm>
          <a:prstGeom prst="line">
            <a:avLst/>
          </a:prstGeom>
          <a:ln w="38160">
            <a:solidFill>
              <a:srgbClr val="a7cc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048120" y="4038480"/>
            <a:ext cx="3276360" cy="7632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743200" y="4952880"/>
            <a:ext cx="5334120" cy="381240"/>
          </a:xfrm>
          <a:prstGeom prst="line">
            <a:avLst/>
          </a:prstGeom>
          <a:ln w="38160">
            <a:solidFill>
              <a:srgbClr val="888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E557-30CF-40D9-A9AF-147E6B2D7894}" type="slidenum">
              <a:t>1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BEF25B-8E20-4CB7-B986-452802AF30D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9" name=""/>
          <p:cNvGrpSpPr/>
          <p:nvPr/>
        </p:nvGrpSpPr>
        <p:grpSpPr>
          <a:xfrm>
            <a:off x="6324480" y="2562120"/>
            <a:ext cx="2038320" cy="3024360"/>
            <a:chOff x="6324480" y="2562120"/>
            <a:chExt cx="2038320" cy="3024360"/>
          </a:xfrm>
        </p:grpSpPr>
        <p:pic>
          <p:nvPicPr>
            <p:cNvPr id="820" name="ftp2" descr=""/>
            <p:cNvPicPr/>
            <p:nvPr/>
          </p:nvPicPr>
          <p:blipFill>
            <a:blip r:embed="rId2"/>
            <a:stretch/>
          </p:blipFill>
          <p:spPr>
            <a:xfrm>
              <a:off x="6324480" y="2643120"/>
              <a:ext cx="2038320" cy="2943360"/>
            </a:xfrm>
            <a:prstGeom prst="rect">
              <a:avLst/>
            </a:prstGeom>
            <a:ln w="9360">
              <a:solidFill>
                <a:srgbClr val="545472"/>
              </a:solidFill>
              <a:miter/>
            </a:ln>
          </p:spPr>
        </p:pic>
        <p:sp>
          <p:nvSpPr>
            <p:cNvPr id="821" name=""/>
            <p:cNvSpPr/>
            <p:nvPr/>
          </p:nvSpPr>
          <p:spPr>
            <a:xfrm>
              <a:off x="7315200" y="2743200"/>
              <a:ext cx="91440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934320" y="2971800"/>
              <a:ext cx="91440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705720" y="4114800"/>
              <a:ext cx="91440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7162920" y="3581280"/>
              <a:ext cx="0" cy="106704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V="1">
              <a:off x="8048520" y="5086440"/>
              <a:ext cx="0" cy="45720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8002800" y="30002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8002800" y="32004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8002800" y="34290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8002800" y="36576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8002800" y="3878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8002800" y="41148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2800" y="43275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8002800" y="45147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8002800" y="47433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621920" y="25621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202520" y="27939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rot="16200000">
              <a:off x="7900560" y="5102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838" name=""/>
          <p:cNvSpPr/>
          <p:nvPr/>
        </p:nvSpPr>
        <p:spPr>
          <a:xfrm>
            <a:off x="6324480" y="3124080"/>
            <a:ext cx="1371600" cy="2514600"/>
          </a:xfrm>
          <a:prstGeom prst="rect">
            <a:avLst/>
          </a:prstGeom>
          <a:solidFill>
            <a:srgbClr val="660066">
              <a:alpha val="50000"/>
            </a:srgbClr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324480" y="2590920"/>
            <a:ext cx="2057400" cy="533160"/>
          </a:xfrm>
          <a:prstGeom prst="rect">
            <a:avLst/>
          </a:prstGeom>
          <a:solidFill>
            <a:srgbClr val="a7ccd9">
              <a:alpha val="50000"/>
            </a:srgbClr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7696080" y="3124080"/>
            <a:ext cx="685800" cy="2514600"/>
          </a:xfrm>
          <a:prstGeom prst="rect">
            <a:avLst/>
          </a:prstGeom>
          <a:solidFill>
            <a:srgbClr val="8888ae">
              <a:alpha val="50000"/>
            </a:srgbClr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FileDispla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anel [Border]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7ccd9"/>
                </a:solidFill>
                <a:latin typeface="Tahoma"/>
              </a:rPr>
              <a:t>NORTH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=Panel [ ? ]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CENTER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=List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888ae"/>
                </a:solidFill>
                <a:latin typeface="Tahoma"/>
              </a:rPr>
              <a:t>EAST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=Panel [ ? ]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3A0D-AD47-435A-A0B8-5E02C552648C}" type="slidenum">
              <a:t>1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1DFA9F-F443-4839-97E3-F725F125F13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3" name=""/>
          <p:cNvGrpSpPr/>
          <p:nvPr/>
        </p:nvGrpSpPr>
        <p:grpSpPr>
          <a:xfrm>
            <a:off x="6324480" y="2562120"/>
            <a:ext cx="2038320" cy="3024360"/>
            <a:chOff x="6324480" y="2562120"/>
            <a:chExt cx="2038320" cy="3024360"/>
          </a:xfrm>
        </p:grpSpPr>
        <p:pic>
          <p:nvPicPr>
            <p:cNvPr id="844" name="ftp2" descr=""/>
            <p:cNvPicPr/>
            <p:nvPr/>
          </p:nvPicPr>
          <p:blipFill>
            <a:blip r:embed="rId2"/>
            <a:stretch/>
          </p:blipFill>
          <p:spPr>
            <a:xfrm>
              <a:off x="6324480" y="2643120"/>
              <a:ext cx="2038320" cy="2943360"/>
            </a:xfrm>
            <a:prstGeom prst="rect">
              <a:avLst/>
            </a:prstGeom>
            <a:ln w="9360">
              <a:solidFill>
                <a:srgbClr val="545472"/>
              </a:solidFill>
              <a:miter/>
            </a:ln>
          </p:spPr>
        </p:pic>
        <p:sp>
          <p:nvSpPr>
            <p:cNvPr id="845" name=""/>
            <p:cNvSpPr/>
            <p:nvPr/>
          </p:nvSpPr>
          <p:spPr>
            <a:xfrm>
              <a:off x="7315200" y="2743200"/>
              <a:ext cx="91440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934320" y="2971800"/>
              <a:ext cx="91440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705720" y="4114800"/>
              <a:ext cx="91440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7162920" y="3581280"/>
              <a:ext cx="0" cy="106704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V="1">
              <a:off x="8048520" y="5086440"/>
              <a:ext cx="0" cy="45720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8002800" y="30002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8002800" y="32004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8002800" y="34290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8002800" y="36576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8002800" y="3878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8002800" y="41148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8002800" y="43275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8002800" y="45147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8002800" y="47433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621920" y="25621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202520" y="27939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rot="16200000">
              <a:off x="7900560" y="5102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FileDispla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anel [Border]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7ccd9"/>
                </a:solidFill>
                <a:latin typeface="Tahoma"/>
              </a:rPr>
              <a:t>NORTH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=Panel [ ? ]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88ae"/>
                </a:solidFill>
                <a:latin typeface="Tahoma"/>
              </a:rPr>
              <a:t>Need fixed height for label and text field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88ae"/>
                </a:solidFill>
                <a:latin typeface="Tahoma"/>
              </a:rPr>
              <a:t>Sounds like another Border!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ENTER=List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EAST=Panel [ ? ]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4648320" y="2743200"/>
            <a:ext cx="1752480" cy="76320"/>
          </a:xfrm>
          <a:prstGeom prst="line">
            <a:avLst/>
          </a:prstGeom>
          <a:ln w="38160">
            <a:solidFill>
              <a:srgbClr val="888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V="1">
            <a:off x="5562720" y="2971440"/>
            <a:ext cx="761760" cy="304920"/>
          </a:xfrm>
          <a:prstGeom prst="line">
            <a:avLst/>
          </a:prstGeom>
          <a:ln w="38160">
            <a:solidFill>
              <a:srgbClr val="888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6248520" y="2590920"/>
            <a:ext cx="2133360" cy="533160"/>
          </a:xfrm>
          <a:prstGeom prst="rect">
            <a:avLst/>
          </a:prstGeom>
          <a:solidFill>
            <a:srgbClr val="a7ccd9">
              <a:alpha val="50000"/>
            </a:srgbClr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ED5B-61CD-4257-93B8-13C4C40F7E87}" type="slidenum">
              <a:t>1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7ACEBE-D07A-4F0D-A1E6-C61C8B8ED95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7" name=""/>
          <p:cNvGrpSpPr/>
          <p:nvPr/>
        </p:nvGrpSpPr>
        <p:grpSpPr>
          <a:xfrm>
            <a:off x="6324480" y="2562120"/>
            <a:ext cx="2038320" cy="3024360"/>
            <a:chOff x="6324480" y="2562120"/>
            <a:chExt cx="2038320" cy="3024360"/>
          </a:xfrm>
        </p:grpSpPr>
        <p:pic>
          <p:nvPicPr>
            <p:cNvPr id="868" name="ftp2" descr=""/>
            <p:cNvPicPr/>
            <p:nvPr/>
          </p:nvPicPr>
          <p:blipFill>
            <a:blip r:embed="rId2"/>
            <a:stretch/>
          </p:blipFill>
          <p:spPr>
            <a:xfrm>
              <a:off x="6324480" y="2643120"/>
              <a:ext cx="2038320" cy="2943360"/>
            </a:xfrm>
            <a:prstGeom prst="rect">
              <a:avLst/>
            </a:prstGeom>
            <a:ln w="9360">
              <a:solidFill>
                <a:srgbClr val="545472"/>
              </a:solidFill>
              <a:miter/>
            </a:ln>
          </p:spPr>
        </p:pic>
        <p:sp>
          <p:nvSpPr>
            <p:cNvPr id="869" name=""/>
            <p:cNvSpPr/>
            <p:nvPr/>
          </p:nvSpPr>
          <p:spPr>
            <a:xfrm>
              <a:off x="7315200" y="2743200"/>
              <a:ext cx="91440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34320" y="2971800"/>
              <a:ext cx="91440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705720" y="4114800"/>
              <a:ext cx="91440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V="1">
              <a:off x="7162920" y="3581280"/>
              <a:ext cx="0" cy="106704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V="1">
              <a:off x="8048520" y="5086440"/>
              <a:ext cx="0" cy="45720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8002800" y="30002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8002800" y="32004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8002800" y="34290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8002800" y="36576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8002800" y="3878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8002800" y="41148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8002800" y="43275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8002800" y="45147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8002800" y="47433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621920" y="25621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02520" y="27939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rot="16200000">
              <a:off x="7900560" y="5102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FileDispla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anel [Border]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NORTH=Panel [Border]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7c7df"/>
                </a:solidFill>
                <a:latin typeface="Tahoma"/>
              </a:rPr>
              <a:t>NORTH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=Lab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88ae"/>
                </a:solidFill>
                <a:latin typeface="Tahoma"/>
              </a:rPr>
              <a:t>SOUTH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=TextField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ENTER=List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EAST=Panel [ ? ]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888" name=""/>
          <p:cNvSpPr/>
          <p:nvPr/>
        </p:nvSpPr>
        <p:spPr>
          <a:xfrm>
            <a:off x="6248520" y="2590920"/>
            <a:ext cx="2133360" cy="304560"/>
          </a:xfrm>
          <a:prstGeom prst="rect">
            <a:avLst/>
          </a:prstGeom>
          <a:solidFill>
            <a:srgbClr val="c7c7df">
              <a:alpha val="50000"/>
            </a:srgbClr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248520" y="2895480"/>
            <a:ext cx="2133360" cy="228600"/>
          </a:xfrm>
          <a:prstGeom prst="rect">
            <a:avLst/>
          </a:prstGeom>
          <a:solidFill>
            <a:srgbClr val="8888ae">
              <a:alpha val="50000"/>
            </a:srgbClr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3962520" y="2743200"/>
            <a:ext cx="2286000" cy="533520"/>
          </a:xfrm>
          <a:prstGeom prst="line">
            <a:avLst/>
          </a:prstGeom>
          <a:ln w="38160">
            <a:solidFill>
              <a:srgbClr val="c7c7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V="1">
            <a:off x="4419720" y="2971440"/>
            <a:ext cx="1904760" cy="762120"/>
          </a:xfrm>
          <a:prstGeom prst="line">
            <a:avLst/>
          </a:prstGeom>
          <a:ln w="38160">
            <a:solidFill>
              <a:srgbClr val="888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7877-FF1D-4CDE-BF4F-5C12A7F1EB43}" type="slidenum">
              <a:t>1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1860AB-96D6-4643-B0A8-1CFEFC3E980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2" name=""/>
          <p:cNvGrpSpPr/>
          <p:nvPr/>
        </p:nvGrpSpPr>
        <p:grpSpPr>
          <a:xfrm>
            <a:off x="6324480" y="2562120"/>
            <a:ext cx="2038320" cy="3024360"/>
            <a:chOff x="6324480" y="2562120"/>
            <a:chExt cx="2038320" cy="3024360"/>
          </a:xfrm>
        </p:grpSpPr>
        <p:pic>
          <p:nvPicPr>
            <p:cNvPr id="893" name="ftp2" descr=""/>
            <p:cNvPicPr/>
            <p:nvPr/>
          </p:nvPicPr>
          <p:blipFill>
            <a:blip r:embed="rId2"/>
            <a:stretch/>
          </p:blipFill>
          <p:spPr>
            <a:xfrm>
              <a:off x="6324480" y="2643120"/>
              <a:ext cx="2038320" cy="2943360"/>
            </a:xfrm>
            <a:prstGeom prst="rect">
              <a:avLst/>
            </a:prstGeom>
            <a:ln w="9360">
              <a:solidFill>
                <a:srgbClr val="545472"/>
              </a:solidFill>
              <a:miter/>
            </a:ln>
          </p:spPr>
        </p:pic>
        <p:sp>
          <p:nvSpPr>
            <p:cNvPr id="894" name=""/>
            <p:cNvSpPr/>
            <p:nvPr/>
          </p:nvSpPr>
          <p:spPr>
            <a:xfrm>
              <a:off x="7315200" y="2743200"/>
              <a:ext cx="91440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934320" y="2971800"/>
              <a:ext cx="91440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705720" y="4114800"/>
              <a:ext cx="91440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7162920" y="3581280"/>
              <a:ext cx="0" cy="106704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V="1">
              <a:off x="8048520" y="5086440"/>
              <a:ext cx="0" cy="45720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8002800" y="30002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8002800" y="32004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8002800" y="34290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8002800" y="36576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8002800" y="3878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8002800" y="41148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8002800" y="43275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8002800" y="45147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8002800" y="47433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621920" y="25621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202520" y="27939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rot="16200000">
              <a:off x="7900560" y="5102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FileDispla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anel [Border]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NORTH=Panel [Border]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NORTH=Lab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SOUTH=TextField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ENTER=List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7ccd9"/>
                </a:solidFill>
                <a:latin typeface="Tahoma"/>
              </a:rPr>
              <a:t>EAST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=Panel [ ? ]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Buttons and TextField are fixed height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Sounds like Border again!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13" name=""/>
          <p:cNvSpPr/>
          <p:nvPr/>
        </p:nvSpPr>
        <p:spPr>
          <a:xfrm>
            <a:off x="7696080" y="3048120"/>
            <a:ext cx="685800" cy="2514600"/>
          </a:xfrm>
          <a:prstGeom prst="rect">
            <a:avLst/>
          </a:prstGeom>
          <a:solidFill>
            <a:srgbClr val="a7ccd9">
              <a:alpha val="50000"/>
            </a:srgbClr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7833-3FC2-4BAD-90EE-6561F4DAAA3B}" type="slidenum">
              <a:t>1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CA2AFF-DC51-4FD3-92FB-EDF0072A469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UI Sin #2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ssuming Look and Fe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But on </a:t>
            </a:r>
            <a:r>
              <a:rPr b="0" lang="en-US" sz="3200" spc="-1" strike="noStrike">
                <a:solidFill>
                  <a:srgbClr val="8888ae"/>
                </a:solidFill>
                <a:latin typeface="Tahoma"/>
              </a:rPr>
              <a:t>your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machine…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Motif L&amp;F has a big empty border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72" name="sin2b" descr=""/>
          <p:cNvPicPr/>
          <p:nvPr/>
        </p:nvPicPr>
        <p:blipFill>
          <a:blip r:embed="rId4"/>
          <a:stretch/>
        </p:blipFill>
        <p:spPr>
          <a:xfrm>
            <a:off x="2679840" y="2773440"/>
            <a:ext cx="3784320" cy="2636640"/>
          </a:xfrm>
          <a:prstGeom prst="rect">
            <a:avLst/>
          </a:prstGeom>
          <a:ln w="9360">
            <a:solidFill>
              <a:srgbClr val="545472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4D0A-8375-46D8-BEA5-89E82DD78FF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1C1BE5-32D7-46B1-B9FF-50EE354F7F3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4" name=""/>
          <p:cNvGrpSpPr/>
          <p:nvPr/>
        </p:nvGrpSpPr>
        <p:grpSpPr>
          <a:xfrm>
            <a:off x="6324480" y="2562120"/>
            <a:ext cx="2038320" cy="3024360"/>
            <a:chOff x="6324480" y="2562120"/>
            <a:chExt cx="2038320" cy="3024360"/>
          </a:xfrm>
        </p:grpSpPr>
        <p:pic>
          <p:nvPicPr>
            <p:cNvPr id="915" name="ftp2" descr=""/>
            <p:cNvPicPr/>
            <p:nvPr/>
          </p:nvPicPr>
          <p:blipFill>
            <a:blip r:embed="rId2"/>
            <a:stretch/>
          </p:blipFill>
          <p:spPr>
            <a:xfrm>
              <a:off x="6324480" y="2643120"/>
              <a:ext cx="2038320" cy="2943360"/>
            </a:xfrm>
            <a:prstGeom prst="rect">
              <a:avLst/>
            </a:prstGeom>
            <a:ln w="9360">
              <a:solidFill>
                <a:srgbClr val="545472"/>
              </a:solidFill>
              <a:miter/>
            </a:ln>
          </p:spPr>
        </p:pic>
        <p:sp>
          <p:nvSpPr>
            <p:cNvPr id="916" name=""/>
            <p:cNvSpPr/>
            <p:nvPr/>
          </p:nvSpPr>
          <p:spPr>
            <a:xfrm>
              <a:off x="7315200" y="2743200"/>
              <a:ext cx="91440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934320" y="2971800"/>
              <a:ext cx="91440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705720" y="4114800"/>
              <a:ext cx="91440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flipV="1">
              <a:off x="7162920" y="3581280"/>
              <a:ext cx="0" cy="106704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V="1">
              <a:off x="8048520" y="5086440"/>
              <a:ext cx="0" cy="45720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002800" y="30002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002800" y="32004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002800" y="34290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002800" y="36576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8002800" y="3878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8002800" y="41148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8002800" y="43275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8002800" y="45147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8002800" y="47433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621920" y="25621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202520" y="27939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rot="16200000">
              <a:off x="7900560" y="5102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FileDispla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anel [Border]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NORTH=Panel [Border]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NORTH=Lab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SOUTH=TextField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ENTER=List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EAST=Panel [ Border ]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ccd9"/>
                </a:solidFill>
                <a:latin typeface="Tahoma"/>
              </a:rPr>
              <a:t>NORTH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=Panel [ ? ]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888ae"/>
                </a:solidFill>
                <a:latin typeface="Tahoma"/>
              </a:rPr>
              <a:t>They’re all the same size…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35" name=""/>
          <p:cNvSpPr/>
          <p:nvPr/>
        </p:nvSpPr>
        <p:spPr>
          <a:xfrm>
            <a:off x="7696080" y="3048120"/>
            <a:ext cx="685800" cy="1981080"/>
          </a:xfrm>
          <a:prstGeom prst="rect">
            <a:avLst/>
          </a:prstGeom>
          <a:solidFill>
            <a:srgbClr val="a7ccd9">
              <a:alpha val="50000"/>
            </a:srgbClr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8991-4623-4CC5-ACFF-65296589B307}" type="slidenum">
              <a:t>1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1DC5A7-DEB8-44C6-A279-414F8F22A8D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"/>
          <p:cNvGrpSpPr/>
          <p:nvPr/>
        </p:nvGrpSpPr>
        <p:grpSpPr>
          <a:xfrm>
            <a:off x="6324480" y="2562120"/>
            <a:ext cx="2038320" cy="3024360"/>
            <a:chOff x="6324480" y="2562120"/>
            <a:chExt cx="2038320" cy="3024360"/>
          </a:xfrm>
        </p:grpSpPr>
        <p:pic>
          <p:nvPicPr>
            <p:cNvPr id="937" name="ftp2" descr=""/>
            <p:cNvPicPr/>
            <p:nvPr/>
          </p:nvPicPr>
          <p:blipFill>
            <a:blip r:embed="rId2"/>
            <a:stretch/>
          </p:blipFill>
          <p:spPr>
            <a:xfrm>
              <a:off x="6324480" y="2643120"/>
              <a:ext cx="2038320" cy="2943360"/>
            </a:xfrm>
            <a:prstGeom prst="rect">
              <a:avLst/>
            </a:prstGeom>
            <a:ln w="9360">
              <a:solidFill>
                <a:srgbClr val="545472"/>
              </a:solidFill>
              <a:miter/>
            </a:ln>
          </p:spPr>
        </p:pic>
        <p:sp>
          <p:nvSpPr>
            <p:cNvPr id="938" name=""/>
            <p:cNvSpPr/>
            <p:nvPr/>
          </p:nvSpPr>
          <p:spPr>
            <a:xfrm>
              <a:off x="7315200" y="2743200"/>
              <a:ext cx="91440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934320" y="2971800"/>
              <a:ext cx="91440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705720" y="4114800"/>
              <a:ext cx="91440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 flipV="1">
              <a:off x="7162920" y="3581280"/>
              <a:ext cx="0" cy="106704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 flipV="1">
              <a:off x="8048520" y="5086440"/>
              <a:ext cx="0" cy="45720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8002800" y="30002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8002800" y="32004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8002800" y="34290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8002800" y="36576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8002800" y="3878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8002800" y="41148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8002800" y="43275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8002800" y="45147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8002800" y="47433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621920" y="25621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202520" y="27939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rot="16200000">
              <a:off x="7900560" y="5102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FileDispla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anel [Border]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NORTH=Panel [Border]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NORTH=Lab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SOUTH=TextField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ENTER=List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EAST=Panel [ Border ]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ccd9"/>
                </a:solidFill>
                <a:latin typeface="Tahoma"/>
              </a:rPr>
              <a:t>NORTH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=Panel [ Grid(1,0) ]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Buttons, Text Field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57" name=""/>
          <p:cNvSpPr/>
          <p:nvPr/>
        </p:nvSpPr>
        <p:spPr>
          <a:xfrm>
            <a:off x="7696080" y="3048120"/>
            <a:ext cx="685800" cy="1981080"/>
          </a:xfrm>
          <a:prstGeom prst="rect">
            <a:avLst/>
          </a:prstGeom>
          <a:solidFill>
            <a:srgbClr val="a7ccd9">
              <a:alpha val="50000"/>
            </a:srgbClr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4996-A21E-40BF-97C8-19205CFFE002}" type="slidenum">
              <a:t>1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23AD97-7E1F-44C3-A977-2314484B933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Main FTP GU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actor out the File Display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Much Simpler…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60" name=""/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961" name=""/>
          <p:cNvGrpSpPr/>
          <p:nvPr/>
        </p:nvGrpSpPr>
        <p:grpSpPr>
          <a:xfrm>
            <a:off x="4560840" y="2674800"/>
            <a:ext cx="4506840" cy="4106880"/>
            <a:chOff x="4560840" y="2674800"/>
            <a:chExt cx="4506840" cy="4106880"/>
          </a:xfrm>
        </p:grpSpPr>
        <p:pic>
          <p:nvPicPr>
            <p:cNvPr id="962" name="ftp1" descr=""/>
            <p:cNvPicPr/>
            <p:nvPr/>
          </p:nvPicPr>
          <p:blipFill>
            <a:blip r:embed="rId4"/>
            <a:stretch/>
          </p:blipFill>
          <p:spPr>
            <a:xfrm>
              <a:off x="4560840" y="2674800"/>
              <a:ext cx="4506840" cy="4106880"/>
            </a:xfrm>
            <a:prstGeom prst="rect">
              <a:avLst/>
            </a:prstGeom>
            <a:ln w="9360">
              <a:solidFill>
                <a:srgbClr val="545472"/>
              </a:solidFill>
              <a:miter/>
            </a:ln>
          </p:spPr>
        </p:pic>
        <p:sp>
          <p:nvSpPr>
            <p:cNvPr id="963" name=""/>
            <p:cNvSpPr/>
            <p:nvPr/>
          </p:nvSpPr>
          <p:spPr>
            <a:xfrm>
              <a:off x="4591080" y="2971800"/>
              <a:ext cx="2057400" cy="2895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45472"/>
                  </a:solidFill>
                  <a:latin typeface="Courier New"/>
                </a:rPr>
                <a:t>FileDisplay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962760" y="2971800"/>
              <a:ext cx="2057400" cy="2895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45472"/>
                  </a:solidFill>
                  <a:latin typeface="Courier New"/>
                </a:rPr>
                <a:t>FileDisplay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AFD6-F522-42B8-BF4C-54F82CD2B2DF}" type="slidenum">
              <a:t>1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757A28-B833-486F-A4C3-5EFA27295F7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Main FTP GU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Annotate with resize behavior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grpSp>
        <p:nvGrpSpPr>
          <p:cNvPr id="967" name=""/>
          <p:cNvGrpSpPr/>
          <p:nvPr/>
        </p:nvGrpSpPr>
        <p:grpSpPr>
          <a:xfrm>
            <a:off x="4560840" y="2209680"/>
            <a:ext cx="4506840" cy="4650480"/>
            <a:chOff x="4560840" y="2209680"/>
            <a:chExt cx="4506840" cy="4650480"/>
          </a:xfrm>
        </p:grpSpPr>
        <p:grpSp>
          <p:nvGrpSpPr>
            <p:cNvPr id="968" name=""/>
            <p:cNvGrpSpPr/>
            <p:nvPr/>
          </p:nvGrpSpPr>
          <p:grpSpPr>
            <a:xfrm>
              <a:off x="4560840" y="2674800"/>
              <a:ext cx="4506840" cy="4106880"/>
              <a:chOff x="4560840" y="2674800"/>
              <a:chExt cx="4506840" cy="4106880"/>
            </a:xfrm>
          </p:grpSpPr>
          <p:pic>
            <p:nvPicPr>
              <p:cNvPr id="969" name="ftp1" descr=""/>
              <p:cNvPicPr/>
              <p:nvPr/>
            </p:nvPicPr>
            <p:blipFill>
              <a:blip r:embed="rId3"/>
              <a:stretch/>
            </p:blipFill>
            <p:spPr>
              <a:xfrm>
                <a:off x="4560840" y="2674800"/>
                <a:ext cx="4506840" cy="4106880"/>
              </a:xfrm>
              <a:prstGeom prst="rect">
                <a:avLst/>
              </a:prstGeom>
              <a:ln w="9360">
                <a:solidFill>
                  <a:srgbClr val="545472"/>
                </a:solidFill>
                <a:miter/>
              </a:ln>
            </p:spPr>
          </p:pic>
          <p:sp>
            <p:nvSpPr>
              <p:cNvPr id="970" name=""/>
              <p:cNvSpPr/>
              <p:nvPr/>
            </p:nvSpPr>
            <p:spPr>
              <a:xfrm>
                <a:off x="4591080" y="2971800"/>
                <a:ext cx="2057400" cy="2895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545472"/>
                    </a:solidFill>
                    <a:latin typeface="Courier New"/>
                  </a:rPr>
                  <a:t>FileDisplay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6962760" y="2971800"/>
                <a:ext cx="2057400" cy="2895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545472"/>
                    </a:solidFill>
                    <a:latin typeface="Courier New"/>
                  </a:rPr>
                  <a:t>FileDisplay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972" name=""/>
            <p:cNvSpPr/>
            <p:nvPr/>
          </p:nvSpPr>
          <p:spPr>
            <a:xfrm>
              <a:off x="4800600" y="6019920"/>
              <a:ext cx="83808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848720" y="6019920"/>
              <a:ext cx="83808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 flipV="1">
              <a:off x="6810480" y="4876920"/>
              <a:ext cx="1440" cy="83808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flipV="1">
              <a:off x="6810480" y="3048120"/>
              <a:ext cx="1440" cy="83808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133960" y="5048280"/>
              <a:ext cx="83808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 flipV="1">
              <a:off x="5562720" y="4648320"/>
              <a:ext cx="1440" cy="83808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543800" y="5048280"/>
              <a:ext cx="83808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 flipV="1">
              <a:off x="7972560" y="4648320"/>
              <a:ext cx="1440" cy="83808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324480" y="6372360"/>
              <a:ext cx="83844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583680" y="61945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031000" y="5838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8088480" y="5838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631200" y="22096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707520" y="40384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707520" y="43434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 rot="16200000">
              <a:off x="6662160" y="32130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rot="16200000">
              <a:off x="6662160" y="5073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791680" y="2362320"/>
              <a:ext cx="228528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888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flipH="1">
              <a:off x="5486400" y="2362320"/>
              <a:ext cx="228528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888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 rot="16200000">
              <a:off x="6341400" y="58356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rot="16200000">
              <a:off x="6969960" y="58356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802560" y="64422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8307720" y="6461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697880" y="6461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088400" y="6461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478920" y="6461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793120" y="6461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259600" y="6461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618080" y="6461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C549-A4EE-4D26-8A19-6C6E1147D100}" type="slidenum">
              <a:t>1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62DE4E-C14C-41D4-9511-C0911FCF0FF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1" name=""/>
          <p:cNvGrpSpPr/>
          <p:nvPr/>
        </p:nvGrpSpPr>
        <p:grpSpPr>
          <a:xfrm>
            <a:off x="4560840" y="2209680"/>
            <a:ext cx="4506840" cy="4650480"/>
            <a:chOff x="4560840" y="2209680"/>
            <a:chExt cx="4506840" cy="4650480"/>
          </a:xfrm>
        </p:grpSpPr>
        <p:grpSp>
          <p:nvGrpSpPr>
            <p:cNvPr id="1002" name=""/>
            <p:cNvGrpSpPr/>
            <p:nvPr/>
          </p:nvGrpSpPr>
          <p:grpSpPr>
            <a:xfrm>
              <a:off x="4560840" y="2674800"/>
              <a:ext cx="4506840" cy="4106880"/>
              <a:chOff x="4560840" y="2674800"/>
              <a:chExt cx="4506840" cy="4106880"/>
            </a:xfrm>
          </p:grpSpPr>
          <p:pic>
            <p:nvPicPr>
              <p:cNvPr id="1003" name="ftp1" descr=""/>
              <p:cNvPicPr/>
              <p:nvPr/>
            </p:nvPicPr>
            <p:blipFill>
              <a:blip r:embed="rId2"/>
              <a:stretch/>
            </p:blipFill>
            <p:spPr>
              <a:xfrm>
                <a:off x="4560840" y="2674800"/>
                <a:ext cx="4506840" cy="4106880"/>
              </a:xfrm>
              <a:prstGeom prst="rect">
                <a:avLst/>
              </a:prstGeom>
              <a:ln w="9360">
                <a:solidFill>
                  <a:srgbClr val="545472"/>
                </a:solidFill>
                <a:miter/>
              </a:ln>
            </p:spPr>
          </p:pic>
          <p:sp>
            <p:nvSpPr>
              <p:cNvPr id="1004" name=""/>
              <p:cNvSpPr/>
              <p:nvPr/>
            </p:nvSpPr>
            <p:spPr>
              <a:xfrm>
                <a:off x="4591080" y="2971800"/>
                <a:ext cx="2057400" cy="2895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545472"/>
                    </a:solidFill>
                    <a:latin typeface="Courier New"/>
                  </a:rPr>
                  <a:t>FileDisplay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6962760" y="2971800"/>
                <a:ext cx="2057400" cy="2895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545472"/>
                    </a:solidFill>
                    <a:latin typeface="Courier New"/>
                  </a:rPr>
                  <a:t>FileDisplay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1006" name=""/>
            <p:cNvSpPr/>
            <p:nvPr/>
          </p:nvSpPr>
          <p:spPr>
            <a:xfrm>
              <a:off x="4800600" y="6019920"/>
              <a:ext cx="83808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7848720" y="6019920"/>
              <a:ext cx="83808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V="1">
              <a:off x="6810480" y="4876920"/>
              <a:ext cx="1440" cy="83808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V="1">
              <a:off x="6810480" y="3048120"/>
              <a:ext cx="1440" cy="83808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133960" y="5048280"/>
              <a:ext cx="83808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 flipV="1">
              <a:off x="5562720" y="4648320"/>
              <a:ext cx="1440" cy="83808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543800" y="5048280"/>
              <a:ext cx="83808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V="1">
              <a:off x="7972560" y="4648320"/>
              <a:ext cx="1440" cy="83808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324480" y="6372360"/>
              <a:ext cx="83844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583680" y="61945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031000" y="5838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8088480" y="5838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631200" y="22096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707520" y="40384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707520" y="43434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rot="16200000">
              <a:off x="6662160" y="32130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rot="16200000">
              <a:off x="6662160" y="5073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791680" y="2362320"/>
              <a:ext cx="228528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888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H="1">
              <a:off x="5486400" y="2362320"/>
              <a:ext cx="228528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888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rot="16200000">
              <a:off x="6341400" y="58356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 rot="16200000">
              <a:off x="6969960" y="58356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802560" y="64422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8307720" y="6461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697880" y="6461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7088400" y="6461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478920" y="6461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793120" y="6461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259600" y="6461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618080" y="6461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Main FTP GU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tart looking at the edges…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Notice the </a:t>
            </a:r>
            <a:br>
              <a:rPr sz="2800"/>
            </a:br>
            <a:r>
              <a:rPr b="0" lang="en-US" sz="2800" spc="-1" strike="noStrike">
                <a:solidFill>
                  <a:srgbClr val="a7ccd9"/>
                </a:solidFill>
                <a:latin typeface="Tahoma"/>
              </a:rPr>
              <a:t>bottom edge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37" name=""/>
          <p:cNvSpPr/>
          <p:nvPr/>
        </p:nvSpPr>
        <p:spPr>
          <a:xfrm>
            <a:off x="4572000" y="5867280"/>
            <a:ext cx="4572000" cy="990720"/>
          </a:xfrm>
          <a:prstGeom prst="rect">
            <a:avLst/>
          </a:prstGeom>
          <a:solidFill>
            <a:srgbClr val="a7ccd9">
              <a:alpha val="50000"/>
            </a:srgbClr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4AC2-7CA1-4733-90F1-ECEBB92D8DE0}" type="slidenum">
              <a:t>1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57F181-45A3-4B7C-90C5-8A4130DA19D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Main FTP GU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anel [Border]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7ccd9"/>
                </a:solidFill>
                <a:latin typeface="Tahoma"/>
              </a:rPr>
              <a:t>SOUTH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=</a:t>
            </a:r>
            <a:br>
              <a:rPr sz="2800"/>
            </a:b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anel[Border]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88ae"/>
                </a:solidFill>
                <a:latin typeface="Tahoma"/>
              </a:rPr>
              <a:t>Pieces inside look like NORTH, CENTER, SOUTH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grpSp>
        <p:nvGrpSpPr>
          <p:cNvPr id="1040" name=""/>
          <p:cNvGrpSpPr/>
          <p:nvPr/>
        </p:nvGrpSpPr>
        <p:grpSpPr>
          <a:xfrm>
            <a:off x="4560840" y="2209680"/>
            <a:ext cx="4506840" cy="4650480"/>
            <a:chOff x="4560840" y="2209680"/>
            <a:chExt cx="4506840" cy="4650480"/>
          </a:xfrm>
        </p:grpSpPr>
        <p:grpSp>
          <p:nvGrpSpPr>
            <p:cNvPr id="1041" name=""/>
            <p:cNvGrpSpPr/>
            <p:nvPr/>
          </p:nvGrpSpPr>
          <p:grpSpPr>
            <a:xfrm>
              <a:off x="4560840" y="2674800"/>
              <a:ext cx="4506840" cy="4106880"/>
              <a:chOff x="4560840" y="2674800"/>
              <a:chExt cx="4506840" cy="4106880"/>
            </a:xfrm>
          </p:grpSpPr>
          <p:pic>
            <p:nvPicPr>
              <p:cNvPr id="1042" name="ftp1" descr=""/>
              <p:cNvPicPr/>
              <p:nvPr/>
            </p:nvPicPr>
            <p:blipFill>
              <a:blip r:embed="rId5"/>
              <a:stretch/>
            </p:blipFill>
            <p:spPr>
              <a:xfrm>
                <a:off x="4560840" y="2674800"/>
                <a:ext cx="4506840" cy="4106880"/>
              </a:xfrm>
              <a:prstGeom prst="rect">
                <a:avLst/>
              </a:prstGeom>
              <a:ln w="9360">
                <a:solidFill>
                  <a:srgbClr val="545472"/>
                </a:solidFill>
                <a:miter/>
              </a:ln>
            </p:spPr>
          </p:pic>
          <p:sp>
            <p:nvSpPr>
              <p:cNvPr id="1043" name=""/>
              <p:cNvSpPr/>
              <p:nvPr/>
            </p:nvSpPr>
            <p:spPr>
              <a:xfrm>
                <a:off x="4591080" y="2971800"/>
                <a:ext cx="2057400" cy="2895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545472"/>
                    </a:solidFill>
                    <a:latin typeface="Courier New"/>
                  </a:rPr>
                  <a:t>FileDisplay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6962760" y="2971800"/>
                <a:ext cx="2057400" cy="2895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545472"/>
                    </a:solidFill>
                    <a:latin typeface="Courier New"/>
                  </a:rPr>
                  <a:t>FileDisplay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1045" name=""/>
            <p:cNvSpPr/>
            <p:nvPr/>
          </p:nvSpPr>
          <p:spPr>
            <a:xfrm>
              <a:off x="4800600" y="6019920"/>
              <a:ext cx="83808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7848720" y="6019920"/>
              <a:ext cx="83808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V="1">
              <a:off x="6810480" y="4876920"/>
              <a:ext cx="1440" cy="83808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V="1">
              <a:off x="6810480" y="3048120"/>
              <a:ext cx="1440" cy="83808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133960" y="5048280"/>
              <a:ext cx="83808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V="1">
              <a:off x="5562720" y="4648320"/>
              <a:ext cx="1440" cy="83808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543800" y="5048280"/>
              <a:ext cx="83808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V="1">
              <a:off x="7972560" y="4648320"/>
              <a:ext cx="1440" cy="83808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6324480" y="6372360"/>
              <a:ext cx="83844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583680" y="61945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031000" y="5838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8088480" y="5838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631200" y="22096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707520" y="40384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6707520" y="43434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 rot="16200000">
              <a:off x="6662160" y="32130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 rot="16200000">
              <a:off x="6662160" y="5073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791680" y="2362320"/>
              <a:ext cx="228528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888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H="1">
              <a:off x="5486400" y="2362320"/>
              <a:ext cx="228528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888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 rot="16200000">
              <a:off x="6341400" y="58356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rot="16200000">
              <a:off x="6969960" y="58356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802560" y="64422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8307720" y="6461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7697880" y="6461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7088400" y="6461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478920" y="6461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793120" y="6461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259600" y="6461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618080" y="6461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1074" name=""/>
          <p:cNvSpPr/>
          <p:nvPr/>
        </p:nvSpPr>
        <p:spPr>
          <a:xfrm>
            <a:off x="4572000" y="5867280"/>
            <a:ext cx="4572000" cy="990720"/>
          </a:xfrm>
          <a:prstGeom prst="rect">
            <a:avLst/>
          </a:prstGeom>
          <a:solidFill>
            <a:srgbClr val="a7ccd9">
              <a:alpha val="50000"/>
            </a:srgbClr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7E58-668C-403D-8F11-96AD0DEED5C2}" type="slidenum">
              <a:t>1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070CAB-8562-4AB7-B43A-2BDCBE90693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Main FTP GU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8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anel [Border]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OUTH=</a:t>
            </a:r>
            <a:br>
              <a:rPr sz="2800"/>
            </a:b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anel[Border]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040040" indent="-2077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NORTH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=</a:t>
            </a:r>
            <a:br>
              <a:rPr sz="2400"/>
            </a:b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Panel[Flow]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040040" indent="-2077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ccd9"/>
                </a:solidFill>
                <a:latin typeface="Tahoma"/>
              </a:rPr>
              <a:t>CENTER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=List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040040" indent="-2077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88ae"/>
                </a:solidFill>
                <a:latin typeface="Tahoma"/>
              </a:rPr>
              <a:t>SOUTH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=</a:t>
            </a:r>
            <a:br>
              <a:rPr sz="2400"/>
            </a:b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Panel[Grid(1,0)]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ENTER=</a:t>
            </a:r>
            <a:br>
              <a:rPr sz="2800"/>
            </a:b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Panel[ ? ]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grpSp>
        <p:nvGrpSpPr>
          <p:cNvPr id="1077" name=""/>
          <p:cNvGrpSpPr/>
          <p:nvPr/>
        </p:nvGrpSpPr>
        <p:grpSpPr>
          <a:xfrm>
            <a:off x="4560840" y="2209680"/>
            <a:ext cx="4506840" cy="4650480"/>
            <a:chOff x="4560840" y="2209680"/>
            <a:chExt cx="4506840" cy="4650480"/>
          </a:xfrm>
        </p:grpSpPr>
        <p:grpSp>
          <p:nvGrpSpPr>
            <p:cNvPr id="1078" name=""/>
            <p:cNvGrpSpPr/>
            <p:nvPr/>
          </p:nvGrpSpPr>
          <p:grpSpPr>
            <a:xfrm>
              <a:off x="4560840" y="2674800"/>
              <a:ext cx="4506840" cy="4106880"/>
              <a:chOff x="4560840" y="2674800"/>
              <a:chExt cx="4506840" cy="4106880"/>
            </a:xfrm>
          </p:grpSpPr>
          <p:pic>
            <p:nvPicPr>
              <p:cNvPr id="1079" name="ftp1" descr=""/>
              <p:cNvPicPr/>
              <p:nvPr/>
            </p:nvPicPr>
            <p:blipFill>
              <a:blip r:embed="rId8"/>
              <a:stretch/>
            </p:blipFill>
            <p:spPr>
              <a:xfrm>
                <a:off x="4560840" y="2674800"/>
                <a:ext cx="4506840" cy="4106880"/>
              </a:xfrm>
              <a:prstGeom prst="rect">
                <a:avLst/>
              </a:prstGeom>
              <a:ln w="9360">
                <a:solidFill>
                  <a:srgbClr val="545472"/>
                </a:solidFill>
                <a:miter/>
              </a:ln>
            </p:spPr>
          </p:pic>
          <p:sp>
            <p:nvSpPr>
              <p:cNvPr id="1080" name=""/>
              <p:cNvSpPr/>
              <p:nvPr/>
            </p:nvSpPr>
            <p:spPr>
              <a:xfrm>
                <a:off x="4591080" y="2971800"/>
                <a:ext cx="2057400" cy="2895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545472"/>
                    </a:solidFill>
                    <a:latin typeface="Courier New"/>
                  </a:rPr>
                  <a:t>FileDisplay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6962760" y="2971800"/>
                <a:ext cx="2057400" cy="2895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545472"/>
                    </a:solidFill>
                    <a:latin typeface="Courier New"/>
                  </a:rPr>
                  <a:t>FileDisplay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1082" name=""/>
            <p:cNvSpPr/>
            <p:nvPr/>
          </p:nvSpPr>
          <p:spPr>
            <a:xfrm>
              <a:off x="4800600" y="6019920"/>
              <a:ext cx="83808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848720" y="6019920"/>
              <a:ext cx="83808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V="1">
              <a:off x="6810480" y="4876920"/>
              <a:ext cx="1440" cy="83808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V="1">
              <a:off x="6810480" y="3048120"/>
              <a:ext cx="1440" cy="83808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133960" y="5048280"/>
              <a:ext cx="83808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V="1">
              <a:off x="5562720" y="4648320"/>
              <a:ext cx="1440" cy="83808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7543800" y="5048280"/>
              <a:ext cx="83808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 flipV="1">
              <a:off x="7972560" y="4648320"/>
              <a:ext cx="1440" cy="83808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6324480" y="6372360"/>
              <a:ext cx="83844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583680" y="61945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5031000" y="5838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088480" y="5838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6631200" y="22096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6707520" y="40384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707520" y="43434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rot="16200000">
              <a:off x="6662160" y="32130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rot="16200000">
              <a:off x="6662160" y="5073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791680" y="2362320"/>
              <a:ext cx="228528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888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>
              <a:off x="5486400" y="2362320"/>
              <a:ext cx="228528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888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rot="16200000">
              <a:off x="6341400" y="58356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rot="16200000">
              <a:off x="6969960" y="58356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6802560" y="64422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307720" y="6461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7697880" y="6461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088400" y="6461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6478920" y="6461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793120" y="6461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259600" y="6461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618080" y="6461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1111" name=""/>
          <p:cNvSpPr/>
          <p:nvPr/>
        </p:nvSpPr>
        <p:spPr>
          <a:xfrm>
            <a:off x="4495680" y="5867280"/>
            <a:ext cx="4572000" cy="381240"/>
          </a:xfrm>
          <a:prstGeom prst="rect">
            <a:avLst/>
          </a:prstGeom>
          <a:solidFill>
            <a:srgbClr val="660066">
              <a:alpha val="50000"/>
            </a:srgbClr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4495680" y="6248520"/>
            <a:ext cx="4572000" cy="304560"/>
          </a:xfrm>
          <a:prstGeom prst="rect">
            <a:avLst/>
          </a:prstGeom>
          <a:solidFill>
            <a:srgbClr val="a7ccd9">
              <a:alpha val="50000"/>
            </a:srgbClr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4495680" y="6553080"/>
            <a:ext cx="4572000" cy="228600"/>
          </a:xfrm>
          <a:prstGeom prst="rect">
            <a:avLst/>
          </a:prstGeom>
          <a:solidFill>
            <a:srgbClr val="8888ae">
              <a:alpha val="50000"/>
            </a:srgbClr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E4B9-1921-4F5F-BBA7-9628200E9403}" type="slidenum">
              <a:t>1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2D8FA4-3A60-4F7B-B399-2E3B2D58DDE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Main FTP GU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581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anel [Border]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SOUTH=</a:t>
            </a:r>
            <a:br>
              <a:rPr sz="2400"/>
            </a:b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Panel[Border]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NORTH=</a:t>
            </a:r>
            <a:br>
              <a:rPr sz="2000"/>
            </a:b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Panel[Flow]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CENTER=List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OUTH=</a:t>
            </a:r>
            <a:br>
              <a:rPr sz="2000"/>
            </a:b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Panel[Grid(1,0)]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CENTER=</a:t>
            </a:r>
            <a:br>
              <a:rPr sz="2400"/>
            </a:b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Panel[ ? ]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888ae"/>
                </a:solidFill>
                <a:latin typeface="Tahoma"/>
              </a:rPr>
              <a:t>Let’s look closer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grpSp>
        <p:nvGrpSpPr>
          <p:cNvPr id="1116" name=""/>
          <p:cNvGrpSpPr/>
          <p:nvPr/>
        </p:nvGrpSpPr>
        <p:grpSpPr>
          <a:xfrm>
            <a:off x="4560840" y="2209680"/>
            <a:ext cx="4506840" cy="4650480"/>
            <a:chOff x="4560840" y="2209680"/>
            <a:chExt cx="4506840" cy="4650480"/>
          </a:xfrm>
        </p:grpSpPr>
        <p:grpSp>
          <p:nvGrpSpPr>
            <p:cNvPr id="1117" name=""/>
            <p:cNvGrpSpPr/>
            <p:nvPr/>
          </p:nvGrpSpPr>
          <p:grpSpPr>
            <a:xfrm>
              <a:off x="4560840" y="2674800"/>
              <a:ext cx="4506840" cy="4106880"/>
              <a:chOff x="4560840" y="2674800"/>
              <a:chExt cx="4506840" cy="4106880"/>
            </a:xfrm>
          </p:grpSpPr>
          <p:pic>
            <p:nvPicPr>
              <p:cNvPr id="1118" name="ftp1" descr=""/>
              <p:cNvPicPr/>
              <p:nvPr/>
            </p:nvPicPr>
            <p:blipFill>
              <a:blip r:embed="rId9"/>
              <a:stretch/>
            </p:blipFill>
            <p:spPr>
              <a:xfrm>
                <a:off x="4560840" y="2674800"/>
                <a:ext cx="4506840" cy="4106880"/>
              </a:xfrm>
              <a:prstGeom prst="rect">
                <a:avLst/>
              </a:prstGeom>
              <a:ln w="9360">
                <a:solidFill>
                  <a:srgbClr val="545472"/>
                </a:solidFill>
                <a:miter/>
              </a:ln>
            </p:spPr>
          </p:pic>
          <p:sp>
            <p:nvSpPr>
              <p:cNvPr id="1119" name=""/>
              <p:cNvSpPr/>
              <p:nvPr/>
            </p:nvSpPr>
            <p:spPr>
              <a:xfrm>
                <a:off x="4591080" y="2971800"/>
                <a:ext cx="2057400" cy="2895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545472"/>
                    </a:solidFill>
                    <a:latin typeface="Courier New"/>
                  </a:rPr>
                  <a:t>FileDisplay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6962760" y="2971800"/>
                <a:ext cx="2057400" cy="2895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545472"/>
                    </a:solidFill>
                    <a:latin typeface="Courier New"/>
                  </a:rPr>
                  <a:t>FileDisplay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1121" name=""/>
            <p:cNvSpPr/>
            <p:nvPr/>
          </p:nvSpPr>
          <p:spPr>
            <a:xfrm>
              <a:off x="4800600" y="6019920"/>
              <a:ext cx="83808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7848720" y="6019920"/>
              <a:ext cx="83808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 flipV="1">
              <a:off x="6810480" y="4876920"/>
              <a:ext cx="1440" cy="83808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V="1">
              <a:off x="6810480" y="3048120"/>
              <a:ext cx="1440" cy="83808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133960" y="5048280"/>
              <a:ext cx="83808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 flipV="1">
              <a:off x="5562720" y="4648320"/>
              <a:ext cx="1440" cy="83808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7543800" y="5048280"/>
              <a:ext cx="83808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V="1">
              <a:off x="7972560" y="4648320"/>
              <a:ext cx="1440" cy="83808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6324480" y="6372360"/>
              <a:ext cx="83844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6583680" y="61945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5031000" y="5838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8088480" y="5838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6631200" y="22096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707520" y="40384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6707520" y="43434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rot="16200000">
              <a:off x="6662160" y="32130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rot="16200000">
              <a:off x="6662160" y="5073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791680" y="2362320"/>
              <a:ext cx="228528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888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H="1">
              <a:off x="5486400" y="2362320"/>
              <a:ext cx="228528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888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rot="16200000">
              <a:off x="6341400" y="58356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rot="16200000">
              <a:off x="6969960" y="58356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02560" y="64422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8307720" y="6461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7697880" y="6461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7088400" y="6461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478920" y="6461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793120" y="6461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259600" y="6461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618080" y="6461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EA51-2F33-4B1B-8DB8-E89486F347FB}" type="slidenum">
              <a:t>1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4FD034-DB6F-4B98-9102-F1FE9C2CABA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Center Sec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an use BoxLayout or GridBagLayou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No other layout supports non-adjacent equal size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ould write custom layout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grpSp>
        <p:nvGrpSpPr>
          <p:cNvPr id="1152" name=""/>
          <p:cNvGrpSpPr/>
          <p:nvPr/>
        </p:nvGrpSpPr>
        <p:grpSpPr>
          <a:xfrm>
            <a:off x="4724280" y="3276720"/>
            <a:ext cx="4295880" cy="3504960"/>
            <a:chOff x="4724280" y="3276720"/>
            <a:chExt cx="4295880" cy="3504960"/>
          </a:xfrm>
        </p:grpSpPr>
        <p:pic>
          <p:nvPicPr>
            <p:cNvPr id="1153" name="ftp4" descr=""/>
            <p:cNvPicPr/>
            <p:nvPr/>
          </p:nvPicPr>
          <p:blipFill>
            <a:blip r:embed="rId5"/>
            <a:stretch/>
          </p:blipFill>
          <p:spPr>
            <a:xfrm>
              <a:off x="4724280" y="3962520"/>
              <a:ext cx="4295880" cy="2813040"/>
            </a:xfrm>
            <a:prstGeom prst="rect">
              <a:avLst/>
            </a:prstGeom>
            <a:ln w="9360">
              <a:solidFill>
                <a:srgbClr val="545472"/>
              </a:solidFill>
              <a:miter/>
            </a:ln>
          </p:spPr>
        </p:pic>
        <p:sp>
          <p:nvSpPr>
            <p:cNvPr id="1154" name=""/>
            <p:cNvSpPr/>
            <p:nvPr/>
          </p:nvSpPr>
          <p:spPr>
            <a:xfrm>
              <a:off x="4753080" y="4019400"/>
              <a:ext cx="1752480" cy="2743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45472"/>
                  </a:solidFill>
                  <a:latin typeface="Courier New"/>
                </a:rPr>
                <a:t>FileDisplay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7248600" y="4019400"/>
              <a:ext cx="1752480" cy="2743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45472"/>
                  </a:solidFill>
                  <a:latin typeface="Courier New"/>
                </a:rPr>
                <a:t>FileDisplay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V="1">
              <a:off x="6870600" y="3990960"/>
              <a:ext cx="1800" cy="83808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rot="16200000">
              <a:off x="6722640" y="41562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V="1">
              <a:off x="6867360" y="5943600"/>
              <a:ext cx="1800" cy="83808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rot="16200000">
              <a:off x="6719400" y="6108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707520" y="50133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6707520" y="53942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6631200" y="32767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5791680" y="3429000"/>
              <a:ext cx="228528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888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H="1">
              <a:off x="5486400" y="3429000"/>
              <a:ext cx="228528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888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696080" y="4667400"/>
              <a:ext cx="83844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V="1">
              <a:off x="8124840" y="4266720"/>
              <a:ext cx="1440" cy="83844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181480" y="4667400"/>
              <a:ext cx="83844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V="1">
              <a:off x="5610240" y="4266720"/>
              <a:ext cx="1440" cy="83844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713640" y="52005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54FC-C881-491A-B7D0-00BF48AFEF24}" type="slidenum">
              <a:t>1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185EA9-1A10-4648-B807-C0A159169D5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Center Section as Box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tart with a </a:t>
            </a:r>
            <a:r>
              <a:rPr b="0" lang="en-US" sz="3200" spc="-1" strike="noStrike">
                <a:solidFill>
                  <a:srgbClr val="a7ccd9"/>
                </a:solidFill>
                <a:latin typeface="Tahoma"/>
              </a:rPr>
              <a:t>Horizontal Box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grpSp>
        <p:nvGrpSpPr>
          <p:cNvPr id="1172" name=""/>
          <p:cNvGrpSpPr/>
          <p:nvPr/>
        </p:nvGrpSpPr>
        <p:grpSpPr>
          <a:xfrm>
            <a:off x="4724280" y="3276720"/>
            <a:ext cx="4295880" cy="3504960"/>
            <a:chOff x="4724280" y="3276720"/>
            <a:chExt cx="4295880" cy="3504960"/>
          </a:xfrm>
        </p:grpSpPr>
        <p:pic>
          <p:nvPicPr>
            <p:cNvPr id="1173" name="ftp4" descr=""/>
            <p:cNvPicPr/>
            <p:nvPr/>
          </p:nvPicPr>
          <p:blipFill>
            <a:blip r:embed="rId3"/>
            <a:stretch/>
          </p:blipFill>
          <p:spPr>
            <a:xfrm>
              <a:off x="4724280" y="3962520"/>
              <a:ext cx="4295880" cy="2813040"/>
            </a:xfrm>
            <a:prstGeom prst="rect">
              <a:avLst/>
            </a:prstGeom>
            <a:ln w="9360">
              <a:solidFill>
                <a:srgbClr val="545472"/>
              </a:solidFill>
              <a:miter/>
            </a:ln>
          </p:spPr>
        </p:pic>
        <p:sp>
          <p:nvSpPr>
            <p:cNvPr id="1174" name=""/>
            <p:cNvSpPr/>
            <p:nvPr/>
          </p:nvSpPr>
          <p:spPr>
            <a:xfrm>
              <a:off x="4753080" y="4019400"/>
              <a:ext cx="1752480" cy="2743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45472"/>
                  </a:solidFill>
                  <a:latin typeface="Courier New"/>
                </a:rPr>
                <a:t>FileDisplay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248600" y="4019400"/>
              <a:ext cx="1752480" cy="2743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45472"/>
                  </a:solidFill>
                  <a:latin typeface="Courier New"/>
                </a:rPr>
                <a:t>FileDisplay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V="1">
              <a:off x="6870600" y="3990960"/>
              <a:ext cx="1800" cy="83808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rot="16200000">
              <a:off x="6722640" y="41562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V="1">
              <a:off x="6867360" y="5943600"/>
              <a:ext cx="1800" cy="83808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 rot="16200000">
              <a:off x="6719400" y="6108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6707520" y="50133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707520" y="53942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631200" y="32767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791680" y="3429000"/>
              <a:ext cx="228528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888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 flipH="1">
              <a:off x="5486400" y="3429000"/>
              <a:ext cx="228528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888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7696080" y="4667400"/>
              <a:ext cx="83844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 flipV="1">
              <a:off x="8124840" y="4266720"/>
              <a:ext cx="1440" cy="83844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181480" y="4667400"/>
              <a:ext cx="83844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 flipV="1">
              <a:off x="5610240" y="4266720"/>
              <a:ext cx="1440" cy="83844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713640" y="52005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1190" name=""/>
          <p:cNvSpPr/>
          <p:nvPr/>
        </p:nvSpPr>
        <p:spPr>
          <a:xfrm>
            <a:off x="4572000" y="3886200"/>
            <a:ext cx="4572000" cy="2971800"/>
          </a:xfrm>
          <a:prstGeom prst="rect">
            <a:avLst/>
          </a:prstGeom>
          <a:solidFill>
            <a:srgbClr val="a7ccd9">
              <a:alpha val="50000"/>
            </a:srgbClr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14B1-625C-462B-934B-44266AA35D18}" type="slidenum">
              <a:t>1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C81CB6-7A5E-4096-9DC6-D41B8FDCA64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UI Sin #3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ssuming One Languag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o you think English is the only language…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75" name="sin3a" descr=""/>
          <p:cNvPicPr/>
          <p:nvPr/>
        </p:nvPicPr>
        <p:blipFill>
          <a:blip r:embed="rId3"/>
          <a:stretch/>
        </p:blipFill>
        <p:spPr>
          <a:xfrm>
            <a:off x="2857680" y="3173400"/>
            <a:ext cx="3427200" cy="2541600"/>
          </a:xfrm>
          <a:prstGeom prst="rect">
            <a:avLst/>
          </a:prstGeom>
          <a:ln w="9360">
            <a:solidFill>
              <a:srgbClr val="545472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654A-0709-42DE-A992-0A18CD645F2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7D3886-0836-47DF-8910-3C4B69DB1AC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Center Section as Box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7ccd9"/>
                </a:solidFill>
                <a:latin typeface="Tahoma"/>
              </a:rPr>
              <a:t>Panel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[Box(X_AXIS)]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FileDisplay (expand)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Panel [ ? ]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FileDisplay (expand)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Note: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Expansion may </a:t>
            </a:r>
            <a:br>
              <a:rPr sz="2400"/>
            </a:b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require extension</a:t>
            </a:r>
            <a:br>
              <a:rPr sz="2400"/>
            </a:b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or decoration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Struts for spacing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grpSp>
        <p:nvGrpSpPr>
          <p:cNvPr id="1193" name=""/>
          <p:cNvGrpSpPr/>
          <p:nvPr/>
        </p:nvGrpSpPr>
        <p:grpSpPr>
          <a:xfrm>
            <a:off x="4724280" y="3276720"/>
            <a:ext cx="4295880" cy="3504960"/>
            <a:chOff x="4724280" y="3276720"/>
            <a:chExt cx="4295880" cy="3504960"/>
          </a:xfrm>
        </p:grpSpPr>
        <p:pic>
          <p:nvPicPr>
            <p:cNvPr id="1194" name="ftp4" descr=""/>
            <p:cNvPicPr/>
            <p:nvPr/>
          </p:nvPicPr>
          <p:blipFill>
            <a:blip r:embed="rId9"/>
            <a:stretch/>
          </p:blipFill>
          <p:spPr>
            <a:xfrm>
              <a:off x="4724280" y="3962520"/>
              <a:ext cx="4295880" cy="2813040"/>
            </a:xfrm>
            <a:prstGeom prst="rect">
              <a:avLst/>
            </a:prstGeom>
            <a:ln w="9360">
              <a:solidFill>
                <a:srgbClr val="545472"/>
              </a:solidFill>
              <a:miter/>
            </a:ln>
          </p:spPr>
        </p:pic>
        <p:sp>
          <p:nvSpPr>
            <p:cNvPr id="1195" name=""/>
            <p:cNvSpPr/>
            <p:nvPr/>
          </p:nvSpPr>
          <p:spPr>
            <a:xfrm>
              <a:off x="4753080" y="4019400"/>
              <a:ext cx="1752480" cy="2743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45472"/>
                  </a:solidFill>
                  <a:latin typeface="Courier New"/>
                </a:rPr>
                <a:t>FileDisplay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7248600" y="4019400"/>
              <a:ext cx="1752480" cy="2743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45472"/>
                  </a:solidFill>
                  <a:latin typeface="Courier New"/>
                </a:rPr>
                <a:t>FileDisplay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V="1">
              <a:off x="6870600" y="3990960"/>
              <a:ext cx="1800" cy="83808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rot="16200000">
              <a:off x="6722640" y="41562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 flipV="1">
              <a:off x="6867360" y="5943600"/>
              <a:ext cx="1800" cy="83808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 rot="16200000">
              <a:off x="6719400" y="6108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6707520" y="50133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6707520" y="53942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6631200" y="32767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791680" y="3429000"/>
              <a:ext cx="228528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888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H="1">
              <a:off x="5486400" y="3429000"/>
              <a:ext cx="228528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888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7696080" y="4667400"/>
              <a:ext cx="83844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V="1">
              <a:off x="8124840" y="4266720"/>
              <a:ext cx="1440" cy="83844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181480" y="4667400"/>
              <a:ext cx="83844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V="1">
              <a:off x="5610240" y="4266720"/>
              <a:ext cx="1440" cy="83844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713640" y="52005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1211" name=""/>
          <p:cNvSpPr/>
          <p:nvPr/>
        </p:nvSpPr>
        <p:spPr>
          <a:xfrm>
            <a:off x="4572000" y="3886200"/>
            <a:ext cx="4572000" cy="2971800"/>
          </a:xfrm>
          <a:prstGeom prst="rect">
            <a:avLst/>
          </a:prstGeom>
          <a:solidFill>
            <a:srgbClr val="a7ccd9">
              <a:alpha val="50000"/>
            </a:srgbClr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4544-2121-4FAA-A71B-C29F44884528}" type="slidenum">
              <a:t>1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BB9641-BF4C-4E8B-9D99-A2F338AF331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Center Section as Box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60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anel [Box(X_AXIS)]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FileDisplay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anel [ ? ]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88ae"/>
                </a:solidFill>
                <a:latin typeface="Tahoma"/>
              </a:rPr>
              <a:t>Looks like vertical box floating in center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FileDisplay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grpSp>
        <p:nvGrpSpPr>
          <p:cNvPr id="1214" name=""/>
          <p:cNvGrpSpPr/>
          <p:nvPr/>
        </p:nvGrpSpPr>
        <p:grpSpPr>
          <a:xfrm>
            <a:off x="4724280" y="3276720"/>
            <a:ext cx="4295880" cy="3504960"/>
            <a:chOff x="4724280" y="3276720"/>
            <a:chExt cx="4295880" cy="3504960"/>
          </a:xfrm>
        </p:grpSpPr>
        <p:pic>
          <p:nvPicPr>
            <p:cNvPr id="1215" name="ftp4" descr=""/>
            <p:cNvPicPr/>
            <p:nvPr/>
          </p:nvPicPr>
          <p:blipFill>
            <a:blip r:embed="rId7"/>
            <a:stretch/>
          </p:blipFill>
          <p:spPr>
            <a:xfrm>
              <a:off x="4724280" y="3962520"/>
              <a:ext cx="4295880" cy="2813040"/>
            </a:xfrm>
            <a:prstGeom prst="rect">
              <a:avLst/>
            </a:prstGeom>
            <a:ln w="9360">
              <a:solidFill>
                <a:srgbClr val="545472"/>
              </a:solidFill>
              <a:miter/>
            </a:ln>
          </p:spPr>
        </p:pic>
        <p:sp>
          <p:nvSpPr>
            <p:cNvPr id="1216" name=""/>
            <p:cNvSpPr/>
            <p:nvPr/>
          </p:nvSpPr>
          <p:spPr>
            <a:xfrm>
              <a:off x="4753080" y="4019400"/>
              <a:ext cx="1752480" cy="2743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45472"/>
                  </a:solidFill>
                  <a:latin typeface="Courier New"/>
                </a:rPr>
                <a:t>FileDisplay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248600" y="4019400"/>
              <a:ext cx="1752480" cy="2743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45472"/>
                  </a:solidFill>
                  <a:latin typeface="Courier New"/>
                </a:rPr>
                <a:t>FileDisplay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 flipV="1">
              <a:off x="6870600" y="3990960"/>
              <a:ext cx="1800" cy="83808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 rot="16200000">
              <a:off x="6722640" y="41562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 flipV="1">
              <a:off x="6867360" y="5943600"/>
              <a:ext cx="1800" cy="83808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 rot="16200000">
              <a:off x="6719400" y="6108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707520" y="50133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707520" y="53942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6631200" y="32767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791680" y="3429000"/>
              <a:ext cx="228528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888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 flipH="1">
              <a:off x="5486400" y="3429000"/>
              <a:ext cx="228528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888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7696080" y="4667400"/>
              <a:ext cx="83844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 flipV="1">
              <a:off x="8124840" y="4266720"/>
              <a:ext cx="1440" cy="83844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181480" y="4667400"/>
              <a:ext cx="83844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V="1">
              <a:off x="5610240" y="4266720"/>
              <a:ext cx="1440" cy="83844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713640" y="52005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1232" name=""/>
          <p:cNvSpPr/>
          <p:nvPr/>
        </p:nvSpPr>
        <p:spPr>
          <a:xfrm>
            <a:off x="6600960" y="4800600"/>
            <a:ext cx="533160" cy="1143000"/>
          </a:xfrm>
          <a:prstGeom prst="rect">
            <a:avLst/>
          </a:prstGeom>
          <a:solidFill>
            <a:srgbClr val="8888ae">
              <a:alpha val="50000"/>
            </a:srgbClr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2AED-897E-44EB-B145-583DEC72188C}" type="slidenum">
              <a:t>1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5C96D0-66DE-4DF3-AB45-BFE492EEFD7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Center Section as Box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4190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anel [Box(X_AXIS)]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FileDisplay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Strut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Panel [ Box(Y_AXIS) ]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888ae"/>
                </a:solidFill>
                <a:latin typeface="Tahoma"/>
              </a:rPr>
              <a:t>Button(“&lt;-”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888ae"/>
                </a:solidFill>
                <a:latin typeface="Tahoma"/>
              </a:rPr>
              <a:t>Strut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888ae"/>
                </a:solidFill>
                <a:latin typeface="Tahoma"/>
              </a:rPr>
              <a:t>Button(“-&gt;”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88ae"/>
                </a:solidFill>
                <a:latin typeface="Tahoma"/>
              </a:rPr>
              <a:t>Strut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FileDisplay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grpSp>
        <p:nvGrpSpPr>
          <p:cNvPr id="1235" name=""/>
          <p:cNvGrpSpPr/>
          <p:nvPr/>
        </p:nvGrpSpPr>
        <p:grpSpPr>
          <a:xfrm>
            <a:off x="4724280" y="3276720"/>
            <a:ext cx="4295880" cy="3504960"/>
            <a:chOff x="4724280" y="3276720"/>
            <a:chExt cx="4295880" cy="3504960"/>
          </a:xfrm>
        </p:grpSpPr>
        <p:pic>
          <p:nvPicPr>
            <p:cNvPr id="1236" name="ftp4" descr=""/>
            <p:cNvPicPr/>
            <p:nvPr/>
          </p:nvPicPr>
          <p:blipFill>
            <a:blip r:embed="rId11"/>
            <a:stretch/>
          </p:blipFill>
          <p:spPr>
            <a:xfrm>
              <a:off x="4724280" y="3962520"/>
              <a:ext cx="4295880" cy="2813040"/>
            </a:xfrm>
            <a:prstGeom prst="rect">
              <a:avLst/>
            </a:prstGeom>
            <a:ln w="9360">
              <a:solidFill>
                <a:srgbClr val="545472"/>
              </a:solidFill>
              <a:miter/>
            </a:ln>
          </p:spPr>
        </p:pic>
        <p:sp>
          <p:nvSpPr>
            <p:cNvPr id="1237" name=""/>
            <p:cNvSpPr/>
            <p:nvPr/>
          </p:nvSpPr>
          <p:spPr>
            <a:xfrm>
              <a:off x="4753080" y="4019400"/>
              <a:ext cx="1752480" cy="2743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45472"/>
                  </a:solidFill>
                  <a:latin typeface="Courier New"/>
                </a:rPr>
                <a:t>FileDisplay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7248600" y="4019400"/>
              <a:ext cx="1752480" cy="2743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45472"/>
                  </a:solidFill>
                  <a:latin typeface="Courier New"/>
                </a:rPr>
                <a:t>FileDisplay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 flipV="1">
              <a:off x="6870600" y="3990960"/>
              <a:ext cx="1800" cy="83808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rot="16200000">
              <a:off x="6722640" y="41562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 flipV="1">
              <a:off x="6867360" y="5943600"/>
              <a:ext cx="1800" cy="83808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 rot="16200000">
              <a:off x="6719400" y="6108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707520" y="50133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707520" y="53942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631200" y="32767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791680" y="3429000"/>
              <a:ext cx="228528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888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 flipH="1">
              <a:off x="5486400" y="3429000"/>
              <a:ext cx="228528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888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7696080" y="4667400"/>
              <a:ext cx="83844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 flipV="1">
              <a:off x="8124840" y="4266720"/>
              <a:ext cx="1440" cy="83844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181480" y="4667400"/>
              <a:ext cx="83844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 flipV="1">
              <a:off x="5610240" y="4266720"/>
              <a:ext cx="1440" cy="83844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713640" y="52005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1253" name=""/>
          <p:cNvSpPr/>
          <p:nvPr/>
        </p:nvSpPr>
        <p:spPr>
          <a:xfrm>
            <a:off x="6600960" y="4800600"/>
            <a:ext cx="533160" cy="1143000"/>
          </a:xfrm>
          <a:prstGeom prst="rect">
            <a:avLst/>
          </a:prstGeom>
          <a:solidFill>
            <a:srgbClr val="8888ae">
              <a:alpha val="50000"/>
            </a:srgbClr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B2E6-5331-48A3-8A2B-96BC23E0100E}" type="slidenum">
              <a:t>1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9FCD8E-0FC2-4E3E-BBC8-213DE8665A4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Center Section as a GridBa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Draw lines between component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grpSp>
        <p:nvGrpSpPr>
          <p:cNvPr id="1256" name=""/>
          <p:cNvGrpSpPr/>
          <p:nvPr/>
        </p:nvGrpSpPr>
        <p:grpSpPr>
          <a:xfrm>
            <a:off x="4724280" y="3276720"/>
            <a:ext cx="4295880" cy="3504960"/>
            <a:chOff x="4724280" y="3276720"/>
            <a:chExt cx="4295880" cy="3504960"/>
          </a:xfrm>
        </p:grpSpPr>
        <p:pic>
          <p:nvPicPr>
            <p:cNvPr id="1257" name="ftp4" descr=""/>
            <p:cNvPicPr/>
            <p:nvPr/>
          </p:nvPicPr>
          <p:blipFill>
            <a:blip r:embed="rId3"/>
            <a:stretch/>
          </p:blipFill>
          <p:spPr>
            <a:xfrm>
              <a:off x="4724280" y="3962520"/>
              <a:ext cx="4295880" cy="2813040"/>
            </a:xfrm>
            <a:prstGeom prst="rect">
              <a:avLst/>
            </a:prstGeom>
            <a:ln w="9360">
              <a:solidFill>
                <a:srgbClr val="545472"/>
              </a:solidFill>
              <a:miter/>
            </a:ln>
          </p:spPr>
        </p:pic>
        <p:sp>
          <p:nvSpPr>
            <p:cNvPr id="1258" name=""/>
            <p:cNvSpPr/>
            <p:nvPr/>
          </p:nvSpPr>
          <p:spPr>
            <a:xfrm>
              <a:off x="4753080" y="4019400"/>
              <a:ext cx="1752480" cy="2743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45472"/>
                  </a:solidFill>
                  <a:latin typeface="Courier New"/>
                </a:rPr>
                <a:t>FileDisplay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7248600" y="4019400"/>
              <a:ext cx="1752480" cy="2743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45472"/>
                  </a:solidFill>
                  <a:latin typeface="Courier New"/>
                </a:rPr>
                <a:t>FileDisplay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V="1">
              <a:off x="6870600" y="3990960"/>
              <a:ext cx="1800" cy="83808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 rot="16200000">
              <a:off x="6722640" y="41562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 flipV="1">
              <a:off x="6867360" y="5943600"/>
              <a:ext cx="1800" cy="83808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rot="16200000">
              <a:off x="6719400" y="6108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707520" y="50133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707520" y="53942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631200" y="32767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791680" y="3429000"/>
              <a:ext cx="228528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888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H="1">
              <a:off x="5486400" y="3429000"/>
              <a:ext cx="228528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888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7696080" y="4667400"/>
              <a:ext cx="83844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V="1">
              <a:off x="8124840" y="4266720"/>
              <a:ext cx="1440" cy="83844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181480" y="4667400"/>
              <a:ext cx="83844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V="1">
              <a:off x="5610240" y="4266720"/>
              <a:ext cx="1440" cy="83844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713640" y="52005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1274" name=""/>
          <p:cNvSpPr/>
          <p:nvPr/>
        </p:nvSpPr>
        <p:spPr>
          <a:xfrm>
            <a:off x="6553080" y="3809880"/>
            <a:ext cx="0" cy="3048120"/>
          </a:xfrm>
          <a:prstGeom prst="line">
            <a:avLst/>
          </a:prstGeom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7162920" y="3809880"/>
            <a:ext cx="0" cy="3048120"/>
          </a:xfrm>
          <a:prstGeom prst="line">
            <a:avLst/>
          </a:prstGeom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4724280" y="5372280"/>
            <a:ext cx="4419720" cy="0"/>
          </a:xfrm>
          <a:prstGeom prst="line">
            <a:avLst/>
          </a:prstGeom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0601-1174-46B3-9B85-A39895ACFF92}" type="slidenum">
              <a:t>1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B1B425-C98B-4C8D-90C1-7C8CB0B48E0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Center Section as a GridBa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Label component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grpSp>
        <p:nvGrpSpPr>
          <p:cNvPr id="1279" name=""/>
          <p:cNvGrpSpPr/>
          <p:nvPr/>
        </p:nvGrpSpPr>
        <p:grpSpPr>
          <a:xfrm>
            <a:off x="4724280" y="3276720"/>
            <a:ext cx="4295880" cy="3504960"/>
            <a:chOff x="4724280" y="3276720"/>
            <a:chExt cx="4295880" cy="3504960"/>
          </a:xfrm>
        </p:grpSpPr>
        <p:pic>
          <p:nvPicPr>
            <p:cNvPr id="1280" name="ftp4" descr=""/>
            <p:cNvPicPr/>
            <p:nvPr/>
          </p:nvPicPr>
          <p:blipFill>
            <a:blip r:embed="rId3"/>
            <a:stretch/>
          </p:blipFill>
          <p:spPr>
            <a:xfrm>
              <a:off x="4724280" y="3962520"/>
              <a:ext cx="4295880" cy="2813040"/>
            </a:xfrm>
            <a:prstGeom prst="rect">
              <a:avLst/>
            </a:prstGeom>
            <a:ln w="9360">
              <a:solidFill>
                <a:srgbClr val="545472"/>
              </a:solidFill>
              <a:miter/>
            </a:ln>
          </p:spPr>
        </p:pic>
        <p:sp>
          <p:nvSpPr>
            <p:cNvPr id="1281" name=""/>
            <p:cNvSpPr/>
            <p:nvPr/>
          </p:nvSpPr>
          <p:spPr>
            <a:xfrm>
              <a:off x="4753080" y="4019400"/>
              <a:ext cx="1752480" cy="2743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45472"/>
                  </a:solidFill>
                  <a:latin typeface="Courier New"/>
                </a:rPr>
                <a:t>FileDisplay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7248600" y="4019400"/>
              <a:ext cx="1752480" cy="2743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45472"/>
                  </a:solidFill>
                  <a:latin typeface="Courier New"/>
                </a:rPr>
                <a:t>FileDisplay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V="1">
              <a:off x="6870600" y="3990960"/>
              <a:ext cx="1800" cy="83808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rot="16200000">
              <a:off x="6722640" y="41562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 flipV="1">
              <a:off x="6867360" y="5943600"/>
              <a:ext cx="1800" cy="83808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 rot="16200000">
              <a:off x="6719400" y="6108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6707520" y="50133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707520" y="53942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6631200" y="32767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791680" y="3429000"/>
              <a:ext cx="228528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888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 flipH="1">
              <a:off x="5486400" y="3429000"/>
              <a:ext cx="228528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888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7696080" y="4667400"/>
              <a:ext cx="83844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 flipV="1">
              <a:off x="8124840" y="4266720"/>
              <a:ext cx="1440" cy="83844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5181480" y="4667400"/>
              <a:ext cx="83844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 flipV="1">
              <a:off x="5610240" y="4266720"/>
              <a:ext cx="1440" cy="83844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713640" y="52005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1297" name=""/>
          <p:cNvSpPr/>
          <p:nvPr/>
        </p:nvSpPr>
        <p:spPr>
          <a:xfrm>
            <a:off x="6553080" y="3809880"/>
            <a:ext cx="0" cy="3048120"/>
          </a:xfrm>
          <a:prstGeom prst="line">
            <a:avLst/>
          </a:prstGeom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7162920" y="3809880"/>
            <a:ext cx="0" cy="3048120"/>
          </a:xfrm>
          <a:prstGeom prst="line">
            <a:avLst/>
          </a:prstGeom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4724280" y="5372280"/>
            <a:ext cx="4419720" cy="0"/>
          </a:xfrm>
          <a:prstGeom prst="line">
            <a:avLst/>
          </a:prstGeom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4802400" y="4114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7241040" y="4114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505920" y="4648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6505920" y="5638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6F1E-B7AC-4450-A608-44AC93E03469}" type="slidenum">
              <a:t>1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237315-62F2-4B9F-AA95-26160E7E92B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Center Section as a GridBa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1305" name=""/>
          <p:cNvGrpSpPr/>
          <p:nvPr/>
        </p:nvGrpSpPr>
        <p:grpSpPr>
          <a:xfrm>
            <a:off x="4724280" y="3276720"/>
            <a:ext cx="4295880" cy="3504960"/>
            <a:chOff x="4724280" y="3276720"/>
            <a:chExt cx="4295880" cy="3504960"/>
          </a:xfrm>
        </p:grpSpPr>
        <p:pic>
          <p:nvPicPr>
            <p:cNvPr id="1306" name="ftp4" descr=""/>
            <p:cNvPicPr/>
            <p:nvPr/>
          </p:nvPicPr>
          <p:blipFill>
            <a:blip r:embed="rId2"/>
            <a:stretch/>
          </p:blipFill>
          <p:spPr>
            <a:xfrm>
              <a:off x="4724280" y="3962520"/>
              <a:ext cx="4295880" cy="2813040"/>
            </a:xfrm>
            <a:prstGeom prst="rect">
              <a:avLst/>
            </a:prstGeom>
            <a:ln w="9360">
              <a:solidFill>
                <a:srgbClr val="545472"/>
              </a:solidFill>
              <a:miter/>
            </a:ln>
          </p:spPr>
        </p:pic>
        <p:sp>
          <p:nvSpPr>
            <p:cNvPr id="1307" name=""/>
            <p:cNvSpPr/>
            <p:nvPr/>
          </p:nvSpPr>
          <p:spPr>
            <a:xfrm>
              <a:off x="4753080" y="4019400"/>
              <a:ext cx="1752480" cy="2743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45472"/>
                  </a:solidFill>
                  <a:latin typeface="Courier New"/>
                </a:rPr>
                <a:t>FileDisplay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7248600" y="4019400"/>
              <a:ext cx="1752480" cy="2743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45472"/>
                  </a:solidFill>
                  <a:latin typeface="Courier New"/>
                </a:rPr>
                <a:t>FileDisplay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 flipV="1">
              <a:off x="6870600" y="3990960"/>
              <a:ext cx="1800" cy="83808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 rot="16200000">
              <a:off x="6722640" y="41562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 flipV="1">
              <a:off x="6867360" y="5943600"/>
              <a:ext cx="1800" cy="83808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 rot="16200000">
              <a:off x="6719400" y="6108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707520" y="50133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707520" y="53942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631200" y="32767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791680" y="3429000"/>
              <a:ext cx="228528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888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 flipH="1">
              <a:off x="5486400" y="3429000"/>
              <a:ext cx="228528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888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7696080" y="4667400"/>
              <a:ext cx="83844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 flipV="1">
              <a:off x="8124840" y="4266720"/>
              <a:ext cx="1440" cy="83844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181480" y="4667400"/>
              <a:ext cx="83844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 flipV="1">
              <a:off x="5610240" y="4266720"/>
              <a:ext cx="1440" cy="83844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713640" y="52005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1323" name=""/>
          <p:cNvSpPr/>
          <p:nvPr/>
        </p:nvSpPr>
        <p:spPr>
          <a:xfrm>
            <a:off x="6553080" y="3809880"/>
            <a:ext cx="0" cy="3048120"/>
          </a:xfrm>
          <a:prstGeom prst="line">
            <a:avLst/>
          </a:prstGeom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7162920" y="3809880"/>
            <a:ext cx="0" cy="3048120"/>
          </a:xfrm>
          <a:prstGeom prst="line">
            <a:avLst/>
          </a:prstGeom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724280" y="5372280"/>
            <a:ext cx="4419720" cy="0"/>
          </a:xfrm>
          <a:prstGeom prst="line">
            <a:avLst/>
          </a:prstGeom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4802400" y="4114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7241040" y="4114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6505920" y="4648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6505920" y="5638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aphicFrame>
        <p:nvGraphicFramePr>
          <p:cNvPr id="1330" name=""/>
          <p:cNvGraphicFramePr/>
          <p:nvPr/>
        </p:nvGraphicFramePr>
        <p:xfrm>
          <a:off x="914400" y="1600200"/>
          <a:ext cx="3657600" cy="4381560"/>
        </p:xfrm>
        <a:graphic>
          <a:graphicData uri="http://schemas.openxmlformats.org/drawingml/2006/table">
            <a:tbl>
              <a:tblPr/>
              <a:tblGrid>
                <a:gridCol w="1600200"/>
                <a:gridCol w="457200"/>
                <a:gridCol w="533520"/>
                <a:gridCol w="533160"/>
                <a:gridCol w="533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ridx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ridy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ridw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ridh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fill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anchor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weightx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weighty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ipadx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inset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9258-4485-49C5-83FF-55F8910E2416}" type="slidenum">
              <a:t>15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08F0DD-1B51-4352-8DC2-139254A9E7E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Center Section as a GridBa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1332" name=""/>
          <p:cNvGrpSpPr/>
          <p:nvPr/>
        </p:nvGrpSpPr>
        <p:grpSpPr>
          <a:xfrm>
            <a:off x="4724280" y="3276720"/>
            <a:ext cx="4295880" cy="3504960"/>
            <a:chOff x="4724280" y="3276720"/>
            <a:chExt cx="4295880" cy="3504960"/>
          </a:xfrm>
        </p:grpSpPr>
        <p:pic>
          <p:nvPicPr>
            <p:cNvPr id="1333" name="ftp4" descr=""/>
            <p:cNvPicPr/>
            <p:nvPr/>
          </p:nvPicPr>
          <p:blipFill>
            <a:blip r:embed="rId2"/>
            <a:stretch/>
          </p:blipFill>
          <p:spPr>
            <a:xfrm>
              <a:off x="4724280" y="3962520"/>
              <a:ext cx="4295880" cy="2813040"/>
            </a:xfrm>
            <a:prstGeom prst="rect">
              <a:avLst/>
            </a:prstGeom>
            <a:ln w="9360">
              <a:solidFill>
                <a:srgbClr val="545472"/>
              </a:solidFill>
              <a:miter/>
            </a:ln>
          </p:spPr>
        </p:pic>
        <p:sp>
          <p:nvSpPr>
            <p:cNvPr id="1334" name=""/>
            <p:cNvSpPr/>
            <p:nvPr/>
          </p:nvSpPr>
          <p:spPr>
            <a:xfrm>
              <a:off x="4753080" y="4019400"/>
              <a:ext cx="1752480" cy="2743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45472"/>
                  </a:solidFill>
                  <a:latin typeface="Courier New"/>
                </a:rPr>
                <a:t>FileDisplay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7248600" y="4019400"/>
              <a:ext cx="1752480" cy="2743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45472"/>
                  </a:solidFill>
                  <a:latin typeface="Courier New"/>
                </a:rPr>
                <a:t>FileDisplay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 flipV="1">
              <a:off x="6870600" y="3990960"/>
              <a:ext cx="1800" cy="83808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 rot="16200000">
              <a:off x="6722640" y="41562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 flipV="1">
              <a:off x="6867360" y="5943600"/>
              <a:ext cx="1800" cy="83808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 rot="16200000">
              <a:off x="6719400" y="6108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6707520" y="50133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707520" y="53942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6631200" y="32767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791680" y="3429000"/>
              <a:ext cx="228528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888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 flipH="1">
              <a:off x="5486400" y="3429000"/>
              <a:ext cx="228528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888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7696080" y="4667400"/>
              <a:ext cx="83844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 flipV="1">
              <a:off x="8124840" y="4266720"/>
              <a:ext cx="1440" cy="83844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181480" y="4667400"/>
              <a:ext cx="83844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 flipV="1">
              <a:off x="5610240" y="4266720"/>
              <a:ext cx="1440" cy="83844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6713640" y="52005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1350" name=""/>
          <p:cNvSpPr/>
          <p:nvPr/>
        </p:nvSpPr>
        <p:spPr>
          <a:xfrm>
            <a:off x="6553080" y="3809880"/>
            <a:ext cx="0" cy="3048120"/>
          </a:xfrm>
          <a:prstGeom prst="line">
            <a:avLst/>
          </a:prstGeom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7162920" y="3809880"/>
            <a:ext cx="0" cy="3048120"/>
          </a:xfrm>
          <a:prstGeom prst="line">
            <a:avLst/>
          </a:prstGeom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4724280" y="5372280"/>
            <a:ext cx="4419720" cy="0"/>
          </a:xfrm>
          <a:prstGeom prst="line">
            <a:avLst/>
          </a:prstGeom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4802400" y="4114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7241040" y="4114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6505920" y="4648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505920" y="5638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aphicFrame>
        <p:nvGraphicFramePr>
          <p:cNvPr id="1357" name=""/>
          <p:cNvGraphicFramePr/>
          <p:nvPr/>
        </p:nvGraphicFramePr>
        <p:xfrm>
          <a:off x="914400" y="1600200"/>
          <a:ext cx="3657600" cy="4381560"/>
        </p:xfrm>
        <a:graphic>
          <a:graphicData uri="http://schemas.openxmlformats.org/drawingml/2006/table">
            <a:tbl>
              <a:tblPr/>
              <a:tblGrid>
                <a:gridCol w="1600200"/>
                <a:gridCol w="457200"/>
                <a:gridCol w="533520"/>
                <a:gridCol w="533160"/>
                <a:gridCol w="533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ridx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ridy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ridw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ridh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fill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anchor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weightx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weighty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ipadx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inset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74FD-9CF4-4917-9B40-5930D24CE866}" type="slidenum">
              <a:t>15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7A270B-F0E1-4150-B567-1D275E74352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Center Section as a GridBa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1359" name=""/>
          <p:cNvGrpSpPr/>
          <p:nvPr/>
        </p:nvGrpSpPr>
        <p:grpSpPr>
          <a:xfrm>
            <a:off x="4724280" y="3276720"/>
            <a:ext cx="4295880" cy="3504960"/>
            <a:chOff x="4724280" y="3276720"/>
            <a:chExt cx="4295880" cy="3504960"/>
          </a:xfrm>
        </p:grpSpPr>
        <p:pic>
          <p:nvPicPr>
            <p:cNvPr id="1360" name="ftp4" descr=""/>
            <p:cNvPicPr/>
            <p:nvPr/>
          </p:nvPicPr>
          <p:blipFill>
            <a:blip r:embed="rId2"/>
            <a:stretch/>
          </p:blipFill>
          <p:spPr>
            <a:xfrm>
              <a:off x="4724280" y="3962520"/>
              <a:ext cx="4295880" cy="2813040"/>
            </a:xfrm>
            <a:prstGeom prst="rect">
              <a:avLst/>
            </a:prstGeom>
            <a:ln w="9360">
              <a:solidFill>
                <a:srgbClr val="545472"/>
              </a:solidFill>
              <a:miter/>
            </a:ln>
          </p:spPr>
        </p:pic>
        <p:sp>
          <p:nvSpPr>
            <p:cNvPr id="1361" name=""/>
            <p:cNvSpPr/>
            <p:nvPr/>
          </p:nvSpPr>
          <p:spPr>
            <a:xfrm>
              <a:off x="4753080" y="4019400"/>
              <a:ext cx="1752480" cy="2743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45472"/>
                  </a:solidFill>
                  <a:latin typeface="Courier New"/>
                </a:rPr>
                <a:t>FileDisplay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7248600" y="4019400"/>
              <a:ext cx="1752480" cy="2743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45472"/>
                  </a:solidFill>
                  <a:latin typeface="Courier New"/>
                </a:rPr>
                <a:t>FileDisplay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 flipV="1">
              <a:off x="6870600" y="3990960"/>
              <a:ext cx="1800" cy="83808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 rot="16200000">
              <a:off x="6722640" y="41562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 flipV="1">
              <a:off x="6867360" y="5943600"/>
              <a:ext cx="1800" cy="83808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 rot="16200000">
              <a:off x="6719400" y="6108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6707520" y="50133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707520" y="53942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631200" y="32767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791680" y="3429000"/>
              <a:ext cx="228528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888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 flipH="1">
              <a:off x="5486400" y="3429000"/>
              <a:ext cx="228528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888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7696080" y="4667400"/>
              <a:ext cx="83844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 flipV="1">
              <a:off x="8124840" y="4266720"/>
              <a:ext cx="1440" cy="83844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181480" y="4667400"/>
              <a:ext cx="83844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V="1">
              <a:off x="5610240" y="4266720"/>
              <a:ext cx="1440" cy="83844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713640" y="52005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1377" name=""/>
          <p:cNvSpPr/>
          <p:nvPr/>
        </p:nvSpPr>
        <p:spPr>
          <a:xfrm>
            <a:off x="6553080" y="3809880"/>
            <a:ext cx="0" cy="3048120"/>
          </a:xfrm>
          <a:prstGeom prst="line">
            <a:avLst/>
          </a:prstGeom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7162920" y="3809880"/>
            <a:ext cx="0" cy="3048120"/>
          </a:xfrm>
          <a:prstGeom prst="line">
            <a:avLst/>
          </a:prstGeom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4724280" y="5372280"/>
            <a:ext cx="4419720" cy="0"/>
          </a:xfrm>
          <a:prstGeom prst="line">
            <a:avLst/>
          </a:prstGeom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4802400" y="4114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7241040" y="4114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505920" y="4648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6505920" y="5638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aphicFrame>
        <p:nvGraphicFramePr>
          <p:cNvPr id="1384" name=""/>
          <p:cNvGraphicFramePr/>
          <p:nvPr/>
        </p:nvGraphicFramePr>
        <p:xfrm>
          <a:off x="914400" y="1600200"/>
          <a:ext cx="3657600" cy="4381560"/>
        </p:xfrm>
        <a:graphic>
          <a:graphicData uri="http://schemas.openxmlformats.org/drawingml/2006/table">
            <a:tbl>
              <a:tblPr/>
              <a:tblGrid>
                <a:gridCol w="1600200"/>
                <a:gridCol w="457200"/>
                <a:gridCol w="533520"/>
                <a:gridCol w="533160"/>
                <a:gridCol w="533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ridx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ridy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ridw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ridh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fill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N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N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anchor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N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weightx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weighty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ipadx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inset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C681-630C-42C4-A801-225B040E9436}" type="slidenum">
              <a:t>15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6D5DDB-1D89-48A5-9AFF-D45CCB1DA45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Center Section as a GridBa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1386" name=""/>
          <p:cNvGrpSpPr/>
          <p:nvPr/>
        </p:nvGrpSpPr>
        <p:grpSpPr>
          <a:xfrm>
            <a:off x="4724280" y="3276720"/>
            <a:ext cx="4295880" cy="3504960"/>
            <a:chOff x="4724280" y="3276720"/>
            <a:chExt cx="4295880" cy="3504960"/>
          </a:xfrm>
        </p:grpSpPr>
        <p:pic>
          <p:nvPicPr>
            <p:cNvPr id="1387" name="ftp4" descr=""/>
            <p:cNvPicPr/>
            <p:nvPr/>
          </p:nvPicPr>
          <p:blipFill>
            <a:blip r:embed="rId2"/>
            <a:stretch/>
          </p:blipFill>
          <p:spPr>
            <a:xfrm>
              <a:off x="4724280" y="3962520"/>
              <a:ext cx="4295880" cy="2813040"/>
            </a:xfrm>
            <a:prstGeom prst="rect">
              <a:avLst/>
            </a:prstGeom>
            <a:ln w="9360">
              <a:solidFill>
                <a:srgbClr val="545472"/>
              </a:solidFill>
              <a:miter/>
            </a:ln>
          </p:spPr>
        </p:pic>
        <p:sp>
          <p:nvSpPr>
            <p:cNvPr id="1388" name=""/>
            <p:cNvSpPr/>
            <p:nvPr/>
          </p:nvSpPr>
          <p:spPr>
            <a:xfrm>
              <a:off x="4753080" y="4019400"/>
              <a:ext cx="1752480" cy="2743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45472"/>
                  </a:solidFill>
                  <a:latin typeface="Courier New"/>
                </a:rPr>
                <a:t>FileDisplay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7248600" y="4019400"/>
              <a:ext cx="1752480" cy="2743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45472"/>
                  </a:solidFill>
                  <a:latin typeface="Courier New"/>
                </a:rPr>
                <a:t>FileDisplay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 flipV="1">
              <a:off x="6870600" y="3990960"/>
              <a:ext cx="1800" cy="83808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 rot="16200000">
              <a:off x="6722640" y="41562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 flipV="1">
              <a:off x="6867360" y="5943600"/>
              <a:ext cx="1800" cy="83808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 rot="16200000">
              <a:off x="6719400" y="6108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707520" y="50133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707520" y="53942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631200" y="32767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791680" y="3429000"/>
              <a:ext cx="228528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888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 flipH="1">
              <a:off x="5486400" y="3429000"/>
              <a:ext cx="228528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888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7696080" y="4667400"/>
              <a:ext cx="83844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V="1">
              <a:off x="8124840" y="4266720"/>
              <a:ext cx="1440" cy="83844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181480" y="4667400"/>
              <a:ext cx="83844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 flipV="1">
              <a:off x="5610240" y="4266720"/>
              <a:ext cx="1440" cy="83844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6713640" y="52005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1404" name=""/>
          <p:cNvSpPr/>
          <p:nvPr/>
        </p:nvSpPr>
        <p:spPr>
          <a:xfrm>
            <a:off x="6553080" y="3809880"/>
            <a:ext cx="0" cy="3048120"/>
          </a:xfrm>
          <a:prstGeom prst="line">
            <a:avLst/>
          </a:prstGeom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7162920" y="3809880"/>
            <a:ext cx="0" cy="3048120"/>
          </a:xfrm>
          <a:prstGeom prst="line">
            <a:avLst/>
          </a:prstGeom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4724280" y="5372280"/>
            <a:ext cx="4419720" cy="0"/>
          </a:xfrm>
          <a:prstGeom prst="line">
            <a:avLst/>
          </a:prstGeom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4802400" y="4114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7241040" y="4114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6505920" y="4648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6505920" y="5638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aphicFrame>
        <p:nvGraphicFramePr>
          <p:cNvPr id="1411" name=""/>
          <p:cNvGraphicFramePr/>
          <p:nvPr/>
        </p:nvGraphicFramePr>
        <p:xfrm>
          <a:off x="914400" y="1600200"/>
          <a:ext cx="3657600" cy="4381560"/>
        </p:xfrm>
        <a:graphic>
          <a:graphicData uri="http://schemas.openxmlformats.org/drawingml/2006/table">
            <a:tbl>
              <a:tblPr/>
              <a:tblGrid>
                <a:gridCol w="1600200"/>
                <a:gridCol w="457200"/>
                <a:gridCol w="533520"/>
                <a:gridCol w="533160"/>
                <a:gridCol w="533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ridx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ridy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ridw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ridh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fill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N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N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anchor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N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weightx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weighty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ipadx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ipady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inset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AB0D-2848-4F1E-95DC-65A103A34E52}" type="slidenum">
              <a:t>15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5D03E0-3062-40D9-9099-FDE50823F3D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Center Section as a GridBa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1413" name=""/>
          <p:cNvGrpSpPr/>
          <p:nvPr/>
        </p:nvGrpSpPr>
        <p:grpSpPr>
          <a:xfrm>
            <a:off x="4724280" y="3276720"/>
            <a:ext cx="4295880" cy="3504960"/>
            <a:chOff x="4724280" y="3276720"/>
            <a:chExt cx="4295880" cy="3504960"/>
          </a:xfrm>
        </p:grpSpPr>
        <p:pic>
          <p:nvPicPr>
            <p:cNvPr id="1414" name="ftp4" descr=""/>
            <p:cNvPicPr/>
            <p:nvPr/>
          </p:nvPicPr>
          <p:blipFill>
            <a:blip r:embed="rId2"/>
            <a:stretch/>
          </p:blipFill>
          <p:spPr>
            <a:xfrm>
              <a:off x="4724280" y="3962520"/>
              <a:ext cx="4295880" cy="2813040"/>
            </a:xfrm>
            <a:prstGeom prst="rect">
              <a:avLst/>
            </a:prstGeom>
            <a:ln w="9360">
              <a:solidFill>
                <a:srgbClr val="545472"/>
              </a:solidFill>
              <a:miter/>
            </a:ln>
          </p:spPr>
        </p:pic>
        <p:sp>
          <p:nvSpPr>
            <p:cNvPr id="1415" name=""/>
            <p:cNvSpPr/>
            <p:nvPr/>
          </p:nvSpPr>
          <p:spPr>
            <a:xfrm>
              <a:off x="4753080" y="4019400"/>
              <a:ext cx="1752480" cy="2743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45472"/>
                  </a:solidFill>
                  <a:latin typeface="Courier New"/>
                </a:rPr>
                <a:t>FileDisplay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7248600" y="4019400"/>
              <a:ext cx="1752480" cy="2743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45472"/>
                  </a:solidFill>
                  <a:latin typeface="Courier New"/>
                </a:rPr>
                <a:t>FileDisplay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V="1">
              <a:off x="6870600" y="3990960"/>
              <a:ext cx="1800" cy="83808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 rot="16200000">
              <a:off x="6722640" y="41562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 flipV="1">
              <a:off x="6867360" y="5943600"/>
              <a:ext cx="1800" cy="83808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 rot="16200000">
              <a:off x="6719400" y="6108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6707520" y="50133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707520" y="53942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6631200" y="32767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791680" y="3429000"/>
              <a:ext cx="228528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888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 flipH="1">
              <a:off x="5486400" y="3429000"/>
              <a:ext cx="228528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888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7696080" y="4667400"/>
              <a:ext cx="83844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 flipV="1">
              <a:off x="8124840" y="4266720"/>
              <a:ext cx="1440" cy="83844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181480" y="4667400"/>
              <a:ext cx="83844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 flipV="1">
              <a:off x="5610240" y="4266720"/>
              <a:ext cx="1440" cy="83844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6713640" y="52005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1431" name=""/>
          <p:cNvSpPr/>
          <p:nvPr/>
        </p:nvSpPr>
        <p:spPr>
          <a:xfrm>
            <a:off x="6553080" y="3809880"/>
            <a:ext cx="0" cy="3048120"/>
          </a:xfrm>
          <a:prstGeom prst="line">
            <a:avLst/>
          </a:prstGeom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7162920" y="3809880"/>
            <a:ext cx="0" cy="3048120"/>
          </a:xfrm>
          <a:prstGeom prst="line">
            <a:avLst/>
          </a:prstGeom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4724280" y="5372280"/>
            <a:ext cx="4419720" cy="0"/>
          </a:xfrm>
          <a:prstGeom prst="line">
            <a:avLst/>
          </a:prstGeom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4802400" y="4114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7241040" y="4114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6505920" y="4648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6505920" y="5638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aphicFrame>
        <p:nvGraphicFramePr>
          <p:cNvPr id="1438" name=""/>
          <p:cNvGraphicFramePr/>
          <p:nvPr/>
        </p:nvGraphicFramePr>
        <p:xfrm>
          <a:off x="914400" y="1600200"/>
          <a:ext cx="3657600" cy="4381560"/>
        </p:xfrm>
        <a:graphic>
          <a:graphicData uri="http://schemas.openxmlformats.org/drawingml/2006/table">
            <a:tbl>
              <a:tblPr/>
              <a:tblGrid>
                <a:gridCol w="1600200"/>
                <a:gridCol w="457200"/>
                <a:gridCol w="533520"/>
                <a:gridCol w="533160"/>
                <a:gridCol w="533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ridx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ridy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ridw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ridh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fill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N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N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anchor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N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weightx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weighty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ipadx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ipady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inset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A35B-8411-4CA4-B100-0A2CBEB2856A}" type="slidenum">
              <a:t>15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1EE133-9998-41D6-A098-D031548396B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UI Sin #3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ssuming One Languag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How about German?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78" name="sin3b" descr=""/>
          <p:cNvPicPr/>
          <p:nvPr/>
        </p:nvPicPr>
        <p:blipFill>
          <a:blip r:embed="rId3"/>
          <a:stretch/>
        </p:blipFill>
        <p:spPr>
          <a:xfrm>
            <a:off x="2857680" y="3173400"/>
            <a:ext cx="3427200" cy="2541600"/>
          </a:xfrm>
          <a:prstGeom prst="rect">
            <a:avLst/>
          </a:prstGeom>
          <a:ln w="9360">
            <a:solidFill>
              <a:srgbClr val="545472"/>
            </a:solidFill>
            <a:miter/>
          </a:ln>
        </p:spPr>
      </p:pic>
      <p:sp>
        <p:nvSpPr>
          <p:cNvPr id="179" name=""/>
          <p:cNvSpPr/>
          <p:nvPr/>
        </p:nvSpPr>
        <p:spPr>
          <a:xfrm>
            <a:off x="1790280" y="5729400"/>
            <a:ext cx="556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(Uh oh… “Wieder” means “again”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8644-5A6A-4982-B85D-615A3276CC4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1B75C8-95FD-43F9-A150-E16E258AE4B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Quick Refere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440" name=""/>
          <p:cNvGraphicFramePr/>
          <p:nvPr/>
        </p:nvGraphicFramePr>
        <p:xfrm>
          <a:off x="1371600" y="1905120"/>
          <a:ext cx="7086600" cy="4127400"/>
        </p:xfrm>
        <a:graphic>
          <a:graphicData uri="http://schemas.openxmlformats.org/drawingml/2006/table">
            <a:tbl>
              <a:tblPr/>
              <a:tblGrid>
                <a:gridCol w="2362320"/>
                <a:gridCol w="236196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Nam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Us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Respect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FlowLayout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Comps flow across lin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Pref siz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BorderLayout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Lock edge comp at height/width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N/S – pref height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E/W – pref width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ridLayout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Adjacent comps same siz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N/A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CardLayout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One at a time, tabs, wizard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N/A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51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BoxLayout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One row/col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Pref, min, max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51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ridBagLayout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eneral, complex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Pref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9DFD-2374-43C2-9FB9-6AF5A01CD586}" type="slidenum">
              <a:t>16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741E28-B417-4050-983B-E8490062A4E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45472"/>
                </a:solidFill>
                <a:latin typeface="Tahoma"/>
              </a:rPr>
              <a:t>Always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use Layout Manager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 hunt non-users for sport</a:t>
            </a:r>
            <a:br>
              <a:rPr sz="2800"/>
            </a:b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Avoid Big Bad Evil GridBagLayou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Use simpler nesting layout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BC70-91D5-4EAB-B609-6255A290A6BC}" type="slidenum">
              <a:t>1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444BE4-24C3-4CFD-8C38-90ECBC453BB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Full Artic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Updated article will be available soon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Effective Layout Management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gn up for “Scott’s Java News” 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http://javadude.com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4BB6-38FE-41E5-93DE-6A706DC7C08A}" type="slidenum">
              <a:t>1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079E5D-5F42-41B9-803D-518360BE21F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ditional Layout Detai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ustom Layout Manager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’m working on a tutoria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Layout Explorer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Layout Managers for JavaServer Page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E943-D9FA-4D42-9CBE-C0E54AF31540}" type="slidenum">
              <a:t>1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B66D81-BB87-40D9-9AF6-1EBD44048AB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hat Is a Layout Manager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Algorithm for sizing/positioning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trategy pattern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Reusabl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Built for nesting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B477-8BC2-4C62-890A-89EFD49F9E5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32929A-3F4C-4E3C-9C4B-3EADD525BE0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ayout Manager Interac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Layout manager sizes/positions a Container’s component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ould contain other Container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Repeat with children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69B7-954D-48B3-8C41-BF9D3DA605E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F123AC-AE13-47C6-9713-64E25C20DF9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ayout Manager Interaction Analog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World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ize/position into continent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Size/position into countrie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ze/position into states/provinces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ze/position into cities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Each level is “simple”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Keeps complexity lower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AD18-C8FB-44BB-B3FF-308FE32DD2E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047D64-F480-484D-98AE-32453463777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hy You’re He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0560" y="2362320"/>
            <a:ext cx="73152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o learn </a:t>
            </a:r>
            <a:r>
              <a:rPr b="0" lang="en-US" sz="3200" spc="-1" strike="noStrike">
                <a:solidFill>
                  <a:srgbClr val="8888ae"/>
                </a:solidFill>
                <a:latin typeface="Tahoma"/>
              </a:rPr>
              <a:t>why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you need layout managers, and learn how use them </a:t>
            </a:r>
            <a:r>
              <a:rPr b="0" lang="en-US" sz="3200" spc="-1" strike="noStrike">
                <a:solidFill>
                  <a:srgbClr val="8888ae"/>
                </a:solidFill>
                <a:latin typeface="Tahoma"/>
              </a:rPr>
              <a:t>effectively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990720" y="1816200"/>
            <a:ext cx="7315200" cy="3047760"/>
          </a:xfrm>
          <a:custGeom>
            <a:avLst/>
            <a:gdLst/>
            <a:ahLst/>
            <a:rect l="l" t="t" r="r" b="b"/>
            <a:pathLst>
              <a:path w="4800" h="1968">
                <a:moveTo>
                  <a:pt x="0" y="1968"/>
                </a:moveTo>
                <a:lnTo>
                  <a:pt x="0" y="0"/>
                </a:lnTo>
                <a:lnTo>
                  <a:pt x="4800" y="0"/>
                </a:lnTo>
              </a:path>
            </a:pathLst>
          </a:custGeom>
          <a:noFill/>
          <a:ln w="19080">
            <a:solidFill>
              <a:srgbClr val="898d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BCFE-98C7-489C-9DAD-2268C80CACE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838A56-7380-400C-AA77-93A8FCF48EA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7 </a:t>
            </a:r>
            <a:r>
              <a:rPr b="0" lang="en-US" sz="4400" spc="-1" strike="noStrike" u="sng">
                <a:solidFill>
                  <a:srgbClr val="660066"/>
                </a:solidFill>
                <a:uFillTx/>
                <a:latin typeface="Tahoma"/>
              </a:rPr>
              <a:t>+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2 Ru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e mind likes to deal with </a:t>
            </a:r>
            <a:r>
              <a:rPr b="0" lang="en-US" sz="3200" spc="-1" strike="noStrike">
                <a:solidFill>
                  <a:srgbClr val="8888ae"/>
                </a:solidFill>
                <a:latin typeface="Tahoma"/>
              </a:rPr>
              <a:t>at most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five to nine </a:t>
            </a:r>
            <a:r>
              <a:rPr b="0" lang="en-US" sz="3200" spc="-1" strike="noStrike">
                <a:solidFill>
                  <a:srgbClr val="8888ae"/>
                </a:solidFill>
                <a:latin typeface="Tahoma"/>
              </a:rPr>
              <a:t>distinct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items at onc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ree or four after happy hour…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s is why w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Divide and conquer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lassify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Delegat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AA00-0148-4954-B5BB-3CB3B864C96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B65542-E7D4-4A3B-A818-A3F3ECBAF91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7 </a:t>
            </a:r>
            <a:r>
              <a:rPr b="0" lang="en-US" sz="4400" spc="-1" strike="noStrike" u="sng">
                <a:solidFill>
                  <a:srgbClr val="660066"/>
                </a:solidFill>
                <a:uFillTx/>
                <a:latin typeface="Tahoma"/>
              </a:rPr>
              <a:t>+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2 Ru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Most GUIs have many more than nine component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Difficult to organize all at onc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Nested layouts simplify!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F8DE-E6A7-4A4C-A0C2-F254403C0B1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657B33-08EF-4FE5-B60A-889BB8F69C5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UI Design Step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Draw a picture!!!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Annotate with resizing behavior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Determine appropriate layout manager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Implemen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GUI Builder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By hand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A3C4-6AC7-40D6-9D6C-F1B267A3A73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7C06D3-97D1-444B-8C64-0CF0F3E1DD6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UI Builders Are Your Friend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Real programmers write GUIs by hand”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Bah!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Remember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Real programmers write in assembler” ?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A picture is worth a hundred lines of cod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A98C-214A-42F4-AAFD-B8E17CFF864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90B902-A491-4425-B916-DF72386C042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UI Builders Are Your Friend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Abstract GUI code like 3</a:t>
            </a:r>
            <a:r>
              <a:rPr b="0" lang="en-US" sz="3200" spc="-1" strike="noStrike" baseline="30000">
                <a:solidFill>
                  <a:srgbClr val="545472"/>
                </a:solidFill>
                <a:latin typeface="Tahoma"/>
              </a:rPr>
              <a:t>rd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generation languages abstract assembler cod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Easier implementation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Easier maintenanc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NOT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45472"/>
                </a:solidFill>
                <a:latin typeface="Tahoma"/>
              </a:rPr>
              <a:t>GUI builders are </a:t>
            </a:r>
            <a:r>
              <a:rPr b="0" i="1" lang="en-US" sz="2800" spc="-1" strike="noStrike">
                <a:solidFill>
                  <a:srgbClr val="8888ae"/>
                </a:solidFill>
                <a:latin typeface="Tahoma"/>
              </a:rPr>
              <a:t>not</a:t>
            </a:r>
            <a:r>
              <a:rPr b="0" i="1" lang="en-US" sz="2800" spc="-1" strike="noStrike">
                <a:solidFill>
                  <a:srgbClr val="545472"/>
                </a:solidFill>
                <a:latin typeface="Tahoma"/>
              </a:rPr>
              <a:t> design tools!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670A-F239-4A21-8D2B-5C406567906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62CEEB-64F5-4A63-981F-0F02B1D77B0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onent Preferred Siz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45472"/>
                </a:solidFill>
                <a:latin typeface="Tahoma"/>
              </a:rPr>
              <a:t>“</a:t>
            </a:r>
            <a:r>
              <a:rPr b="0" i="1" lang="en-US" sz="3200" spc="-1" strike="noStrike">
                <a:solidFill>
                  <a:srgbClr val="545472"/>
                </a:solidFill>
                <a:latin typeface="Tahoma"/>
              </a:rPr>
              <a:t>If I had </a:t>
            </a:r>
            <a:r>
              <a:rPr b="0" i="1" lang="en-US" sz="3200" spc="-1" strike="noStrike">
                <a:solidFill>
                  <a:srgbClr val="8888ae"/>
                </a:solidFill>
                <a:latin typeface="Tahoma"/>
              </a:rPr>
              <a:t>infinite</a:t>
            </a:r>
            <a:r>
              <a:rPr b="0" i="1" lang="en-US" sz="3200" spc="-1" strike="noStrike">
                <a:solidFill>
                  <a:srgbClr val="545472"/>
                </a:solidFill>
                <a:latin typeface="Tahoma"/>
              </a:rPr>
              <a:t> screen space, how big would I </a:t>
            </a:r>
            <a:r>
              <a:rPr b="0" i="1" lang="en-US" sz="3200" spc="-1" strike="noStrike">
                <a:solidFill>
                  <a:srgbClr val="8888ae"/>
                </a:solidFill>
                <a:latin typeface="Tahoma"/>
              </a:rPr>
              <a:t>like</a:t>
            </a:r>
            <a:r>
              <a:rPr b="0" i="1" lang="en-US" sz="3200" spc="-1" strike="noStrike">
                <a:solidFill>
                  <a:srgbClr val="545472"/>
                </a:solidFill>
                <a:latin typeface="Tahoma"/>
              </a:rPr>
              <a:t> to be?”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Layout managers can respect </a:t>
            </a:r>
            <a:r>
              <a:rPr b="0" lang="en-US" sz="3200" spc="-1" strike="noStrike">
                <a:solidFill>
                  <a:srgbClr val="8888ae"/>
                </a:solidFill>
                <a:latin typeface="Tahoma"/>
              </a:rPr>
              <a:t>or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ignor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ould respect part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hould be documented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3D99-B001-4957-AE2B-F32986D64F1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43E7C0-4A54-4B86-AC66-D1007E50E6B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etPreferredSize(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alled by layout manager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Returns pointer to Dimension objec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ublic width, height field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Is a </a:t>
            </a:r>
            <a:r>
              <a:rPr b="0" lang="en-US" sz="3200" spc="-1" strike="noStrike">
                <a:solidFill>
                  <a:srgbClr val="8888ae"/>
                </a:solidFill>
                <a:latin typeface="Tahoma"/>
              </a:rPr>
              <a:t>request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, not a demand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905040" y="1843200"/>
            <a:ext cx="76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c7df"/>
                </a:solidFill>
                <a:latin typeface="Courier New"/>
              </a:rPr>
              <a:t>public</a:t>
            </a:r>
            <a:r>
              <a:rPr b="1" lang="en-US" sz="2800" spc="-1" strike="noStrike">
                <a:solidFill>
                  <a:srgbClr val="545472"/>
                </a:solidFill>
                <a:latin typeface="Courier New"/>
              </a:rPr>
              <a:t> Dimension getPreferredSize(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0D82-4A33-44D5-AC10-C6974946A9AA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68F9D6-302B-4094-9A3C-169A915AD0F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utton preferredSize(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What size would a Button prefer?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Big enough for text + border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an vary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Font siz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ext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Border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256E-469F-4D9D-AC24-A552080BBBA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81C04D-1DE2-4634-8226-104D3E59878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ever Call setPreferredSize()!!!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referred Size could change at runtim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tPreferredSize() locks it!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If you want to change preferred siz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Override getPreferredSize(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Decorate the component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E9A4-1448-4042-BC64-EFF3D2E67BB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1EA635-6FD0-4ED5-9FC5-F9C5CC220F4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aximum and Minimum Siz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45472"/>
                </a:solidFill>
                <a:latin typeface="Tahoma"/>
              </a:rPr>
              <a:t>“</a:t>
            </a:r>
            <a:r>
              <a:rPr b="0" i="1" lang="en-US" sz="3200" spc="-1" strike="noStrike">
                <a:solidFill>
                  <a:srgbClr val="545472"/>
                </a:solidFill>
                <a:latin typeface="Tahoma"/>
              </a:rPr>
              <a:t>If I had </a:t>
            </a:r>
            <a:r>
              <a:rPr b="0" i="1" lang="en-US" sz="3200" spc="-1" strike="noStrike">
                <a:solidFill>
                  <a:srgbClr val="8888ae"/>
                </a:solidFill>
                <a:latin typeface="Tahoma"/>
              </a:rPr>
              <a:t>infinite</a:t>
            </a:r>
            <a:r>
              <a:rPr b="0" i="1" lang="en-US" sz="3200" spc="-1" strike="noStrike">
                <a:solidFill>
                  <a:srgbClr val="545472"/>
                </a:solidFill>
                <a:latin typeface="Tahoma"/>
              </a:rPr>
              <a:t> screen space, what’s the largest/smallest I would </a:t>
            </a:r>
            <a:r>
              <a:rPr b="0" i="1" lang="en-US" sz="3200" spc="-1" strike="noStrike">
                <a:solidFill>
                  <a:srgbClr val="8888ae"/>
                </a:solidFill>
                <a:latin typeface="Tahoma"/>
              </a:rPr>
              <a:t>like</a:t>
            </a:r>
            <a:r>
              <a:rPr b="0" i="1" lang="en-US" sz="3200" spc="-1" strike="noStrike">
                <a:solidFill>
                  <a:srgbClr val="545472"/>
                </a:solidFill>
                <a:latin typeface="Tahoma"/>
              </a:rPr>
              <a:t> to be?”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914400" y="2971800"/>
            <a:ext cx="75438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c7df"/>
                </a:solidFill>
                <a:latin typeface="Courier New"/>
              </a:rPr>
              <a:t>public</a:t>
            </a:r>
            <a:r>
              <a:rPr b="1" lang="en-US" sz="2800" spc="-1" strike="noStrike">
                <a:solidFill>
                  <a:srgbClr val="545472"/>
                </a:solidFill>
                <a:latin typeface="Courier New"/>
              </a:rPr>
              <a:t> Dimension getMinimumSize(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c7df"/>
                </a:solidFill>
                <a:latin typeface="Courier New"/>
              </a:rPr>
              <a:t>public</a:t>
            </a:r>
            <a:r>
              <a:rPr b="1" lang="en-US" sz="2800" spc="-1" strike="noStrike">
                <a:solidFill>
                  <a:srgbClr val="545472"/>
                </a:solidFill>
                <a:latin typeface="Courier New"/>
              </a:rPr>
              <a:t> Dimension getMaximumSize(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CFDC-B5E5-44A0-8D3D-DF9A8D6C953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3836C6-3EE0-4CD1-A217-D7424F7E39B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earning Objectiv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Understand </a:t>
            </a:r>
            <a:r>
              <a:rPr b="0" lang="en-US" sz="3200" spc="-1" strike="noStrike">
                <a:solidFill>
                  <a:srgbClr val="8888ae"/>
                </a:solidFill>
                <a:latin typeface="Tahoma"/>
              </a:rPr>
              <a:t>why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layout managers are necessary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Recognize standard layout manager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Recognize layout nesting pattern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5F92-CCDA-4669-A151-ED3645BE24F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90E2E6-84B8-472F-98CA-9785CE22AD6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tainer Preferred Siz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45472"/>
                </a:solidFill>
                <a:latin typeface="Tahoma"/>
              </a:rPr>
              <a:t>“</a:t>
            </a:r>
            <a:r>
              <a:rPr b="0" i="1" lang="en-US" sz="3200" spc="-1" strike="noStrike">
                <a:solidFill>
                  <a:srgbClr val="545472"/>
                </a:solidFill>
                <a:latin typeface="Tahoma"/>
              </a:rPr>
              <a:t>If I had </a:t>
            </a:r>
            <a:r>
              <a:rPr b="0" i="1" lang="en-US" sz="3200" spc="-1" strike="noStrike">
                <a:solidFill>
                  <a:srgbClr val="8888ae"/>
                </a:solidFill>
                <a:latin typeface="Tahoma"/>
              </a:rPr>
              <a:t>infinite</a:t>
            </a:r>
            <a:r>
              <a:rPr b="0" i="1" lang="en-US" sz="3200" spc="-1" strike="noStrike">
                <a:solidFill>
                  <a:srgbClr val="545472"/>
                </a:solidFill>
                <a:latin typeface="Tahoma"/>
              </a:rPr>
              <a:t> screen space, how big would I </a:t>
            </a:r>
            <a:r>
              <a:rPr b="0" i="1" lang="en-US" sz="3200" spc="-1" strike="noStrike">
                <a:solidFill>
                  <a:srgbClr val="8888ae"/>
                </a:solidFill>
                <a:latin typeface="Tahoma"/>
              </a:rPr>
              <a:t>like</a:t>
            </a:r>
            <a:r>
              <a:rPr b="0" i="1" lang="en-US" sz="3200" spc="-1" strike="noStrike">
                <a:solidFill>
                  <a:srgbClr val="545472"/>
                </a:solidFill>
                <a:latin typeface="Tahoma"/>
              </a:rPr>
              <a:t> to be?”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Basic rule: make all contained components happy!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milar for maximum and minimum size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FE7B-D244-406E-908D-D24760D58660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C7D520-4EC7-4E47-8CD2-15F9F58C66F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Standard Layout Manager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lowLayou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BorderLayou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GridLayou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ardLayou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BoxLayou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GridBagLayou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295280" y="4495680"/>
            <a:ext cx="4724640" cy="762120"/>
            <a:chOff x="1295280" y="4495680"/>
            <a:chExt cx="4724640" cy="762120"/>
          </a:xfrm>
        </p:grpSpPr>
        <p:sp>
          <p:nvSpPr>
            <p:cNvPr id="213" name=""/>
            <p:cNvSpPr/>
            <p:nvPr/>
          </p:nvSpPr>
          <p:spPr>
            <a:xfrm>
              <a:off x="1295280" y="4495680"/>
              <a:ext cx="472464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341000" y="4595760"/>
              <a:ext cx="457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45472"/>
                  </a:solidFill>
                  <a:latin typeface="Arial"/>
                </a:rPr>
                <a:t>Big Bad Evil GridBagLayout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391C-C7EB-4994-9931-B30A1606B54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4A5665-E1E2-4E9F-A403-87AC4758A5D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lowLayou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Respect preferredSize of components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Lay out as many components as possible per row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tart new row(s) if needed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If all components can't fit, </a:t>
            </a:r>
            <a:r>
              <a:rPr b="0" lang="en-US" sz="3200" spc="-1" strike="noStrike">
                <a:solidFill>
                  <a:srgbClr val="8888ae"/>
                </a:solidFill>
                <a:latin typeface="Tahoma"/>
              </a:rPr>
              <a:t>too bad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!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388A-D8D4-4C3A-B9BC-46EEE82E87C2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6898E7-BC89-4A45-AB50-4BE712F19A1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flow1" descr=""/>
          <p:cNvPicPr/>
          <p:nvPr/>
        </p:nvPicPr>
        <p:blipFill>
          <a:blip r:embed="rId2"/>
          <a:stretch/>
        </p:blipFill>
        <p:spPr>
          <a:xfrm>
            <a:off x="914400" y="2744640"/>
            <a:ext cx="5273640" cy="2589480"/>
          </a:xfrm>
          <a:prstGeom prst="rect">
            <a:avLst/>
          </a:prstGeom>
          <a:ln w="9360">
            <a:solidFill>
              <a:srgbClr val="545472"/>
            </a:solidFill>
            <a:miter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lowLayout Examp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Initial size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B83D-C89C-4308-993A-F37E50709A91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FF8A50-2CBE-41DE-9575-98BC734A23C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flow1" descr=""/>
          <p:cNvPicPr/>
          <p:nvPr/>
        </p:nvPicPr>
        <p:blipFill>
          <a:blip r:embed="rId2"/>
          <a:stretch/>
        </p:blipFill>
        <p:spPr>
          <a:xfrm>
            <a:off x="914400" y="2744640"/>
            <a:ext cx="5273640" cy="2589480"/>
          </a:xfrm>
          <a:prstGeom prst="rect">
            <a:avLst/>
          </a:prstGeom>
          <a:ln w="9360">
            <a:solidFill>
              <a:srgbClr val="545472"/>
            </a:solidFill>
            <a:miter/>
          </a:ln>
        </p:spPr>
      </p:pic>
      <p:sp>
        <p:nvSpPr>
          <p:cNvPr id="221" name=""/>
          <p:cNvSpPr/>
          <p:nvPr/>
        </p:nvSpPr>
        <p:spPr>
          <a:xfrm>
            <a:off x="6186600" y="349092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lowLayout Examp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tretch horizontally a bit…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24" name="flow2" descr=""/>
          <p:cNvPicPr/>
          <p:nvPr/>
        </p:nvPicPr>
        <p:blipFill>
          <a:blip r:embed="rId4"/>
          <a:stretch/>
        </p:blipFill>
        <p:spPr>
          <a:xfrm>
            <a:off x="914400" y="2744640"/>
            <a:ext cx="6554880" cy="2589480"/>
          </a:xfrm>
          <a:prstGeom prst="rect">
            <a:avLst/>
          </a:prstGeom>
          <a:ln w="9360">
            <a:solidFill>
              <a:srgbClr val="545472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0B5A-7E68-4BEF-93F6-116E2CF4B20D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DCAD80-CBA3-489D-ACE1-0E52261943F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flow2" descr=""/>
          <p:cNvPicPr/>
          <p:nvPr/>
        </p:nvPicPr>
        <p:blipFill>
          <a:blip r:embed="rId2"/>
          <a:stretch/>
        </p:blipFill>
        <p:spPr>
          <a:xfrm>
            <a:off x="914400" y="2820960"/>
            <a:ext cx="6554880" cy="2589120"/>
          </a:xfrm>
          <a:prstGeom prst="rect">
            <a:avLst/>
          </a:prstGeom>
          <a:ln w="9360">
            <a:solidFill>
              <a:srgbClr val="545472"/>
            </a:solidFill>
            <a:miter/>
          </a:ln>
        </p:spPr>
      </p:pic>
      <p:sp>
        <p:nvSpPr>
          <p:cNvPr id="226" name=""/>
          <p:cNvSpPr/>
          <p:nvPr/>
        </p:nvSpPr>
        <p:spPr>
          <a:xfrm>
            <a:off x="7391520" y="349092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lowLayout Examp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tretch horizontally some more…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29" name="flow3" descr=""/>
          <p:cNvPicPr/>
          <p:nvPr/>
        </p:nvPicPr>
        <p:blipFill>
          <a:blip r:embed="rId4"/>
          <a:stretch/>
        </p:blipFill>
        <p:spPr>
          <a:xfrm>
            <a:off x="914400" y="2813040"/>
            <a:ext cx="7934400" cy="2597040"/>
          </a:xfrm>
          <a:prstGeom prst="rect">
            <a:avLst/>
          </a:prstGeom>
          <a:ln w="9360">
            <a:solidFill>
              <a:srgbClr val="545472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5B6A-CA65-41AB-A2E8-8EE7C9CF5E01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6A144E-EEDD-4E9C-9EEA-65E9862D877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flow3" descr=""/>
          <p:cNvPicPr/>
          <p:nvPr/>
        </p:nvPicPr>
        <p:blipFill>
          <a:blip r:embed="rId2"/>
          <a:stretch/>
        </p:blipFill>
        <p:spPr>
          <a:xfrm>
            <a:off x="914400" y="2819520"/>
            <a:ext cx="7934400" cy="2597040"/>
          </a:xfrm>
          <a:prstGeom prst="rect">
            <a:avLst/>
          </a:prstGeom>
          <a:ln w="9360">
            <a:solidFill>
              <a:srgbClr val="545472"/>
            </a:solidFill>
            <a:miter/>
          </a:ln>
        </p:spPr>
      </p:pic>
      <p:sp>
        <p:nvSpPr>
          <p:cNvPr id="231" name=""/>
          <p:cNvSpPr/>
          <p:nvPr/>
        </p:nvSpPr>
        <p:spPr>
          <a:xfrm rot="10800000">
            <a:off x="7467120" y="3467160"/>
            <a:ext cx="1295640" cy="53352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914400" y="2743200"/>
            <a:ext cx="8001000" cy="2743200"/>
            <a:chOff x="914400" y="2743200"/>
            <a:chExt cx="8001000" cy="2743200"/>
          </a:xfrm>
        </p:grpSpPr>
        <p:sp>
          <p:nvSpPr>
            <p:cNvPr id="233" name=""/>
            <p:cNvSpPr/>
            <p:nvPr/>
          </p:nvSpPr>
          <p:spPr>
            <a:xfrm>
              <a:off x="3505320" y="2743200"/>
              <a:ext cx="5410080" cy="274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pic>
          <p:nvPicPr>
            <p:cNvPr id="234" name="flow4" descr=""/>
            <p:cNvPicPr/>
            <p:nvPr/>
          </p:nvPicPr>
          <p:blipFill>
            <a:blip r:embed="rId3"/>
            <a:stretch/>
          </p:blipFill>
          <p:spPr>
            <a:xfrm>
              <a:off x="914400" y="2811240"/>
              <a:ext cx="2678040" cy="2606760"/>
            </a:xfrm>
            <a:prstGeom prst="rect">
              <a:avLst/>
            </a:prstGeom>
            <a:ln w="9360">
              <a:solidFill>
                <a:srgbClr val="545472"/>
              </a:solidFill>
              <a:miter/>
            </a:ln>
          </p:spPr>
        </p:pic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lowLayout Examp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hrink it a lot…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Uh oh! They don’t all fit!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CD73-FC4F-4A08-9F42-BFCEFB1919BD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FF08D8-AF16-494E-A229-4D3F5CEB92E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lowLayout Variatio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hgap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Horizontal space between component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vgap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Vertical space between component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2800" spc="-1" strike="noStrike">
                <a:solidFill>
                  <a:srgbClr val="545472"/>
                </a:solidFill>
                <a:latin typeface="Courier New"/>
              </a:rPr>
              <a:t>p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.</a:t>
            </a:r>
            <a:r>
              <a:rPr b="1" lang="en-US" sz="2800" spc="-1" strike="noStrike">
                <a:solidFill>
                  <a:srgbClr val="545472"/>
                </a:solidFill>
                <a:latin typeface="Courier New"/>
              </a:rPr>
              <a:t>setLayout(</a:t>
            </a:r>
            <a:r>
              <a:rPr b="1" lang="en-US" sz="2800" spc="-1" strike="noStrike">
                <a:solidFill>
                  <a:srgbClr val="c7c7df"/>
                </a:solidFill>
                <a:latin typeface="Courier New"/>
              </a:rPr>
              <a:t>new</a:t>
            </a:r>
            <a:r>
              <a:rPr b="1" lang="en-US" sz="2800" spc="-1" strike="noStrike">
                <a:solidFill>
                  <a:srgbClr val="545472"/>
                </a:solidFill>
                <a:latin typeface="Courier New"/>
              </a:rPr>
              <a:t> FlowLayout(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3</a:t>
            </a:r>
            <a:r>
              <a:rPr b="1" lang="en-US" sz="2800" spc="-1" strike="noStrike">
                <a:solidFill>
                  <a:srgbClr val="545472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5</a:t>
            </a:r>
            <a:r>
              <a:rPr b="1" lang="en-US" sz="2800" spc="-1" strike="noStrike">
                <a:solidFill>
                  <a:srgbClr val="545472"/>
                </a:solidFill>
                <a:latin typeface="Courier New"/>
              </a:rPr>
              <a:t>);</a:t>
            </a:r>
            <a:br>
              <a:rPr sz="2800"/>
            </a:b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// hgap is 3, vgap is 5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646A-12F2-47E4-84CF-5DC0EF05D779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30F046-FB77-4D2C-B6B9-7D439CB4A82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lowLayout Variatio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alignment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: horizontal group positioning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omponents separated by hgap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hifted to LEFT, CENTER, or RIGH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p</a:t>
            </a:r>
            <a:r>
              <a:rPr b="1" lang="en-US" sz="2000" spc="-1" strike="noStrike">
                <a:solidFill>
                  <a:srgbClr val="ff5050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setLayout(</a:t>
            </a:r>
            <a:br>
              <a:rPr sz="2000"/>
            </a:b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c7c7df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 FlowLayout(</a:t>
            </a:r>
            <a:r>
              <a:rPr b="1" lang="en-US" sz="2000" spc="-1" strike="noStrike">
                <a:solidFill>
                  <a:srgbClr val="ff5050"/>
                </a:solidFill>
                <a:latin typeface="Courier New"/>
              </a:rPr>
              <a:t>3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ff5050"/>
                </a:solidFill>
                <a:latin typeface="Courier New"/>
              </a:rPr>
              <a:t>5,</a:t>
            </a:r>
            <a:br>
              <a:rPr sz="2000"/>
            </a:b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                  FlowLayout</a:t>
            </a:r>
            <a:r>
              <a:rPr b="1" lang="en-US" sz="2000" spc="-1" strike="noStrike">
                <a:solidFill>
                  <a:srgbClr val="ff5050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RIGHT));</a:t>
            </a:r>
            <a:br>
              <a:rPr sz="2000"/>
            </a:br>
            <a:r>
              <a:rPr b="1" lang="en-US" sz="2000" spc="-1" strike="noStrike">
                <a:solidFill>
                  <a:srgbClr val="660066"/>
                </a:solidFill>
                <a:latin typeface="Courier New"/>
              </a:rPr>
              <a:t>// hgap is 3, vgap is 5</a:t>
            </a:r>
            <a:br>
              <a:rPr sz="2000"/>
            </a:br>
            <a:r>
              <a:rPr b="1" lang="en-US" sz="2000" spc="-1" strike="noStrike">
                <a:solidFill>
                  <a:srgbClr val="660066"/>
                </a:solidFill>
                <a:latin typeface="Courier New"/>
              </a:rPr>
              <a:t>// right justify</a:t>
            </a:r>
            <a:br>
              <a:rPr sz="2000"/>
            </a:br>
            <a:r>
              <a:rPr b="1" lang="en-US" sz="2000" spc="-1" strike="noStrike">
                <a:solidFill>
                  <a:srgbClr val="660066"/>
                </a:solidFill>
                <a:latin typeface="Courier New"/>
              </a:rPr>
              <a:t>// CENTER is default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2582-8E5C-441A-8C41-EE84F64D0D60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71B200-3973-4ADF-A271-08E59C9E950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lowLayout Align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42" name="flow5" descr=""/>
          <p:cNvPicPr/>
          <p:nvPr/>
        </p:nvPicPr>
        <p:blipFill>
          <a:blip r:embed="rId2"/>
          <a:stretch/>
        </p:blipFill>
        <p:spPr>
          <a:xfrm>
            <a:off x="1295280" y="2017800"/>
            <a:ext cx="6629400" cy="4078080"/>
          </a:xfrm>
          <a:prstGeom prst="rect">
            <a:avLst/>
          </a:prstGeom>
          <a:ln w="9360">
            <a:solidFill>
              <a:srgbClr val="545472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C3E4-86BC-43EF-8A1B-7A5B42CD8795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65F97B-59C7-4941-9CCC-4C7E9E03970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peaker’s Qualificatio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Java Guru with 500 years of Java experienc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Fools recruiters easily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aught Java for four year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Manages Swing and AWT FAQs at http://www.jGuru.com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Wrote </a:t>
            </a:r>
            <a:r>
              <a:rPr b="0" i="1" lang="en-US" sz="2800" spc="-1" strike="noStrike">
                <a:solidFill>
                  <a:srgbClr val="545472"/>
                </a:solidFill>
                <a:latin typeface="Tahoma"/>
              </a:rPr>
              <a:t>Effective Layout Management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Lead author of</a:t>
            </a:r>
            <a:br>
              <a:rPr sz="2800"/>
            </a:br>
            <a:r>
              <a:rPr b="0" i="1" lang="en-US" sz="2800" spc="-1" strike="noStrike">
                <a:solidFill>
                  <a:srgbClr val="545472"/>
                </a:solidFill>
                <a:latin typeface="Tahoma"/>
              </a:rPr>
              <a:t>Effective VisualAge for Java, Version 3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79E0-D2F0-4CB9-A66F-07EBA9D6924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454EC5-2E33-4388-B0D2-8DA92B27735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aybe Not Quite Right…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referred size components by themselves might not look right…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But we’re not done yet!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45" name="flow6" descr=""/>
          <p:cNvPicPr/>
          <p:nvPr/>
        </p:nvPicPr>
        <p:blipFill>
          <a:blip r:embed="rId4"/>
          <a:stretch/>
        </p:blipFill>
        <p:spPr>
          <a:xfrm>
            <a:off x="838080" y="2960640"/>
            <a:ext cx="8034480" cy="2602080"/>
          </a:xfrm>
          <a:prstGeom prst="rect">
            <a:avLst/>
          </a:prstGeom>
          <a:ln w="9360">
            <a:solidFill>
              <a:srgbClr val="545472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2517-FD28-418D-B037-9F69D7710626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32AC5B-F8CC-4281-B088-E34B305E32F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eferredSize of FlowLayou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45472"/>
                </a:solidFill>
                <a:latin typeface="Tahoma"/>
              </a:rPr>
              <a:t>“</a:t>
            </a:r>
            <a:r>
              <a:rPr b="0" i="1" lang="en-US" sz="3200" spc="-1" strike="noStrike">
                <a:solidFill>
                  <a:srgbClr val="545472"/>
                </a:solidFill>
                <a:latin typeface="Tahoma"/>
              </a:rPr>
              <a:t>If I had </a:t>
            </a:r>
            <a:r>
              <a:rPr b="0" i="1" lang="en-US" sz="3200" spc="-1" strike="noStrike">
                <a:solidFill>
                  <a:srgbClr val="8888ae"/>
                </a:solidFill>
                <a:latin typeface="Tahoma"/>
              </a:rPr>
              <a:t>infinite</a:t>
            </a:r>
            <a:r>
              <a:rPr b="0" i="1" lang="en-US" sz="3200" spc="-1" strike="noStrike">
                <a:solidFill>
                  <a:srgbClr val="545472"/>
                </a:solidFill>
                <a:latin typeface="Tahoma"/>
              </a:rPr>
              <a:t> screen space, how big would I </a:t>
            </a:r>
            <a:r>
              <a:rPr b="0" i="1" lang="en-US" sz="3200" spc="-1" strike="noStrike">
                <a:solidFill>
                  <a:srgbClr val="8888ae"/>
                </a:solidFill>
                <a:latin typeface="Tahoma"/>
              </a:rPr>
              <a:t>like</a:t>
            </a:r>
            <a:r>
              <a:rPr b="0" i="1" lang="en-US" sz="3200" spc="-1" strike="noStrike">
                <a:solidFill>
                  <a:srgbClr val="545472"/>
                </a:solidFill>
                <a:latin typeface="Tahoma"/>
              </a:rPr>
              <a:t> to be?”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If no bounds…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ll components in one line!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DDAA-12D1-4A7C-A9C0-35658E6C9F24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081066-984B-4E90-A158-E524751ACCC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lowLayout in a FlowLayou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Outer FlowLayout asks inner FlowLayout for preferred siz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You got it!”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One big line of component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971D-9323-49CE-B5F5-2B1D7A81C54D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FE705D-14DF-4766-9D7E-30F25951C9B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lowLayout in a FlowLayou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51" name="flow7" descr=""/>
          <p:cNvPicPr/>
          <p:nvPr/>
        </p:nvPicPr>
        <p:blipFill>
          <a:blip r:embed="rId2"/>
          <a:stretch/>
        </p:blipFill>
        <p:spPr>
          <a:xfrm>
            <a:off x="1828800" y="2057400"/>
            <a:ext cx="6013440" cy="3797280"/>
          </a:xfrm>
          <a:prstGeom prst="rect">
            <a:avLst/>
          </a:prstGeom>
          <a:ln w="9360">
            <a:solidFill>
              <a:srgbClr val="545472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0DB6-1B17-4895-B331-2BAA4DC64E01}" type="slidenum">
              <a:t>4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5E6AF7-A151-4154-90C9-39A9CDDF703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lowLayout in a FlowLayou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53" name="flow8" descr=""/>
          <p:cNvPicPr/>
          <p:nvPr/>
        </p:nvPicPr>
        <p:blipFill>
          <a:blip r:embed="rId2"/>
          <a:stretch/>
        </p:blipFill>
        <p:spPr>
          <a:xfrm>
            <a:off x="762120" y="1905120"/>
            <a:ext cx="8086680" cy="4098960"/>
          </a:xfrm>
          <a:prstGeom prst="rect">
            <a:avLst/>
          </a:prstGeom>
          <a:ln w="9360">
            <a:solidFill>
              <a:srgbClr val="545472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B8BF-A56A-4D43-9118-A5726B7F128E}" type="slidenum">
              <a:t>4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9C1039-88DC-4F93-B754-B8F6539CA24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lowLayout Pitfal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Many component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ome may not appear!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Nesting in preferredSize() respecting layou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Only one long line!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C69D-CF5F-4E03-8292-904B45FBE4E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C122ED-1668-492F-88CE-3259FC796D6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lowLayout Strateg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Use for only a few component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Want them grouped together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Left, center, right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otal respect of preferred size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BEB9-164B-4EFC-847D-C8F1C58B5C21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6E7E41-4E1A-42CB-89EA-4E3CD3AEF2D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orderLayou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robably most useful layou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Handles one to five component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NORTH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OUTH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WEST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EAST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ENTER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3216-7B14-4C25-BC78-CB1F9E988BC0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359B20-2BA6-45AF-ADFE-8337A9FEE46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orderLayou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61" name="border1" descr=""/>
          <p:cNvPicPr/>
          <p:nvPr/>
        </p:nvPicPr>
        <p:blipFill>
          <a:blip r:embed="rId2"/>
          <a:stretch/>
        </p:blipFill>
        <p:spPr>
          <a:xfrm>
            <a:off x="1812960" y="2054160"/>
            <a:ext cx="5959440" cy="3813120"/>
          </a:xfrm>
          <a:prstGeom prst="rect">
            <a:avLst/>
          </a:prstGeom>
          <a:ln w="9360">
            <a:solidFill>
              <a:srgbClr val="545472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1CE4-141F-4323-B7C3-65487F95BC66}" type="slidenum">
              <a:t>4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5D3EBE-81BA-4429-9A44-4B5D137B7B2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orderLayou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I’ll </a:t>
            </a:r>
            <a:r>
              <a:rPr b="0" lang="en-US" sz="3200" spc="-1" strike="noStrike">
                <a:solidFill>
                  <a:srgbClr val="8888ae"/>
                </a:solidFill>
                <a:latin typeface="Tahoma"/>
              </a:rPr>
              <a:t>never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create a GUI that looks like that!”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Usually only use two or three component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D7FC-3518-4E27-B00E-FF1F787F40B8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50C7A3-D336-4409-ABFD-EBC08096664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esentation Agenda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Why do we need layout managers?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What is a layout manager?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e standard layout manager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Nesting layout manager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4574-53A5-4436-9002-BF0F0D18B9A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CA8C9C-8FAB-4873-AFD3-C270FA64734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orderLayout Common Examp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65" name="border2" descr=""/>
          <p:cNvPicPr/>
          <p:nvPr/>
        </p:nvPicPr>
        <p:blipFill>
          <a:blip r:embed="rId2"/>
          <a:stretch/>
        </p:blipFill>
        <p:spPr>
          <a:xfrm>
            <a:off x="3505320" y="1962000"/>
            <a:ext cx="5484600" cy="3543480"/>
          </a:xfrm>
          <a:prstGeom prst="rect">
            <a:avLst/>
          </a:prstGeom>
          <a:ln w="9360">
            <a:solidFill>
              <a:srgbClr val="545472"/>
            </a:solidFill>
            <a:miter/>
          </a:ln>
        </p:spPr>
      </p:pic>
      <p:sp>
        <p:nvSpPr>
          <p:cNvPr id="266" name=""/>
          <p:cNvSpPr/>
          <p:nvPr/>
        </p:nvSpPr>
        <p:spPr>
          <a:xfrm>
            <a:off x="533520" y="2057400"/>
            <a:ext cx="297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Arial"/>
              </a:rPr>
              <a:t>This is a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Arial"/>
              </a:rPr>
              <a:t>perfect example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Arial"/>
              </a:rPr>
              <a:t>of BorderLayout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3890-EA2C-46E1-8451-248FBAC92125}" type="slidenum">
              <a:t>5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992387-8F25-4BBB-8059-968773B0A69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orderLayout Common Examp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68" name="border2" descr=""/>
          <p:cNvPicPr/>
          <p:nvPr/>
        </p:nvPicPr>
        <p:blipFill>
          <a:blip r:embed="rId2"/>
          <a:stretch/>
        </p:blipFill>
        <p:spPr>
          <a:xfrm>
            <a:off x="3505320" y="1962000"/>
            <a:ext cx="5484600" cy="3543480"/>
          </a:xfrm>
          <a:prstGeom prst="rect">
            <a:avLst/>
          </a:prstGeom>
          <a:ln w="9360">
            <a:solidFill>
              <a:srgbClr val="545472"/>
            </a:solidFill>
            <a:miter/>
          </a:ln>
        </p:spPr>
      </p:pic>
      <p:grpSp>
        <p:nvGrpSpPr>
          <p:cNvPr id="269" name=""/>
          <p:cNvGrpSpPr/>
          <p:nvPr/>
        </p:nvGrpSpPr>
        <p:grpSpPr>
          <a:xfrm>
            <a:off x="1069920" y="2286000"/>
            <a:ext cx="7921800" cy="685800"/>
            <a:chOff x="1069920" y="2286000"/>
            <a:chExt cx="7921800" cy="685800"/>
          </a:xfrm>
        </p:grpSpPr>
        <p:sp>
          <p:nvSpPr>
            <p:cNvPr id="270" name=""/>
            <p:cNvSpPr/>
            <p:nvPr/>
          </p:nvSpPr>
          <p:spPr>
            <a:xfrm>
              <a:off x="1069920" y="2367000"/>
              <a:ext cx="112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45472"/>
                  </a:solidFill>
                  <a:latin typeface="Arial"/>
                </a:rPr>
                <a:t>North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124080" y="2286000"/>
              <a:ext cx="304920" cy="68580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888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cxnSp>
          <p:nvCxnSpPr>
            <p:cNvPr id="272" name=""/>
            <p:cNvCxnSpPr>
              <a:stCxn id="270" idx="3"/>
              <a:endCxn id="271" idx="1"/>
            </p:cNvCxnSpPr>
            <p:nvPr/>
          </p:nvCxnSpPr>
          <p:spPr>
            <a:xfrm>
              <a:off x="2199960" y="2626920"/>
              <a:ext cx="905400" cy="2520"/>
            </a:xfrm>
            <a:prstGeom prst="straightConnector1">
              <a:avLst/>
            </a:prstGeom>
            <a:ln w="38160">
              <a:solidFill>
                <a:srgbClr val="8888ae"/>
              </a:solidFill>
              <a:miter/>
            </a:ln>
          </p:spPr>
        </p:cxnSp>
        <p:sp>
          <p:nvSpPr>
            <p:cNvPr id="273" name=""/>
            <p:cNvSpPr/>
            <p:nvPr/>
          </p:nvSpPr>
          <p:spPr>
            <a:xfrm>
              <a:off x="3505320" y="2286000"/>
              <a:ext cx="5486400" cy="685800"/>
            </a:xfrm>
            <a:prstGeom prst="rect">
              <a:avLst/>
            </a:prstGeom>
            <a:solidFill>
              <a:srgbClr val="8888ae">
                <a:alpha val="50000"/>
              </a:srgbClr>
            </a:solidFill>
            <a:ln w="2232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1069560" y="2971800"/>
            <a:ext cx="7922160" cy="2209680"/>
            <a:chOff x="1069560" y="2971800"/>
            <a:chExt cx="7922160" cy="2209680"/>
          </a:xfrm>
        </p:grpSpPr>
        <p:sp>
          <p:nvSpPr>
            <p:cNvPr id="275" name=""/>
            <p:cNvSpPr/>
            <p:nvPr/>
          </p:nvSpPr>
          <p:spPr>
            <a:xfrm>
              <a:off x="1069560" y="3781440"/>
              <a:ext cx="130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45472"/>
                  </a:solidFill>
                  <a:latin typeface="Arial"/>
                </a:rPr>
                <a:t>Center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124080" y="3048120"/>
              <a:ext cx="304920" cy="198108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51480 h 1981080"/>
                <a:gd name="textAreaBottom" fmla="*/ 1929600 h 19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cxnSp>
          <p:nvCxnSpPr>
            <p:cNvPr id="277" name=""/>
            <p:cNvCxnSpPr>
              <a:stCxn id="275" idx="3"/>
              <a:endCxn id="276" idx="1"/>
            </p:cNvCxnSpPr>
            <p:nvPr/>
          </p:nvCxnSpPr>
          <p:spPr>
            <a:xfrm flipV="1">
              <a:off x="2379240" y="4037760"/>
              <a:ext cx="726120" cy="3960"/>
            </a:xfrm>
            <a:prstGeom prst="straightConnector1">
              <a:avLst/>
            </a:prstGeom>
            <a:ln w="38160">
              <a:solidFill>
                <a:srgbClr val="660066"/>
              </a:solidFill>
              <a:miter/>
            </a:ln>
          </p:spPr>
        </p:cxnSp>
        <p:sp>
          <p:nvSpPr>
            <p:cNvPr id="278" name=""/>
            <p:cNvSpPr/>
            <p:nvPr/>
          </p:nvSpPr>
          <p:spPr>
            <a:xfrm>
              <a:off x="3505320" y="2971800"/>
              <a:ext cx="5486400" cy="2209680"/>
            </a:xfrm>
            <a:prstGeom prst="rect">
              <a:avLst/>
            </a:prstGeom>
            <a:solidFill>
              <a:srgbClr val="660066">
                <a:alpha val="50000"/>
              </a:srgbClr>
            </a:solidFill>
            <a:ln w="2232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1070280" y="5072040"/>
            <a:ext cx="7921440" cy="520560"/>
            <a:chOff x="1070280" y="5072040"/>
            <a:chExt cx="7921440" cy="520560"/>
          </a:xfrm>
        </p:grpSpPr>
        <p:sp>
          <p:nvSpPr>
            <p:cNvPr id="280" name=""/>
            <p:cNvSpPr/>
            <p:nvPr/>
          </p:nvSpPr>
          <p:spPr>
            <a:xfrm>
              <a:off x="1070280" y="5072040"/>
              <a:ext cx="118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45472"/>
                  </a:solidFill>
                  <a:latin typeface="Arial"/>
                </a:rPr>
                <a:t>South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124080" y="5181480"/>
              <a:ext cx="304920" cy="30492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c7c7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cxnSp>
          <p:nvCxnSpPr>
            <p:cNvPr id="282" name=""/>
            <p:cNvCxnSpPr>
              <a:stCxn id="280" idx="3"/>
              <a:endCxn id="281" idx="1"/>
            </p:cNvCxnSpPr>
            <p:nvPr/>
          </p:nvCxnSpPr>
          <p:spPr>
            <a:xfrm>
              <a:off x="2259000" y="5331960"/>
              <a:ext cx="846720" cy="2520"/>
            </a:xfrm>
            <a:prstGeom prst="straightConnector1">
              <a:avLst/>
            </a:prstGeom>
            <a:ln w="38160">
              <a:solidFill>
                <a:srgbClr val="c7c7df"/>
              </a:solidFill>
              <a:miter/>
            </a:ln>
          </p:spPr>
        </p:cxnSp>
        <p:sp>
          <p:nvSpPr>
            <p:cNvPr id="283" name=""/>
            <p:cNvSpPr/>
            <p:nvPr/>
          </p:nvSpPr>
          <p:spPr>
            <a:xfrm>
              <a:off x="3505320" y="5181480"/>
              <a:ext cx="5486400" cy="304920"/>
            </a:xfrm>
            <a:prstGeom prst="rect">
              <a:avLst/>
            </a:prstGeom>
            <a:solidFill>
              <a:srgbClr val="c7c7df">
                <a:alpha val="50000"/>
              </a:srgbClr>
            </a:solidFill>
            <a:ln w="2232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3D06-30C4-4395-BCCF-E2F1A21B5C13}" type="slidenum">
              <a:t>5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283A5C-DCEE-460A-B7DF-50AA92C6754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border3" descr=""/>
          <p:cNvPicPr/>
          <p:nvPr/>
        </p:nvPicPr>
        <p:blipFill>
          <a:blip r:embed="rId2"/>
          <a:stretch/>
        </p:blipFill>
        <p:spPr>
          <a:xfrm>
            <a:off x="990720" y="3336840"/>
            <a:ext cx="3976560" cy="1430280"/>
          </a:xfrm>
          <a:prstGeom prst="rect">
            <a:avLst/>
          </a:prstGeom>
          <a:ln w="9360">
            <a:solidFill>
              <a:srgbClr val="545472"/>
            </a:solidFill>
            <a:miter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abeled Text Fiel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xing GUI Sin #1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87" name=""/>
          <p:cNvSpPr/>
          <p:nvPr/>
        </p:nvSpPr>
        <p:spPr>
          <a:xfrm rot="16200000">
            <a:off x="1638000" y="4243320"/>
            <a:ext cx="152640" cy="1447560"/>
          </a:xfrm>
          <a:custGeom>
            <a:avLst/>
            <a:gdLst>
              <a:gd name="textAreaLeft" fmla="*/ 97560 w 152640"/>
              <a:gd name="textAreaRight" fmla="*/ 153000 w 15264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88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rot="16200000">
            <a:off x="3657240" y="3747960"/>
            <a:ext cx="152640" cy="2438280"/>
          </a:xfrm>
          <a:custGeom>
            <a:avLst/>
            <a:gdLst>
              <a:gd name="textAreaLeft" fmla="*/ 97560 w 152640"/>
              <a:gd name="textAreaRight" fmla="*/ 153000 w 15264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079440" y="5805360"/>
            <a:ext cx="130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Arial"/>
              </a:rPr>
              <a:t>Cent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02040" y="5805360"/>
            <a:ext cx="10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Arial"/>
              </a:rPr>
              <a:t>West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cxnSp>
        <p:nvCxnSpPr>
          <p:cNvPr id="291" name=""/>
          <p:cNvCxnSpPr>
            <a:stCxn id="287" idx="1"/>
            <a:endCxn id="290" idx="0"/>
          </p:cNvCxnSpPr>
          <p:nvPr/>
        </p:nvCxnSpPr>
        <p:spPr>
          <a:xfrm>
            <a:off x="1712520" y="5060880"/>
            <a:ext cx="5400" cy="745200"/>
          </a:xfrm>
          <a:prstGeom prst="straightConnector1">
            <a:avLst/>
          </a:prstGeom>
          <a:ln w="38160">
            <a:solidFill>
              <a:srgbClr val="8888ae"/>
            </a:solidFill>
            <a:miter/>
          </a:ln>
        </p:spPr>
      </p:cxnSp>
      <p:cxnSp>
        <p:nvCxnSpPr>
          <p:cNvPr id="292" name=""/>
          <p:cNvCxnSpPr>
            <a:stCxn id="289" idx="0"/>
            <a:endCxn id="288" idx="1"/>
          </p:cNvCxnSpPr>
          <p:nvPr/>
        </p:nvCxnSpPr>
        <p:spPr>
          <a:xfrm flipH="1" flipV="1">
            <a:off x="3731400" y="5060520"/>
            <a:ext cx="2520" cy="745200"/>
          </a:xfrm>
          <a:prstGeom prst="straightConnector1">
            <a:avLst/>
          </a:prstGeom>
          <a:ln w="38160">
            <a:solidFill>
              <a:srgbClr val="660066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4D19-D161-4F66-9823-186DA51BCD0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69B683-9C22-4C18-A974-8C7CF4E8A61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abeled Text Fiel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xing GUI Sin #1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95" name="border3" descr=""/>
          <p:cNvPicPr/>
          <p:nvPr/>
        </p:nvPicPr>
        <p:blipFill>
          <a:blip r:embed="rId3"/>
          <a:stretch/>
        </p:blipFill>
        <p:spPr>
          <a:xfrm>
            <a:off x="990720" y="3327480"/>
            <a:ext cx="3976560" cy="1430280"/>
          </a:xfrm>
          <a:prstGeom prst="rect">
            <a:avLst/>
          </a:prstGeom>
          <a:ln w="9360">
            <a:solidFill>
              <a:srgbClr val="545472"/>
            </a:solidFill>
            <a:miter/>
          </a:ln>
        </p:spPr>
      </p:pic>
      <p:sp>
        <p:nvSpPr>
          <p:cNvPr id="296" name=""/>
          <p:cNvSpPr/>
          <p:nvPr/>
        </p:nvSpPr>
        <p:spPr>
          <a:xfrm>
            <a:off x="4952880" y="380052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16200000">
            <a:off x="1638360" y="4233600"/>
            <a:ext cx="152280" cy="1447560"/>
          </a:xfrm>
          <a:custGeom>
            <a:avLst/>
            <a:gdLst>
              <a:gd name="textAreaLeft" fmla="*/ 97200 w 152280"/>
              <a:gd name="textAreaRight" fmla="*/ 152640 w 15228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88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202040" y="5796000"/>
            <a:ext cx="10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Arial"/>
              </a:rPr>
              <a:t>West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cxnSp>
        <p:nvCxnSpPr>
          <p:cNvPr id="299" name=""/>
          <p:cNvCxnSpPr>
            <a:stCxn id="297" idx="1"/>
            <a:endCxn id="298" idx="0"/>
          </p:cNvCxnSpPr>
          <p:nvPr/>
        </p:nvCxnSpPr>
        <p:spPr>
          <a:xfrm>
            <a:off x="1712520" y="5051520"/>
            <a:ext cx="5400" cy="745200"/>
          </a:xfrm>
          <a:prstGeom prst="straightConnector1">
            <a:avLst/>
          </a:prstGeom>
          <a:ln w="38160">
            <a:solidFill>
              <a:srgbClr val="8888ae"/>
            </a:solidFill>
            <a:miter/>
          </a:ln>
        </p:spPr>
      </p:cxnSp>
      <p:grpSp>
        <p:nvGrpSpPr>
          <p:cNvPr id="300" name=""/>
          <p:cNvGrpSpPr/>
          <p:nvPr/>
        </p:nvGrpSpPr>
        <p:grpSpPr>
          <a:xfrm>
            <a:off x="990720" y="3327480"/>
            <a:ext cx="5895720" cy="2988720"/>
            <a:chOff x="990720" y="3327480"/>
            <a:chExt cx="5895720" cy="2988720"/>
          </a:xfrm>
        </p:grpSpPr>
        <p:pic>
          <p:nvPicPr>
            <p:cNvPr id="301" name="border4" descr=""/>
            <p:cNvPicPr/>
            <p:nvPr/>
          </p:nvPicPr>
          <p:blipFill>
            <a:blip r:embed="rId4"/>
            <a:stretch/>
          </p:blipFill>
          <p:spPr>
            <a:xfrm>
              <a:off x="990720" y="3327480"/>
              <a:ext cx="5895720" cy="1429920"/>
            </a:xfrm>
            <a:prstGeom prst="rect">
              <a:avLst/>
            </a:prstGeom>
            <a:ln w="9360">
              <a:solidFill>
                <a:srgbClr val="545472"/>
              </a:solidFill>
              <a:miter/>
            </a:ln>
          </p:spPr>
        </p:pic>
        <p:sp>
          <p:nvSpPr>
            <p:cNvPr id="302" name=""/>
            <p:cNvSpPr/>
            <p:nvPr/>
          </p:nvSpPr>
          <p:spPr>
            <a:xfrm rot="16200000">
              <a:off x="4572000" y="2823480"/>
              <a:ext cx="152280" cy="426708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11240 h 4267080"/>
                <a:gd name="textAreaBottom" fmla="*/ 4155840 h 426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000320" y="5795640"/>
              <a:ext cx="1306800" cy="520560"/>
            </a:xfrm>
            <a:prstGeom prst="rect">
              <a:avLst/>
            </a:prstGeom>
            <a:noFill/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45472"/>
                  </a:solidFill>
                  <a:latin typeface="Arial"/>
                </a:rPr>
                <a:t>Center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cxnSp>
          <p:nvCxnSpPr>
            <p:cNvPr id="304" name=""/>
            <p:cNvCxnSpPr>
              <a:stCxn id="303" idx="0"/>
              <a:endCxn id="302" idx="1"/>
            </p:cNvCxnSpPr>
            <p:nvPr/>
          </p:nvCxnSpPr>
          <p:spPr>
            <a:xfrm flipH="1" flipV="1">
              <a:off x="4645800" y="5050440"/>
              <a:ext cx="3960" cy="744840"/>
            </a:xfrm>
            <a:prstGeom prst="straightConnector1">
              <a:avLst/>
            </a:prstGeom>
            <a:ln w="38160">
              <a:solidFill>
                <a:srgbClr val="545472"/>
              </a:solidFill>
              <a:miter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FAB3-0AAB-4009-B243-AFFD0609B118}" type="slidenum">
              <a:t>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B85200-7FC0-4D17-8C73-3DDDF32A911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border4" descr=""/>
          <p:cNvPicPr/>
          <p:nvPr/>
        </p:nvPicPr>
        <p:blipFill>
          <a:blip r:embed="rId2"/>
          <a:stretch/>
        </p:blipFill>
        <p:spPr>
          <a:xfrm>
            <a:off x="990720" y="3336840"/>
            <a:ext cx="5895720" cy="1430280"/>
          </a:xfrm>
          <a:prstGeom prst="rect">
            <a:avLst/>
          </a:prstGeom>
          <a:ln w="9360">
            <a:solidFill>
              <a:srgbClr val="545472"/>
            </a:solidFill>
            <a:miter/>
          </a:ln>
        </p:spPr>
      </p:pic>
      <p:sp>
        <p:nvSpPr>
          <p:cNvPr id="306" name=""/>
          <p:cNvSpPr/>
          <p:nvPr/>
        </p:nvSpPr>
        <p:spPr>
          <a:xfrm rot="16200000">
            <a:off x="3334320" y="2794680"/>
            <a:ext cx="977760" cy="484200"/>
          </a:xfrm>
          <a:custGeom>
            <a:avLst/>
            <a:gdLst>
              <a:gd name="textAreaLeft" fmla="*/ 152640 w 977760"/>
              <a:gd name="textAreaRight" fmla="*/ 855720 w 97776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a7ccd9"/>
          </a:solidFill>
          <a:ln w="223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7" name="border5" descr=""/>
          <p:cNvPicPr/>
          <p:nvPr/>
        </p:nvPicPr>
        <p:blipFill>
          <a:blip r:embed="rId3"/>
          <a:stretch/>
        </p:blipFill>
        <p:spPr>
          <a:xfrm>
            <a:off x="990720" y="2592360"/>
            <a:ext cx="5895720" cy="2174760"/>
          </a:xfrm>
          <a:prstGeom prst="rect">
            <a:avLst/>
          </a:prstGeom>
          <a:ln w="9360">
            <a:solidFill>
              <a:srgbClr val="545472"/>
            </a:solidFill>
            <a:miter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abeled Text Fiel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But watch out!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10" name=""/>
          <p:cNvSpPr/>
          <p:nvPr/>
        </p:nvSpPr>
        <p:spPr>
          <a:xfrm rot="16200000">
            <a:off x="1638000" y="4243320"/>
            <a:ext cx="152640" cy="1447560"/>
          </a:xfrm>
          <a:custGeom>
            <a:avLst/>
            <a:gdLst>
              <a:gd name="textAreaLeft" fmla="*/ 97560 w 152640"/>
              <a:gd name="textAreaRight" fmla="*/ 153000 w 15264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88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rot="16200000">
            <a:off x="4571640" y="2833560"/>
            <a:ext cx="152640" cy="4267080"/>
          </a:xfrm>
          <a:custGeom>
            <a:avLst/>
            <a:gdLst>
              <a:gd name="textAreaLeft" fmla="*/ 97560 w 152640"/>
              <a:gd name="textAreaRight" fmla="*/ 153000 w 152640"/>
              <a:gd name="textAreaTop" fmla="*/ 111240 h 4267080"/>
              <a:gd name="textAreaBottom" fmla="*/ 4155840 h 426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995280" y="5805360"/>
            <a:ext cx="130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Arial"/>
              </a:rPr>
              <a:t>Cent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202040" y="5805360"/>
            <a:ext cx="10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Arial"/>
              </a:rPr>
              <a:t>West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10" idx="1"/>
            <a:endCxn id="313" idx="0"/>
          </p:cNvCxnSpPr>
          <p:nvPr/>
        </p:nvCxnSpPr>
        <p:spPr>
          <a:xfrm>
            <a:off x="1712520" y="5060880"/>
            <a:ext cx="5400" cy="745200"/>
          </a:xfrm>
          <a:prstGeom prst="straightConnector1">
            <a:avLst/>
          </a:prstGeom>
          <a:ln w="38160">
            <a:solidFill>
              <a:srgbClr val="8888ae"/>
            </a:solidFill>
            <a:miter/>
          </a:ln>
        </p:spPr>
      </p:cxnSp>
      <p:cxnSp>
        <p:nvCxnSpPr>
          <p:cNvPr id="315" name=""/>
          <p:cNvCxnSpPr>
            <a:stCxn id="312" idx="0"/>
            <a:endCxn id="311" idx="1"/>
          </p:cNvCxnSpPr>
          <p:nvPr/>
        </p:nvCxnSpPr>
        <p:spPr>
          <a:xfrm flipH="1" flipV="1">
            <a:off x="4645800" y="5060520"/>
            <a:ext cx="3960" cy="745200"/>
          </a:xfrm>
          <a:prstGeom prst="straightConnector1">
            <a:avLst/>
          </a:prstGeom>
          <a:ln w="38160">
            <a:solidFill>
              <a:srgbClr val="660066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C97C-5F83-4E53-B503-6823D6D0FCC4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2E8171-BE7C-4394-8981-51250B1609B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border6" descr=""/>
          <p:cNvPicPr/>
          <p:nvPr/>
        </p:nvPicPr>
        <p:blipFill>
          <a:blip r:embed="rId2"/>
          <a:stretch/>
        </p:blipFill>
        <p:spPr>
          <a:xfrm>
            <a:off x="990720" y="2624040"/>
            <a:ext cx="5867280" cy="2176560"/>
          </a:xfrm>
          <a:prstGeom prst="rect">
            <a:avLst/>
          </a:prstGeom>
          <a:ln w="9360">
            <a:solidFill>
              <a:srgbClr val="545472"/>
            </a:solidFill>
            <a:miter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abeled Text Fiel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o limit the height, nest the border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7230-01B0-4AB3-9794-C71650A7F7F5}" type="slidenum">
              <a:t>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19ECB5-FB22-4D55-B432-C11D4D1E1D5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border6" descr=""/>
          <p:cNvPicPr/>
          <p:nvPr/>
        </p:nvPicPr>
        <p:blipFill>
          <a:blip r:embed="rId2"/>
          <a:stretch/>
        </p:blipFill>
        <p:spPr>
          <a:xfrm>
            <a:off x="990720" y="2635200"/>
            <a:ext cx="5867280" cy="2176560"/>
          </a:xfrm>
          <a:prstGeom prst="rect">
            <a:avLst/>
          </a:prstGeom>
          <a:ln w="9360">
            <a:solidFill>
              <a:srgbClr val="545472"/>
            </a:solidFill>
            <a:miter/>
          </a:ln>
        </p:spPr>
      </p:pic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abeled Text Fiel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o limit the height, nest the border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914400" y="2513160"/>
            <a:ext cx="8039880" cy="2226960"/>
            <a:chOff x="914400" y="2513160"/>
            <a:chExt cx="8039880" cy="2226960"/>
          </a:xfrm>
        </p:grpSpPr>
        <p:sp>
          <p:nvSpPr>
            <p:cNvPr id="323" name=""/>
            <p:cNvSpPr/>
            <p:nvPr/>
          </p:nvSpPr>
          <p:spPr>
            <a:xfrm>
              <a:off x="7010280" y="3092040"/>
              <a:ext cx="228600" cy="106668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c7c7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52360" y="2513160"/>
              <a:ext cx="150192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45472"/>
                  </a:solidFill>
                  <a:latin typeface="Arial"/>
                </a:rPr>
                <a:t>Outer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45472"/>
                  </a:solidFill>
                  <a:latin typeface="Arial"/>
                </a:rPr>
                <a:t>North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45472"/>
                  </a:solidFill>
                  <a:latin typeface="Arial"/>
                </a:rPr>
                <a:t>(bind</a:t>
              </a:r>
              <a:br>
                <a:rPr sz="2800"/>
              </a:br>
              <a:r>
                <a:rPr b="1" lang="en-US" sz="2800" spc="-1" strike="noStrike">
                  <a:solidFill>
                    <a:srgbClr val="545472"/>
                  </a:solidFill>
                  <a:latin typeface="Arial"/>
                </a:rPr>
                <a:t>height</a:t>
              </a:r>
              <a:br>
                <a:rPr sz="2800"/>
              </a:br>
              <a:r>
                <a:rPr b="1" lang="en-US" sz="2800" spc="-1" strike="noStrike">
                  <a:solidFill>
                    <a:srgbClr val="545472"/>
                  </a:solidFill>
                  <a:latin typeface="Arial"/>
                </a:rPr>
                <a:t>of both)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cxnSp>
          <p:nvCxnSpPr>
            <p:cNvPr id="325" name=""/>
            <p:cNvCxnSpPr>
              <a:stCxn id="323" idx="1"/>
              <a:endCxn id="324" idx="1"/>
            </p:cNvCxnSpPr>
            <p:nvPr/>
          </p:nvCxnSpPr>
          <p:spPr>
            <a:xfrm>
              <a:off x="7257600" y="3625200"/>
              <a:ext cx="191160" cy="1800"/>
            </a:xfrm>
            <a:prstGeom prst="straightConnector1">
              <a:avLst/>
            </a:prstGeom>
            <a:ln w="38160">
              <a:solidFill>
                <a:srgbClr val="c7c7df"/>
              </a:solidFill>
              <a:miter/>
            </a:ln>
          </p:spPr>
        </p:cxnSp>
        <p:sp>
          <p:nvSpPr>
            <p:cNvPr id="326" name=""/>
            <p:cNvSpPr/>
            <p:nvPr/>
          </p:nvSpPr>
          <p:spPr>
            <a:xfrm>
              <a:off x="914400" y="3092040"/>
              <a:ext cx="6019920" cy="1066680"/>
            </a:xfrm>
            <a:prstGeom prst="rect">
              <a:avLst/>
            </a:prstGeom>
            <a:solidFill>
              <a:srgbClr val="c7c7df">
                <a:alpha val="50000"/>
              </a:srgbClr>
            </a:solidFill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2438280" y="3244680"/>
            <a:ext cx="4343400" cy="2775960"/>
            <a:chOff x="2438280" y="3244680"/>
            <a:chExt cx="4343400" cy="2775960"/>
          </a:xfrm>
        </p:grpSpPr>
        <p:sp>
          <p:nvSpPr>
            <p:cNvPr id="328" name=""/>
            <p:cNvSpPr/>
            <p:nvPr/>
          </p:nvSpPr>
          <p:spPr>
            <a:xfrm>
              <a:off x="3955680" y="5073480"/>
              <a:ext cx="1306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45472"/>
                  </a:solidFill>
                  <a:latin typeface="Arial"/>
                </a:rPr>
                <a:t>Inner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45472"/>
                  </a:solidFill>
                  <a:latin typeface="Arial"/>
                </a:rPr>
                <a:t>Center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28" idx="0"/>
              <a:endCxn id="330" idx="1"/>
            </p:cNvCxnSpPr>
            <p:nvPr/>
          </p:nvCxnSpPr>
          <p:spPr>
            <a:xfrm flipH="1" flipV="1">
              <a:off x="4607640" y="4480560"/>
              <a:ext cx="2520" cy="592920"/>
            </a:xfrm>
            <a:prstGeom prst="straightConnector1">
              <a:avLst/>
            </a:prstGeom>
            <a:ln w="38160">
              <a:solidFill>
                <a:srgbClr val="660066"/>
              </a:solidFill>
              <a:miter/>
            </a:ln>
          </p:spPr>
        </p:cxnSp>
        <p:sp>
          <p:nvSpPr>
            <p:cNvPr id="331" name=""/>
            <p:cNvSpPr/>
            <p:nvPr/>
          </p:nvSpPr>
          <p:spPr>
            <a:xfrm>
              <a:off x="2438280" y="3244680"/>
              <a:ext cx="4343400" cy="761760"/>
            </a:xfrm>
            <a:prstGeom prst="rect">
              <a:avLst/>
            </a:prstGeom>
            <a:solidFill>
              <a:srgbClr val="660066">
                <a:alpha val="50000"/>
              </a:srgbClr>
            </a:solidFill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16200000">
              <a:off x="4381200" y="2063160"/>
              <a:ext cx="457200" cy="434340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113040 h 4343400"/>
                <a:gd name="textAreaBottom" fmla="*/ 4230360 h 434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066680" y="3244680"/>
            <a:ext cx="1219320" cy="2775960"/>
            <a:chOff x="1066680" y="3244680"/>
            <a:chExt cx="1219320" cy="2775960"/>
          </a:xfrm>
        </p:grpSpPr>
        <p:sp>
          <p:nvSpPr>
            <p:cNvPr id="333" name=""/>
            <p:cNvSpPr/>
            <p:nvPr/>
          </p:nvSpPr>
          <p:spPr>
            <a:xfrm>
              <a:off x="1154880" y="5073480"/>
              <a:ext cx="1049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45472"/>
                  </a:solidFill>
                  <a:latin typeface="Arial"/>
                </a:rPr>
                <a:t>Inner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45472"/>
                  </a:solidFill>
                  <a:latin typeface="Arial"/>
                </a:rPr>
                <a:t>West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cxnSp>
          <p:nvCxnSpPr>
            <p:cNvPr id="334" name=""/>
            <p:cNvCxnSpPr>
              <a:stCxn id="335" idx="1"/>
              <a:endCxn id="333" idx="0"/>
            </p:cNvCxnSpPr>
            <p:nvPr/>
          </p:nvCxnSpPr>
          <p:spPr>
            <a:xfrm>
              <a:off x="1674360" y="4480920"/>
              <a:ext cx="5400" cy="592920"/>
            </a:xfrm>
            <a:prstGeom prst="straightConnector1">
              <a:avLst/>
            </a:prstGeom>
            <a:ln w="38160">
              <a:solidFill>
                <a:srgbClr val="8888ae"/>
              </a:solidFill>
              <a:miter/>
            </a:ln>
          </p:spPr>
        </p:cxnSp>
        <p:sp>
          <p:nvSpPr>
            <p:cNvPr id="336" name=""/>
            <p:cNvSpPr/>
            <p:nvPr/>
          </p:nvSpPr>
          <p:spPr>
            <a:xfrm>
              <a:off x="1066680" y="3244680"/>
              <a:ext cx="1219320" cy="761760"/>
            </a:xfrm>
            <a:prstGeom prst="rect">
              <a:avLst/>
            </a:prstGeom>
            <a:solidFill>
              <a:srgbClr val="8888ae">
                <a:alpha val="50000"/>
              </a:srgbClr>
            </a:solidFill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rot="16200000">
              <a:off x="1447560" y="3625200"/>
              <a:ext cx="457200" cy="121932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888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5132-269F-48D1-811F-8616579B2CE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D7055A-8CCA-434F-ABEC-88B826C30AE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abeled Text Fiel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38" name="border7" descr=""/>
          <p:cNvPicPr/>
          <p:nvPr/>
        </p:nvPicPr>
        <p:blipFill>
          <a:blip r:embed="rId2"/>
          <a:stretch/>
        </p:blipFill>
        <p:spPr>
          <a:xfrm>
            <a:off x="1143000" y="2014560"/>
            <a:ext cx="7440480" cy="3852720"/>
          </a:xfrm>
          <a:prstGeom prst="rect">
            <a:avLst/>
          </a:prstGeom>
          <a:ln w="9360">
            <a:solidFill>
              <a:srgbClr val="545472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2DAF-7ACA-48EC-BD16-BB43B42F8C0E}" type="slidenum">
              <a:t>5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40EE93-CC13-4A98-B347-EF8014F741E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orderLayout Strateg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Use to lock edge component size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NORTH/SOUTH – locked at preferred height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EAST/WEST – locked at preferred width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CENTER – takes up remainder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wo adjacent component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One fixed width or height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Other stretche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3212-9F80-4B36-B2C1-E0225203A8EC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3DD261-B9B3-4DAC-9057-8416E6608FA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lowLayout in a BorderLayou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What would happen if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BorderLayout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NORTH=FlowLayout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Buttons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Remember, NORTH gets preferred height!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A2CA-5ECE-4C87-8483-FF8A9075E922}" type="slidenum">
              <a:t>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308750-A659-466A-8AE3-2EF991CF861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UI Design vs.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UI Implement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-51732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Drag &amp; Drop in GUI Builder is </a:t>
            </a:r>
            <a:r>
              <a:rPr b="0" lang="en-US" sz="3200" spc="-1" strike="noStrike">
                <a:solidFill>
                  <a:srgbClr val="8888ae"/>
                </a:solidFill>
                <a:latin typeface="Tahoma"/>
              </a:rPr>
              <a:t>not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design!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517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517320" indent="-51732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roper design is done before building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923760" indent="-480240">
              <a:spcBef>
                <a:spcPts val="700"/>
              </a:spcBef>
              <a:buClr>
                <a:srgbClr val="545472"/>
              </a:buClr>
              <a:buSzPct val="8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Draw a picture!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923760" indent="-480240">
              <a:spcBef>
                <a:spcPts val="700"/>
              </a:spcBef>
              <a:buClr>
                <a:srgbClr val="545472"/>
              </a:buClr>
              <a:buSzPct val="8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nnotate with resize behavior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923760" indent="-480240">
              <a:spcBef>
                <a:spcPts val="700"/>
              </a:spcBef>
              <a:buClr>
                <a:srgbClr val="545472"/>
              </a:buClr>
              <a:buSzPct val="8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Determine layouts to us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6568-6C25-4ED7-8910-8265607F2FC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A4DAB6-7586-4C4A-9294-95A5776EB09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lowLayout in a BorderLayou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44" name="border8" descr=""/>
          <p:cNvPicPr/>
          <p:nvPr/>
        </p:nvPicPr>
        <p:blipFill>
          <a:blip r:embed="rId2"/>
          <a:stretch/>
        </p:blipFill>
        <p:spPr>
          <a:xfrm>
            <a:off x="1190520" y="2004840"/>
            <a:ext cx="7267680" cy="4091040"/>
          </a:xfrm>
          <a:prstGeom prst="rect">
            <a:avLst/>
          </a:prstGeom>
          <a:ln w="9360">
            <a:solidFill>
              <a:srgbClr val="545472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098A-DF7B-4F27-A51A-1DDFF7C8FC5F}" type="slidenum">
              <a:t>6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6753C0-FF39-428B-BBFA-926A1298D02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lowLayout in a BorderLayou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46" name="border9" descr=""/>
          <p:cNvPicPr/>
          <p:nvPr/>
        </p:nvPicPr>
        <p:blipFill>
          <a:blip r:embed="rId2"/>
          <a:stretch/>
        </p:blipFill>
        <p:spPr>
          <a:xfrm>
            <a:off x="1523880" y="1905120"/>
            <a:ext cx="6629400" cy="4149720"/>
          </a:xfrm>
          <a:prstGeom prst="rect">
            <a:avLst/>
          </a:prstGeom>
          <a:ln w="9360">
            <a:solidFill>
              <a:srgbClr val="545472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882B-DF3C-4C81-B6A6-C1B486491E58}" type="slidenum">
              <a:t>6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35E877-33DF-436A-BEB6-69D5D67CD28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lowLayout in a BorderLayou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5181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lowLayout in North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Note buttons that are not in the FlowLayout panel!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349" name="border10" descr=""/>
          <p:cNvPicPr/>
          <p:nvPr/>
        </p:nvPicPr>
        <p:blipFill>
          <a:blip r:embed="rId4"/>
          <a:stretch/>
        </p:blipFill>
        <p:spPr>
          <a:xfrm>
            <a:off x="6172200" y="2286000"/>
            <a:ext cx="2376360" cy="3517920"/>
          </a:xfrm>
          <a:prstGeom prst="rect">
            <a:avLst/>
          </a:prstGeom>
          <a:ln w="9360">
            <a:solidFill>
              <a:srgbClr val="545472"/>
            </a:solidFill>
            <a:miter/>
          </a:ln>
        </p:spPr>
      </p:pic>
      <p:sp>
        <p:nvSpPr>
          <p:cNvPr id="350" name=""/>
          <p:cNvSpPr/>
          <p:nvPr/>
        </p:nvSpPr>
        <p:spPr>
          <a:xfrm>
            <a:off x="990720" y="1957320"/>
            <a:ext cx="777240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733ca0"/>
                </a:solidFill>
                <a:latin typeface="Arial"/>
              </a:rPr>
              <a:t>Side view of the layout</a:t>
            </a:r>
            <a:endParaRPr b="0" lang="en-US" sz="3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848720" y="3657600"/>
            <a:ext cx="609480" cy="1295280"/>
          </a:xfrm>
          <a:prstGeom prst="rect">
            <a:avLst/>
          </a:prstGeom>
          <a:noFill/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648320" y="2743200"/>
            <a:ext cx="3047760" cy="53352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791320" y="3962520"/>
            <a:ext cx="2057400" cy="30456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C7D9-377B-4F35-BF14-17F51F9D607F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BDCA2F-8CF2-487A-8EC6-BA4F5CBF02F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k and Cancel Buttons, Take O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55" name="OkCancel1" descr=""/>
          <p:cNvPicPr/>
          <p:nvPr/>
        </p:nvPicPr>
        <p:blipFill>
          <a:blip r:embed="rId2"/>
          <a:stretch/>
        </p:blipFill>
        <p:spPr>
          <a:xfrm>
            <a:off x="2930400" y="1893960"/>
            <a:ext cx="6061320" cy="3744720"/>
          </a:xfrm>
          <a:prstGeom prst="rect">
            <a:avLst/>
          </a:prstGeom>
          <a:ln w="9360">
            <a:solidFill>
              <a:srgbClr val="545472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BB0F-DEF2-434F-B2D8-CAA60E2549EE}" type="slidenum">
              <a:t>6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5779D6-1255-4384-9F1E-24C3A16471F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k and Cancel Buttons, Take O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57" name="OkCancel1" descr=""/>
          <p:cNvPicPr/>
          <p:nvPr/>
        </p:nvPicPr>
        <p:blipFill>
          <a:blip r:embed="rId2"/>
          <a:stretch/>
        </p:blipFill>
        <p:spPr>
          <a:xfrm>
            <a:off x="2930400" y="1854360"/>
            <a:ext cx="6061320" cy="3744720"/>
          </a:xfrm>
          <a:prstGeom prst="rect">
            <a:avLst/>
          </a:prstGeom>
          <a:ln w="9360">
            <a:solidFill>
              <a:srgbClr val="545472"/>
            </a:solidFill>
            <a:miter/>
          </a:ln>
        </p:spPr>
      </p:pic>
      <p:grpSp>
        <p:nvGrpSpPr>
          <p:cNvPr id="358" name=""/>
          <p:cNvGrpSpPr/>
          <p:nvPr/>
        </p:nvGrpSpPr>
        <p:grpSpPr>
          <a:xfrm>
            <a:off x="708480" y="4521240"/>
            <a:ext cx="8208360" cy="914400"/>
            <a:chOff x="708480" y="4521240"/>
            <a:chExt cx="8208360" cy="914400"/>
          </a:xfrm>
        </p:grpSpPr>
        <p:sp>
          <p:nvSpPr>
            <p:cNvPr id="359" name=""/>
            <p:cNvSpPr/>
            <p:nvPr/>
          </p:nvSpPr>
          <p:spPr>
            <a:xfrm>
              <a:off x="708480" y="4726080"/>
              <a:ext cx="142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45472"/>
                  </a:solidFill>
                  <a:latin typeface="Arial"/>
                </a:rPr>
                <a:t>SOUTH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666880" y="4521240"/>
              <a:ext cx="152640" cy="91440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048120" y="4521240"/>
              <a:ext cx="5868720" cy="914400"/>
            </a:xfrm>
            <a:prstGeom prst="rect">
              <a:avLst/>
            </a:prstGeom>
            <a:solidFill>
              <a:srgbClr val="660066">
                <a:alpha val="50000"/>
              </a:srgbClr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cxnSp>
          <p:nvCxnSpPr>
            <p:cNvPr id="362" name=""/>
            <p:cNvCxnSpPr>
              <a:stCxn id="359" idx="3"/>
              <a:endCxn id="360" idx="1"/>
            </p:cNvCxnSpPr>
            <p:nvPr/>
          </p:nvCxnSpPr>
          <p:spPr>
            <a:xfrm flipV="1">
              <a:off x="2133720" y="4978080"/>
              <a:ext cx="514440" cy="8640"/>
            </a:xfrm>
            <a:prstGeom prst="straightConnector1">
              <a:avLst/>
            </a:prstGeom>
            <a:ln w="38160">
              <a:solidFill>
                <a:srgbClr val="660066"/>
              </a:solidFill>
              <a:miter/>
            </a:ln>
          </p:spPr>
        </p:cxnSp>
      </p:grpSp>
      <p:sp>
        <p:nvSpPr>
          <p:cNvPr id="363" name=""/>
          <p:cNvSpPr/>
          <p:nvPr/>
        </p:nvSpPr>
        <p:spPr>
          <a:xfrm>
            <a:off x="1895760" y="5958000"/>
            <a:ext cx="349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Arial"/>
              </a:rPr>
              <a:t>FlowLayout(RIGHT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3657600" y="5054760"/>
            <a:ext cx="990720" cy="91440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F77A-8C62-4D5A-9222-8FF7A236662D}" type="slidenum">
              <a:t>6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D33283-E225-456D-950B-CA446F40D5E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k and Cancel Buttons, Take O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OkCancel1a" descr=""/>
          <p:cNvPicPr/>
          <p:nvPr/>
        </p:nvPicPr>
        <p:blipFill>
          <a:blip r:embed="rId2"/>
          <a:stretch/>
        </p:blipFill>
        <p:spPr>
          <a:xfrm>
            <a:off x="2057400" y="1981080"/>
            <a:ext cx="5145120" cy="3899160"/>
          </a:xfrm>
          <a:prstGeom prst="rect">
            <a:avLst/>
          </a:prstGeom>
          <a:ln w="9360">
            <a:solidFill>
              <a:srgbClr val="545472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1539-927A-4B5B-A5DA-7D04B3787E72}" type="slidenum">
              <a:t>6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A33611-5F22-464D-85CF-A60AF493C51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k and Cancel Buttons, Take O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GUI Structure as a tre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anel [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BorderLayout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]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OUTH=Panel [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FlowLayout(RIGHT)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]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Button(</a:t>
            </a:r>
            <a:r>
              <a:rPr b="0" lang="en-US" sz="2400" spc="-1" strike="noStrike">
                <a:solidFill>
                  <a:srgbClr val="8888ae"/>
                </a:solidFill>
                <a:latin typeface="Tahoma"/>
              </a:rPr>
              <a:t>“Ok”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Button(</a:t>
            </a:r>
            <a:r>
              <a:rPr b="0" lang="en-US" sz="2400" spc="-1" strike="noStrike">
                <a:solidFill>
                  <a:srgbClr val="8888ae"/>
                </a:solidFill>
                <a:latin typeface="Tahoma"/>
              </a:rPr>
              <a:t>“Cancel”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BBD2-5C19-4C07-A743-F33983D2D596}" type="slidenum">
              <a:t>6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0B9B37-B011-4CB6-BCEB-E5DDA0CF8EA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k and Cancel Buttons, Take O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5472"/>
                </a:solidFill>
                <a:latin typeface="Tahoma"/>
              </a:rPr>
              <a:t>So ya wanna see some code, eh?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2000" spc="-1" strike="noStrike">
                <a:solidFill>
                  <a:srgbClr val="660066"/>
                </a:solidFill>
                <a:latin typeface="Courier New"/>
              </a:rPr>
              <a:t>// “The blob” – anyone, ewwwww?</a:t>
            </a:r>
            <a:br>
              <a:rPr sz="2000"/>
            </a:br>
            <a:r>
              <a:rPr b="1" lang="en-US" sz="2000" spc="-1" strike="noStrike">
                <a:solidFill>
                  <a:srgbClr val="660066"/>
                </a:solidFill>
                <a:latin typeface="Courier New"/>
              </a:rPr>
              <a:t>// No obvious structure</a:t>
            </a:r>
            <a:br>
              <a:rPr sz="2000"/>
            </a:b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Panel outer </a:t>
            </a:r>
            <a:r>
              <a:rPr b="1" lang="en-US" sz="2000" spc="-1" strike="noStrike">
                <a:solidFill>
                  <a:srgbClr val="ff5050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7c7df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 Panel(</a:t>
            </a:r>
            <a:r>
              <a:rPr b="1" lang="en-US" sz="2000" spc="-1" strike="noStrike">
                <a:solidFill>
                  <a:srgbClr val="c7c7df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 BorderLayout());</a:t>
            </a:r>
            <a:br>
              <a:rPr sz="2000"/>
            </a:b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Panel inner </a:t>
            </a:r>
            <a:r>
              <a:rPr b="1" lang="en-US" sz="2000" spc="-1" strike="noStrike">
                <a:solidFill>
                  <a:srgbClr val="ff5050"/>
                </a:solidFill>
                <a:latin typeface="Courier New"/>
              </a:rPr>
              <a:t>=</a:t>
            </a:r>
            <a:br>
              <a:rPr sz="2000"/>
            </a:b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7c7df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 Panel(</a:t>
            </a:r>
            <a:r>
              <a:rPr b="1" lang="en-US" sz="2000" spc="-1" strike="noStrike">
                <a:solidFill>
                  <a:srgbClr val="c7c7df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 FlowLayout(</a:t>
            </a:r>
            <a:br>
              <a:rPr sz="2000"/>
            </a:b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FlowLayout</a:t>
            </a:r>
            <a:r>
              <a:rPr b="1" lang="en-US" sz="2000" spc="-1" strike="noStrike">
                <a:solidFill>
                  <a:srgbClr val="ff5050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RIGHT));</a:t>
            </a:r>
            <a:br>
              <a:rPr sz="2000"/>
            </a:b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inner</a:t>
            </a:r>
            <a:r>
              <a:rPr b="1" lang="en-US" sz="2000" spc="-1" strike="noStrike">
                <a:solidFill>
                  <a:srgbClr val="ff5050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add(okButton);</a:t>
            </a:r>
            <a:br>
              <a:rPr sz="2000"/>
            </a:b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inner</a:t>
            </a:r>
            <a:r>
              <a:rPr b="1" lang="en-US" sz="2000" spc="-1" strike="noStrike">
                <a:solidFill>
                  <a:srgbClr val="ff5050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add(cancelButton);</a:t>
            </a:r>
            <a:br>
              <a:rPr sz="2000"/>
            </a:b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outer</a:t>
            </a:r>
            <a:r>
              <a:rPr b="1" lang="en-US" sz="2000" spc="-1" strike="noStrike">
                <a:solidFill>
                  <a:srgbClr val="ff5050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add(inner,BorderLayout.SOUTH);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A79A-E0F4-4A3E-8F21-B0BAC99841A8}" type="slidenum">
              <a:t>6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4A35EA-CA5C-498D-B38D-284D7DA8427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k and Cancel Buttons, Take O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5472"/>
                </a:solidFill>
                <a:latin typeface="Tahoma"/>
              </a:rPr>
              <a:t>Giving structure to the GUI code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2000" spc="-1" strike="noStrike">
                <a:solidFill>
                  <a:srgbClr val="660066"/>
                </a:solidFill>
                <a:latin typeface="Courier New"/>
              </a:rPr>
              <a:t>// “Tree-structured” code</a:t>
            </a:r>
            <a:br>
              <a:rPr sz="2000"/>
            </a:br>
            <a:r>
              <a:rPr b="1" lang="en-US" sz="2000" spc="-1" strike="noStrike">
                <a:solidFill>
                  <a:srgbClr val="660066"/>
                </a:solidFill>
                <a:latin typeface="Courier New"/>
              </a:rPr>
              <a:t>//   (similar to a </a:t>
            </a:r>
            <a:br>
              <a:rPr sz="2000"/>
            </a:br>
            <a:r>
              <a:rPr b="1" lang="en-US" sz="2000" spc="-1" strike="noStrike">
                <a:solidFill>
                  <a:srgbClr val="660066"/>
                </a:solidFill>
                <a:latin typeface="Courier New"/>
              </a:rPr>
              <a:t>//      recursive-descent parser)</a:t>
            </a:r>
            <a:br>
              <a:rPr sz="2000"/>
            </a:br>
            <a:r>
              <a:rPr b="1" lang="en-US" sz="2000" spc="-1" strike="noStrike">
                <a:solidFill>
                  <a:srgbClr val="c7c7df"/>
                </a:solidFill>
                <a:latin typeface="Courier New"/>
              </a:rPr>
              <a:t>protected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 Button getOkButton() {</a:t>
            </a:r>
            <a:br>
              <a:rPr sz="2000"/>
            </a:b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7c7df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7c7df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 Button(</a:t>
            </a:r>
            <a:r>
              <a:rPr b="1" lang="en-US" sz="2000" spc="-1" strike="noStrike">
                <a:solidFill>
                  <a:srgbClr val="8888ae"/>
                </a:solidFill>
                <a:latin typeface="Courier New"/>
              </a:rPr>
              <a:t>“Ok”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);</a:t>
            </a:r>
            <a:br>
              <a:rPr sz="2000"/>
            </a:b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}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c7c7df"/>
                </a:solidFill>
                <a:latin typeface="Courier New"/>
              </a:rPr>
              <a:t>protected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 Button getCancelButton() {</a:t>
            </a:r>
            <a:br>
              <a:rPr sz="2000"/>
            </a:b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7c7df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7c7df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 Button(</a:t>
            </a:r>
            <a:r>
              <a:rPr b="1" lang="en-US" sz="2000" spc="-1" strike="noStrike">
                <a:solidFill>
                  <a:srgbClr val="8888ae"/>
                </a:solidFill>
                <a:latin typeface="Courier New"/>
              </a:rPr>
              <a:t>“Cancel”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);</a:t>
            </a:r>
            <a:br>
              <a:rPr sz="2000"/>
            </a:b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AD97-3765-4E1C-82C8-F9AAC7CC444B}" type="slidenum">
              <a:t>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74BBAA-74C5-41A4-9DAC-E98A5F90F5E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k and Cancel Buttons, Take O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2000" spc="-1" strike="noStrike">
                <a:solidFill>
                  <a:srgbClr val="660066"/>
                </a:solidFill>
                <a:latin typeface="Courier New"/>
              </a:rPr>
              <a:t>// getButtonPanel() calls</a:t>
            </a:r>
            <a:br>
              <a:rPr sz="2000"/>
            </a:br>
            <a:r>
              <a:rPr b="1" lang="en-US" sz="2000" spc="-1" strike="noStrike">
                <a:solidFill>
                  <a:srgbClr val="660066"/>
                </a:solidFill>
                <a:latin typeface="Courier New"/>
              </a:rPr>
              <a:t>//   getOkButton()</a:t>
            </a:r>
            <a:br>
              <a:rPr sz="2000"/>
            </a:br>
            <a:r>
              <a:rPr b="1" lang="en-US" sz="2000" spc="-1" strike="noStrike">
                <a:solidFill>
                  <a:srgbClr val="660066"/>
                </a:solidFill>
                <a:latin typeface="Courier New"/>
              </a:rPr>
              <a:t>//   getCancelButton()</a:t>
            </a:r>
            <a:br>
              <a:rPr sz="2000"/>
            </a:br>
            <a:r>
              <a:rPr b="1" lang="en-US" sz="2000" spc="-1" strike="noStrike">
                <a:solidFill>
                  <a:srgbClr val="c7c7df"/>
                </a:solidFill>
                <a:latin typeface="Courier New"/>
              </a:rPr>
              <a:t>protected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 Panel getButtonPanel() {</a:t>
            </a:r>
            <a:br>
              <a:rPr sz="2000"/>
            </a:b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Panel p </a:t>
            </a:r>
            <a:r>
              <a:rPr b="1" lang="en-US" sz="2000" spc="-1" strike="noStrike">
                <a:solidFill>
                  <a:srgbClr val="ff5050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7c7df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 Panel(</a:t>
            </a:r>
            <a:r>
              <a:rPr b="1" lang="en-US" sz="2000" spc="-1" strike="noStrike">
                <a:solidFill>
                  <a:srgbClr val="c7c7df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 FlowLayout(</a:t>
            </a:r>
            <a:br>
              <a:rPr sz="2000"/>
            </a:b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FlowLayout</a:t>
            </a:r>
            <a:r>
              <a:rPr b="1" lang="en-US" sz="2000" spc="-1" strike="noStrike">
                <a:solidFill>
                  <a:srgbClr val="ff5050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RIGHT));</a:t>
            </a:r>
            <a:br>
              <a:rPr sz="2000"/>
            </a:b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p</a:t>
            </a:r>
            <a:r>
              <a:rPr b="1" lang="en-US" sz="2000" spc="-1" strike="noStrike">
                <a:solidFill>
                  <a:srgbClr val="ff5050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add(getOkButton());</a:t>
            </a:r>
            <a:br>
              <a:rPr sz="2000"/>
            </a:b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p</a:t>
            </a:r>
            <a:r>
              <a:rPr b="1" lang="en-US" sz="2000" spc="-1" strike="noStrike">
                <a:solidFill>
                  <a:srgbClr val="ff5050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add(getCancelButton()); </a:t>
            </a:r>
            <a:br>
              <a:rPr sz="2000"/>
            </a:b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7c7df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p;</a:t>
            </a:r>
            <a:br>
              <a:rPr sz="2000"/>
            </a:b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AC3A-D207-4951-972D-BA4FF6B90909}" type="slidenum">
              <a:t>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2DFD64-BF70-484F-85DA-9FF1A45252F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aying Out GU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Absolute positioning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You place/size component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EVIL!!!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Layout Manager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lgorithms place/size component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WELL!!!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FA4D-B258-4928-9FA8-90FCCB6D0D9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0205FE-3A49-4C86-9D50-77F63634C5C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k and Cancel Buttons, Take O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2000" spc="-1" strike="noStrike">
                <a:solidFill>
                  <a:srgbClr val="660066"/>
                </a:solidFill>
                <a:latin typeface="Courier New"/>
              </a:rPr>
              <a:t>// getOverallPanel() calls</a:t>
            </a:r>
            <a:br>
              <a:rPr sz="2000"/>
            </a:br>
            <a:r>
              <a:rPr b="1" lang="en-US" sz="2000" spc="-1" strike="noStrike">
                <a:solidFill>
                  <a:srgbClr val="660066"/>
                </a:solidFill>
                <a:latin typeface="Courier New"/>
              </a:rPr>
              <a:t>//   getButtonPanel()</a:t>
            </a:r>
            <a:br>
              <a:rPr sz="2000"/>
            </a:br>
            <a:r>
              <a:rPr b="1" lang="en-US" sz="2000" spc="-1" strike="noStrike">
                <a:solidFill>
                  <a:srgbClr val="c7c7df"/>
                </a:solidFill>
                <a:latin typeface="Courier New"/>
              </a:rPr>
              <a:t>protected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 Panel getOverallPanel() {</a:t>
            </a:r>
            <a:br>
              <a:rPr sz="2000"/>
            </a:b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Panel p </a:t>
            </a:r>
            <a:r>
              <a:rPr b="1" lang="en-US" sz="2000" spc="-1" strike="noStrike">
                <a:solidFill>
                  <a:srgbClr val="ff5050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7c7df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 Panel(</a:t>
            </a:r>
            <a:r>
              <a:rPr b="1" lang="en-US" sz="2000" spc="-1" strike="noStrike">
                <a:solidFill>
                  <a:srgbClr val="c7c7df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 BorderLayout());</a:t>
            </a:r>
            <a:br>
              <a:rPr sz="2000"/>
            </a:b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p</a:t>
            </a:r>
            <a:r>
              <a:rPr b="1" lang="en-US" sz="2000" spc="-1" strike="noStrike">
                <a:solidFill>
                  <a:srgbClr val="ff5050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add(getButtonPanel(),</a:t>
            </a:r>
            <a:br>
              <a:rPr sz="2000"/>
            </a:b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      BorderLayout</a:t>
            </a:r>
            <a:r>
              <a:rPr b="1" lang="en-US" sz="2000" spc="-1" strike="noStrike">
                <a:solidFill>
                  <a:srgbClr val="ff5050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SOUTH);</a:t>
            </a:r>
            <a:br>
              <a:rPr sz="2000"/>
            </a:b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7c7df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p;</a:t>
            </a:r>
            <a:br>
              <a:rPr sz="2000"/>
            </a:b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9322-7E00-4287-B25D-B54BCB18C73C}" type="slidenum">
              <a:t>7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D4AB7C-FF53-48BC-82F8-A61448370A4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k and Cancel Buttons, Take O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Overall calling structur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getOverallPanel() call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getButtonPanel() call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getOkButton(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getCancelButton(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ame structure as tree description of GUI!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Design maps exactly to cod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CC35-82C4-4568-84FC-A42B773BDDA9}" type="slidenum">
              <a:t>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D44C36-3D5F-4828-AD53-C8E8D342EFF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k and Cancel Buttons, Take O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e GUI isn’t quite right…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Ok and Cancel not same siz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We’ll see how to fix this later…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381" name="OkCancel1" descr=""/>
          <p:cNvPicPr/>
          <p:nvPr/>
        </p:nvPicPr>
        <p:blipFill>
          <a:blip r:embed="rId5"/>
          <a:stretch/>
        </p:blipFill>
        <p:spPr>
          <a:xfrm>
            <a:off x="2751120" y="2995560"/>
            <a:ext cx="4030560" cy="2490840"/>
          </a:xfrm>
          <a:prstGeom prst="rect">
            <a:avLst/>
          </a:prstGeom>
          <a:ln w="9360">
            <a:solidFill>
              <a:srgbClr val="545472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3D5C-C128-43EC-B6B7-FC88AAD80829}" type="slidenum">
              <a:t>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66BD80-B002-42CD-BD6A-A06D6BA0347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eferred Size of a BorderLayou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45472"/>
                </a:solidFill>
                <a:latin typeface="Tahoma"/>
              </a:rPr>
              <a:t>“</a:t>
            </a:r>
            <a:r>
              <a:rPr b="0" i="1" lang="en-US" sz="3200" spc="-1" strike="noStrike">
                <a:solidFill>
                  <a:srgbClr val="545472"/>
                </a:solidFill>
                <a:latin typeface="Tahoma"/>
              </a:rPr>
              <a:t>If I had </a:t>
            </a:r>
            <a:r>
              <a:rPr b="0" i="1" lang="en-US" sz="3200" spc="-1" strike="noStrike">
                <a:solidFill>
                  <a:srgbClr val="8888ae"/>
                </a:solidFill>
                <a:latin typeface="Tahoma"/>
              </a:rPr>
              <a:t>infinite</a:t>
            </a:r>
            <a:r>
              <a:rPr b="0" i="1" lang="en-US" sz="3200" spc="-1" strike="noStrike">
                <a:solidFill>
                  <a:srgbClr val="545472"/>
                </a:solidFill>
                <a:latin typeface="Tahoma"/>
              </a:rPr>
              <a:t> screen space, how big would I </a:t>
            </a:r>
            <a:r>
              <a:rPr b="0" i="1" lang="en-US" sz="3200" spc="-1" strike="noStrike">
                <a:solidFill>
                  <a:srgbClr val="8888ae"/>
                </a:solidFill>
                <a:latin typeface="Tahoma"/>
              </a:rPr>
              <a:t>like</a:t>
            </a:r>
            <a:r>
              <a:rPr b="0" i="1" lang="en-US" sz="3200" spc="-1" strike="noStrike">
                <a:solidFill>
                  <a:srgbClr val="545472"/>
                </a:solidFill>
                <a:latin typeface="Tahoma"/>
              </a:rPr>
              <a:t> to be?”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545472"/>
                </a:solidFill>
                <a:latin typeface="Courier New"/>
              </a:rPr>
              <a:t>pw = max(n.pw, s.pw, (w.pw+c.pw+e.pw))</a:t>
            </a:r>
            <a:br>
              <a:rPr sz="2400"/>
            </a:br>
            <a:r>
              <a:rPr b="1" lang="en-US" sz="2400" spc="-1" strike="noStrike">
                <a:solidFill>
                  <a:srgbClr val="545472"/>
                </a:solidFill>
                <a:latin typeface="Courier New"/>
              </a:rPr>
              <a:t>ph = n.ph + s.ph + max(w.ph, c.ph, e.ph)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384" name="border1" descr=""/>
          <p:cNvPicPr/>
          <p:nvPr/>
        </p:nvPicPr>
        <p:blipFill>
          <a:blip r:embed="rId3"/>
          <a:stretch/>
        </p:blipFill>
        <p:spPr>
          <a:xfrm>
            <a:off x="5257800" y="4114800"/>
            <a:ext cx="3505320" cy="2243160"/>
          </a:xfrm>
          <a:prstGeom prst="rect">
            <a:avLst/>
          </a:prstGeom>
          <a:ln w="9360">
            <a:solidFill>
              <a:srgbClr val="545472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8A48-A836-4783-BD69-77FB5AC8233E}" type="slidenum">
              <a:t>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981909-01DF-4DA6-B14C-38FFFF141A3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eferredSize of a BorderLayou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nk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referred width is “widest row”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referred height is sum of row height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387" name="border1" descr=""/>
          <p:cNvPicPr/>
          <p:nvPr/>
        </p:nvPicPr>
        <p:blipFill>
          <a:blip r:embed="rId5"/>
          <a:stretch/>
        </p:blipFill>
        <p:spPr>
          <a:xfrm>
            <a:off x="5257800" y="4114800"/>
            <a:ext cx="3505320" cy="2243160"/>
          </a:xfrm>
          <a:prstGeom prst="rect">
            <a:avLst/>
          </a:prstGeom>
          <a:ln w="9360">
            <a:solidFill>
              <a:srgbClr val="545472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2C37-CC4D-4F13-8472-6BDCA074E335}" type="slidenum">
              <a:t>7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D14D96-FD99-4F5D-B93B-C9A46AE2619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ridLayou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Lays components out in a grid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Like a calculator or phone keypad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390" name="Grid1" descr=""/>
          <p:cNvPicPr/>
          <p:nvPr/>
        </p:nvPicPr>
        <p:blipFill>
          <a:blip r:embed="rId4"/>
          <a:stretch/>
        </p:blipFill>
        <p:spPr>
          <a:xfrm>
            <a:off x="2286000" y="3192480"/>
            <a:ext cx="4343400" cy="2979720"/>
          </a:xfrm>
          <a:prstGeom prst="rect">
            <a:avLst/>
          </a:prstGeom>
          <a:ln w="9360">
            <a:solidFill>
              <a:srgbClr val="545472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F8AC-CC1D-4FEE-AC07-3377D994D7B2}" type="slidenum">
              <a:t>7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CAC2E7-E6EE-414B-8CBF-B3CD1BE3A1A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ridLayou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c7c7df"/>
                </a:solidFill>
                <a:latin typeface="Courier New"/>
              </a:rPr>
              <a:t>new</a:t>
            </a:r>
            <a:r>
              <a:rPr b="1" lang="en-US" sz="2800" spc="-1" strike="noStrike">
                <a:solidFill>
                  <a:srgbClr val="545472"/>
                </a:solidFill>
                <a:latin typeface="Courier New"/>
              </a:rPr>
              <a:t> GridLayout(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3</a:t>
            </a:r>
            <a:r>
              <a:rPr b="1" lang="en-US" sz="2800" spc="-1" strike="noStrike">
                <a:solidFill>
                  <a:srgbClr val="545472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4</a:t>
            </a:r>
            <a:r>
              <a:rPr b="1" lang="en-US" sz="2800" spc="-1" strike="noStrike">
                <a:solidFill>
                  <a:srgbClr val="545472"/>
                </a:solidFill>
                <a:latin typeface="Courier New"/>
              </a:rPr>
              <a:t>);</a:t>
            </a:r>
            <a:br>
              <a:rPr sz="2800"/>
            </a:b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// 3 rows</a:t>
            </a:r>
            <a:br>
              <a:rPr sz="2800"/>
            </a:b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// 4 columns</a:t>
            </a:r>
            <a:br>
              <a:rPr sz="2800"/>
            </a:b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// we added 12 buttons..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393" name="Grid1" descr=""/>
          <p:cNvPicPr/>
          <p:nvPr/>
        </p:nvPicPr>
        <p:blipFill>
          <a:blip r:embed="rId2"/>
          <a:stretch/>
        </p:blipFill>
        <p:spPr>
          <a:xfrm>
            <a:off x="5715000" y="4114800"/>
            <a:ext cx="3276720" cy="2247840"/>
          </a:xfrm>
          <a:prstGeom prst="rect">
            <a:avLst/>
          </a:prstGeom>
          <a:ln w="9360">
            <a:solidFill>
              <a:srgbClr val="545472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E59F-1BD8-4EC1-B2D6-873F504F3854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A14274-681B-4B39-B54D-E2AFF52E86F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n-Full GridLayou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What if there aren’t 12 buttons…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396" name="Grid1" descr=""/>
          <p:cNvPicPr/>
          <p:nvPr/>
        </p:nvPicPr>
        <p:blipFill>
          <a:blip r:embed="rId3"/>
          <a:stretch/>
        </p:blipFill>
        <p:spPr>
          <a:xfrm>
            <a:off x="1930320" y="2548080"/>
            <a:ext cx="5283360" cy="3624120"/>
          </a:xfrm>
          <a:prstGeom prst="rect">
            <a:avLst/>
          </a:prstGeom>
          <a:ln w="9360">
            <a:solidFill>
              <a:srgbClr val="545472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CF8E-975F-44D0-9167-E4A1AD1F1F62}" type="slidenum">
              <a:t>7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D8821C-CDC4-45AD-8876-CD49A0E8827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n-Full GridLayou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en there were 11…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399" name="Grid2" descr=""/>
          <p:cNvPicPr/>
          <p:nvPr/>
        </p:nvPicPr>
        <p:blipFill>
          <a:blip r:embed="rId3"/>
          <a:stretch/>
        </p:blipFill>
        <p:spPr>
          <a:xfrm>
            <a:off x="1930320" y="2548080"/>
            <a:ext cx="5283360" cy="3624120"/>
          </a:xfrm>
          <a:prstGeom prst="rect">
            <a:avLst/>
          </a:prstGeom>
          <a:ln w="9360">
            <a:solidFill>
              <a:srgbClr val="545472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F6F7-D299-440D-ACD5-9B0DD5926EC9}" type="slidenum">
              <a:t>7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E2281A-0773-459D-9070-837FDEDF119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n-Full GridLayou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And then there were 10…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402" name="Grid3" descr=""/>
          <p:cNvPicPr/>
          <p:nvPr/>
        </p:nvPicPr>
        <p:blipFill>
          <a:blip r:embed="rId3"/>
          <a:stretch/>
        </p:blipFill>
        <p:spPr>
          <a:xfrm>
            <a:off x="1930320" y="2548080"/>
            <a:ext cx="5283360" cy="3624120"/>
          </a:xfrm>
          <a:prstGeom prst="rect">
            <a:avLst/>
          </a:prstGeom>
          <a:ln w="9360">
            <a:solidFill>
              <a:srgbClr val="545472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BC3F-AE4F-41A2-94C5-B60DB18A87F2}" type="slidenum">
              <a:t>7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3F07A5-3B40-4238-B1B1-DCBC61929A8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bsolute Positioning/Siz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You position/size component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400" spc="-1" strike="noStrike">
                <a:solidFill>
                  <a:srgbClr val="545472"/>
                </a:solidFill>
                <a:latin typeface="Courier New"/>
              </a:rPr>
              <a:t>Button b </a:t>
            </a:r>
            <a:r>
              <a:rPr b="1" lang="en-US" sz="2400" spc="-1" strike="noStrike">
                <a:solidFill>
                  <a:srgbClr val="ff505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545472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c7c7df"/>
                </a:solidFill>
                <a:latin typeface="Courier New"/>
              </a:rPr>
              <a:t>new</a:t>
            </a:r>
            <a:r>
              <a:rPr b="1" lang="en-US" sz="2400" spc="-1" strike="noStrike">
                <a:solidFill>
                  <a:srgbClr val="545472"/>
                </a:solidFill>
                <a:latin typeface="Courier New"/>
              </a:rPr>
              <a:t> Button(</a:t>
            </a:r>
            <a:r>
              <a:rPr b="1" lang="en-US" sz="2400" spc="-1" strike="noStrike">
                <a:solidFill>
                  <a:srgbClr val="a7ccd9"/>
                </a:solidFill>
                <a:latin typeface="Courier New"/>
              </a:rPr>
              <a:t>“Ok”</a:t>
            </a:r>
            <a:r>
              <a:rPr b="1" lang="en-US" sz="2400" spc="-1" strike="noStrike">
                <a:solidFill>
                  <a:srgbClr val="545472"/>
                </a:solidFill>
                <a:latin typeface="Courier New"/>
              </a:rPr>
              <a:t>);</a:t>
            </a:r>
            <a:br>
              <a:rPr sz="2400"/>
            </a:br>
            <a:r>
              <a:rPr b="1" lang="en-US" sz="2400" spc="-1" strike="noStrike">
                <a:solidFill>
                  <a:srgbClr val="545472"/>
                </a:solidFill>
                <a:latin typeface="Courier New"/>
              </a:rPr>
              <a:t>panel</a:t>
            </a:r>
            <a:r>
              <a:rPr b="1" lang="en-US" sz="2400" spc="-1" strike="noStrike">
                <a:solidFill>
                  <a:srgbClr val="ff5050"/>
                </a:solidFill>
                <a:latin typeface="Courier New"/>
              </a:rPr>
              <a:t>.</a:t>
            </a:r>
            <a:r>
              <a:rPr b="1" lang="en-US" sz="2400" spc="-1" strike="noStrike">
                <a:solidFill>
                  <a:srgbClr val="545472"/>
                </a:solidFill>
                <a:latin typeface="Courier New"/>
              </a:rPr>
              <a:t>add(b);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545472"/>
                </a:solidFill>
                <a:latin typeface="Courier New"/>
              </a:rPr>
              <a:t>b</a:t>
            </a:r>
            <a:r>
              <a:rPr b="1" lang="en-US" sz="2400" spc="-1" strike="noStrike">
                <a:solidFill>
                  <a:srgbClr val="ff5050"/>
                </a:solidFill>
                <a:latin typeface="Courier New"/>
              </a:rPr>
              <a:t>.</a:t>
            </a:r>
            <a:r>
              <a:rPr b="1" lang="en-US" sz="2400" spc="-1" strike="noStrike">
                <a:solidFill>
                  <a:srgbClr val="545472"/>
                </a:solidFill>
                <a:latin typeface="Courier New"/>
              </a:rPr>
              <a:t>setLocation(</a:t>
            </a:r>
            <a:r>
              <a:rPr b="1" lang="en-US" sz="2400" spc="-1" strike="noStrike">
                <a:solidFill>
                  <a:srgbClr val="ff5050"/>
                </a:solidFill>
                <a:latin typeface="Courier New"/>
              </a:rPr>
              <a:t>10</a:t>
            </a:r>
            <a:r>
              <a:rPr b="1" lang="en-US" sz="2400" spc="-1" strike="noStrike">
                <a:solidFill>
                  <a:srgbClr val="545472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ff5050"/>
                </a:solidFill>
                <a:latin typeface="Courier New"/>
              </a:rPr>
              <a:t>10</a:t>
            </a:r>
            <a:r>
              <a:rPr b="1" lang="en-US" sz="2400" spc="-1" strike="noStrike">
                <a:solidFill>
                  <a:srgbClr val="545472"/>
                </a:solidFill>
                <a:latin typeface="Courier New"/>
              </a:rPr>
              <a:t>);</a:t>
            </a:r>
            <a:br>
              <a:rPr sz="2400"/>
            </a:br>
            <a:r>
              <a:rPr b="1" lang="en-US" sz="2400" spc="-1" strike="noStrike">
                <a:solidFill>
                  <a:srgbClr val="545472"/>
                </a:solidFill>
                <a:latin typeface="Courier New"/>
              </a:rPr>
              <a:t>b</a:t>
            </a:r>
            <a:r>
              <a:rPr b="1" lang="en-US" sz="2400" spc="-1" strike="noStrike">
                <a:solidFill>
                  <a:srgbClr val="ff5050"/>
                </a:solidFill>
                <a:latin typeface="Courier New"/>
              </a:rPr>
              <a:t>.</a:t>
            </a:r>
            <a:r>
              <a:rPr b="1" lang="en-US" sz="2400" spc="-1" strike="noStrike">
                <a:solidFill>
                  <a:srgbClr val="545472"/>
                </a:solidFill>
                <a:latin typeface="Courier New"/>
              </a:rPr>
              <a:t>setSize(</a:t>
            </a:r>
            <a:r>
              <a:rPr b="1" lang="en-US" sz="2400" spc="-1" strike="noStrike">
                <a:solidFill>
                  <a:srgbClr val="ff5050"/>
                </a:solidFill>
                <a:latin typeface="Courier New"/>
              </a:rPr>
              <a:t>100</a:t>
            </a:r>
            <a:r>
              <a:rPr b="1" lang="en-US" sz="2400" spc="-1" strike="noStrike">
                <a:solidFill>
                  <a:srgbClr val="545472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ff5050"/>
                </a:solidFill>
                <a:latin typeface="Courier New"/>
              </a:rPr>
              <a:t>20</a:t>
            </a:r>
            <a:r>
              <a:rPr b="1" lang="en-US" sz="2400" spc="-1" strike="noStrike">
                <a:solidFill>
                  <a:srgbClr val="545472"/>
                </a:solidFill>
                <a:latin typeface="Courier New"/>
              </a:rPr>
              <a:t>);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// or..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545472"/>
                </a:solidFill>
                <a:latin typeface="Courier New"/>
              </a:rPr>
              <a:t>b</a:t>
            </a:r>
            <a:r>
              <a:rPr b="1" lang="en-US" sz="2400" spc="-1" strike="noStrike">
                <a:solidFill>
                  <a:srgbClr val="ff5050"/>
                </a:solidFill>
                <a:latin typeface="Courier New"/>
              </a:rPr>
              <a:t>.</a:t>
            </a:r>
            <a:r>
              <a:rPr b="1" lang="en-US" sz="2400" spc="-1" strike="noStrike">
                <a:solidFill>
                  <a:srgbClr val="545472"/>
                </a:solidFill>
                <a:latin typeface="Courier New"/>
              </a:rPr>
              <a:t>setBounds(</a:t>
            </a:r>
            <a:r>
              <a:rPr b="1" lang="en-US" sz="2400" spc="-1" strike="noStrike">
                <a:solidFill>
                  <a:srgbClr val="ff5050"/>
                </a:solidFill>
                <a:latin typeface="Courier New"/>
              </a:rPr>
              <a:t>10</a:t>
            </a:r>
            <a:r>
              <a:rPr b="1" lang="en-US" sz="2400" spc="-1" strike="noStrike">
                <a:solidFill>
                  <a:srgbClr val="545472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ff5050"/>
                </a:solidFill>
                <a:latin typeface="Courier New"/>
              </a:rPr>
              <a:t>10</a:t>
            </a:r>
            <a:r>
              <a:rPr b="1" lang="en-US" sz="2400" spc="-1" strike="noStrike">
                <a:solidFill>
                  <a:srgbClr val="545472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ff5050"/>
                </a:solidFill>
                <a:latin typeface="Courier New"/>
              </a:rPr>
              <a:t>100</a:t>
            </a:r>
            <a:r>
              <a:rPr b="1" lang="en-US" sz="2400" spc="-1" strike="noStrike">
                <a:solidFill>
                  <a:srgbClr val="545472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ff5050"/>
                </a:solidFill>
                <a:latin typeface="Courier New"/>
              </a:rPr>
              <a:t>20</a:t>
            </a:r>
            <a:r>
              <a:rPr b="1" lang="en-US" sz="2400" spc="-1" strike="noStrike">
                <a:solidFill>
                  <a:srgbClr val="545472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1553-A424-4562-9DF4-1C23A94BECE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1F9853-875D-43B1-AF01-B3F7031A4B7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n-Full GridLayou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Nine…Uh oh… That doesn’t look right…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405" name="Grid4" descr=""/>
          <p:cNvPicPr/>
          <p:nvPr/>
        </p:nvPicPr>
        <p:blipFill>
          <a:blip r:embed="rId3"/>
          <a:stretch/>
        </p:blipFill>
        <p:spPr>
          <a:xfrm>
            <a:off x="1930320" y="2548080"/>
            <a:ext cx="5283360" cy="3624120"/>
          </a:xfrm>
          <a:prstGeom prst="rect">
            <a:avLst/>
          </a:prstGeom>
          <a:ln w="9360">
            <a:solidFill>
              <a:srgbClr val="545472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2926-7072-47A9-8ED1-70A66B9DEC5C}" type="slidenum">
              <a:t>8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34E272-F1FF-4366-920E-25A0A1B4C41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ridLayout Rows/Colum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When creating a GridLayout instanc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2800" spc="-1" strike="noStrike">
                <a:solidFill>
                  <a:srgbClr val="c7c7df"/>
                </a:solidFill>
                <a:latin typeface="Courier New"/>
              </a:rPr>
              <a:t>new</a:t>
            </a:r>
            <a:r>
              <a:rPr b="1" lang="en-US" sz="2800" spc="-1" strike="noStrike">
                <a:solidFill>
                  <a:srgbClr val="545472"/>
                </a:solidFill>
                <a:latin typeface="Courier New"/>
              </a:rPr>
              <a:t> GridLayout(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3</a:t>
            </a:r>
            <a:r>
              <a:rPr b="1" lang="en-US" sz="2800" spc="-1" strike="noStrike">
                <a:solidFill>
                  <a:srgbClr val="545472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4</a:t>
            </a:r>
            <a:r>
              <a:rPr b="1" lang="en-US" sz="2800" spc="-1" strike="noStrike">
                <a:solidFill>
                  <a:srgbClr val="545472"/>
                </a:solidFill>
                <a:latin typeface="Courier New"/>
              </a:rPr>
              <a:t>);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GridLayout </a:t>
            </a:r>
            <a:r>
              <a:rPr b="0" lang="en-US" sz="3200" spc="-1" strike="noStrike">
                <a:solidFill>
                  <a:srgbClr val="8888ae"/>
                </a:solidFill>
                <a:latin typeface="Tahoma"/>
              </a:rPr>
              <a:t>only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heeds the first </a:t>
            </a:r>
            <a:r>
              <a:rPr b="0" lang="en-US" sz="3200" spc="-1" strike="noStrike">
                <a:solidFill>
                  <a:srgbClr val="8888ae"/>
                </a:solidFill>
                <a:latin typeface="Tahoma"/>
              </a:rPr>
              <a:t>non-zero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7A05-1DED-4298-978F-02ED99602682}" type="slidenum">
              <a:t>8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1BC485-35E8-44B5-9088-0C275BA6A27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ridLayout Rows/Colum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c7c7df"/>
                </a:solidFill>
                <a:latin typeface="Courier New"/>
              </a:rPr>
              <a:t>new</a:t>
            </a:r>
            <a:r>
              <a:rPr b="1" lang="en-US" sz="2800" spc="-1" strike="noStrike">
                <a:solidFill>
                  <a:srgbClr val="545472"/>
                </a:solidFill>
                <a:latin typeface="Courier New"/>
              </a:rPr>
              <a:t> GridLayout(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3</a:t>
            </a:r>
            <a:r>
              <a:rPr b="1" lang="en-US" sz="2800" spc="-1" strike="noStrike">
                <a:solidFill>
                  <a:srgbClr val="545472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4</a:t>
            </a:r>
            <a:r>
              <a:rPr b="1" lang="en-US" sz="2800" spc="-1" strike="noStrike">
                <a:solidFill>
                  <a:srgbClr val="545472"/>
                </a:solidFill>
                <a:latin typeface="Courier New"/>
              </a:rPr>
              <a:t>);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// under the covers..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c7c7d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545472"/>
                </a:solidFill>
                <a:latin typeface="Courier New"/>
              </a:rPr>
              <a:t> (rows 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!=</a:t>
            </a:r>
            <a:r>
              <a:rPr b="1" lang="en-US" sz="2800" spc="-1" strike="noStrike">
                <a:solidFill>
                  <a:srgbClr val="545472"/>
                </a:solidFill>
                <a:latin typeface="Courier New"/>
              </a:rPr>
              <a:t> 0)</a:t>
            </a:r>
            <a:br>
              <a:rPr sz="2800"/>
            </a:br>
            <a:r>
              <a:rPr b="1" lang="en-US" sz="2800" spc="-1" strike="noStrike">
                <a:solidFill>
                  <a:srgbClr val="545472"/>
                </a:solidFill>
                <a:latin typeface="Courier New"/>
              </a:rPr>
              <a:t>  cols 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=</a:t>
            </a:r>
            <a:r>
              <a:rPr b="1" lang="en-US" sz="2800" spc="-1" strike="noStrike">
                <a:solidFill>
                  <a:srgbClr val="545472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// number necessary</a:t>
            </a:r>
            <a:br>
              <a:rPr sz="2800"/>
            </a:br>
            <a:r>
              <a:rPr b="1" lang="en-US" sz="2800" spc="-1" strike="noStrike">
                <a:solidFill>
                  <a:srgbClr val="c7c7df"/>
                </a:solidFill>
                <a:latin typeface="Courier New"/>
              </a:rPr>
              <a:t>else</a:t>
            </a:r>
            <a:br>
              <a:rPr sz="2800"/>
            </a:br>
            <a:r>
              <a:rPr b="1" lang="en-US" sz="2800" spc="-1" strike="noStrike">
                <a:solidFill>
                  <a:srgbClr val="545472"/>
                </a:solidFill>
                <a:latin typeface="Courier New"/>
              </a:rPr>
              <a:t>  rows 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=</a:t>
            </a:r>
            <a:r>
              <a:rPr b="1" lang="en-US" sz="2800" spc="-1" strike="noStrike">
                <a:solidFill>
                  <a:srgbClr val="545472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// number necessary</a:t>
            </a:r>
            <a:br>
              <a:rPr sz="2800"/>
            </a:b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38A8-85A3-429B-9903-B89C225342F5}" type="slidenum">
              <a:t>8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18B7A6-D248-4C00-BEA6-16FEF422562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ridLayout Rows/Colum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// better</a:t>
            </a:r>
            <a:br>
              <a:rPr sz="2800"/>
            </a:br>
            <a:r>
              <a:rPr b="1" lang="en-US" sz="2800" spc="-1" strike="noStrike">
                <a:solidFill>
                  <a:srgbClr val="c7c7df"/>
                </a:solidFill>
                <a:latin typeface="Courier New"/>
              </a:rPr>
              <a:t>new</a:t>
            </a:r>
            <a:r>
              <a:rPr b="1" lang="en-US" sz="2800" spc="-1" strike="noStrike">
                <a:solidFill>
                  <a:srgbClr val="545472"/>
                </a:solidFill>
                <a:latin typeface="Courier New"/>
              </a:rPr>
              <a:t> GridLayout(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3</a:t>
            </a:r>
            <a:r>
              <a:rPr b="1" lang="en-US" sz="2800" spc="-1" strike="noStrike">
                <a:solidFill>
                  <a:srgbClr val="545472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545472"/>
                </a:solidFill>
                <a:latin typeface="Courier New"/>
              </a:rPr>
              <a:t>);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// or...</a:t>
            </a:r>
            <a:br>
              <a:rPr sz="2800"/>
            </a:br>
            <a:r>
              <a:rPr b="1" lang="en-US" sz="2800" spc="-1" strike="noStrike">
                <a:solidFill>
                  <a:srgbClr val="c7c7df"/>
                </a:solidFill>
                <a:latin typeface="Courier New"/>
              </a:rPr>
              <a:t>new</a:t>
            </a:r>
            <a:r>
              <a:rPr b="1" lang="en-US" sz="2800" spc="-1" strike="noStrike">
                <a:solidFill>
                  <a:srgbClr val="545472"/>
                </a:solidFill>
                <a:latin typeface="Courier New"/>
              </a:rPr>
              <a:t> GridLayout(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545472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4</a:t>
            </a:r>
            <a:r>
              <a:rPr b="1" lang="en-US" sz="2800" spc="-1" strike="noStrike">
                <a:solidFill>
                  <a:srgbClr val="545472"/>
                </a:solidFill>
                <a:latin typeface="Courier New"/>
              </a:rPr>
              <a:t>);</a:t>
            </a:r>
            <a:br>
              <a:rPr sz="2800"/>
            </a:b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Always make one parameter zero!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E67B-1CCA-4E32-A3DE-3052497C3C6C}" type="slidenum">
              <a:t>8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E6E01B-41AF-43E1-A2EA-44D17C01F60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ridLayout hgap/vga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// with hgap and vgap</a:t>
            </a:r>
            <a:br>
              <a:rPr sz="2800"/>
            </a:br>
            <a:r>
              <a:rPr b="1" lang="en-US" sz="2800" spc="-1" strike="noStrike">
                <a:solidFill>
                  <a:srgbClr val="c7c7df"/>
                </a:solidFill>
                <a:latin typeface="Courier New"/>
              </a:rPr>
              <a:t>new</a:t>
            </a:r>
            <a:r>
              <a:rPr b="1" lang="en-US" sz="2800" spc="-1" strike="noStrike">
                <a:solidFill>
                  <a:srgbClr val="545472"/>
                </a:solidFill>
                <a:latin typeface="Courier New"/>
              </a:rPr>
              <a:t> GridLayout(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3</a:t>
            </a:r>
            <a:r>
              <a:rPr b="1" lang="en-US" sz="2800" spc="-1" strike="noStrike">
                <a:solidFill>
                  <a:srgbClr val="545472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0,3,5</a:t>
            </a:r>
            <a:r>
              <a:rPr b="1" lang="en-US" sz="2800" spc="-1" strike="noStrike">
                <a:solidFill>
                  <a:srgbClr val="545472"/>
                </a:solidFill>
                <a:latin typeface="Courier New"/>
              </a:rPr>
              <a:t>);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// rows=3</a:t>
            </a:r>
            <a:br>
              <a:rPr sz="2800"/>
            </a:b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// cols=0 (as many as needed)</a:t>
            </a:r>
            <a:br>
              <a:rPr sz="2800"/>
            </a:b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// hgap=3</a:t>
            </a:r>
            <a:br>
              <a:rPr sz="2800"/>
            </a:b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// vgap=5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A833-20EE-410B-AB2F-04537DF03620}" type="slidenum">
              <a:t>8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1C83BE-B899-4E98-BB50-7B842D367C8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s GridLayout Useful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Interesting layout, but…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How many calculators do you write???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How many phone keypads do you write???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9029-DE4F-4071-80AB-884C38B3A348}" type="slidenum">
              <a:t>8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62AA5E-1B9F-4EDB-B6D4-5064A18D45E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ridLayout </a:t>
            </a:r>
            <a:r>
              <a:rPr b="0" i="1" lang="en-US" sz="4400" spc="-1" strike="noStrike">
                <a:solidFill>
                  <a:srgbClr val="660066"/>
                </a:solidFill>
                <a:latin typeface="Tahoma"/>
              </a:rPr>
              <a:t>Is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Useful!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at’s not the point!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Useful for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wo or more </a:t>
            </a:r>
            <a:r>
              <a:rPr b="0" lang="en-US" sz="2800" spc="-1" strike="noStrike">
                <a:solidFill>
                  <a:srgbClr val="8888ae"/>
                </a:solidFill>
                <a:latin typeface="Tahoma"/>
              </a:rPr>
              <a:t>adjacent component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Making components </a:t>
            </a:r>
            <a:r>
              <a:rPr b="0" lang="en-US" sz="2800" spc="-1" strike="noStrike">
                <a:solidFill>
                  <a:srgbClr val="8888ae"/>
                </a:solidFill>
                <a:latin typeface="Tahoma"/>
              </a:rPr>
              <a:t>same siz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Often only contains two components!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0A52-BC96-4718-90B1-84CA6308FFD1}" type="slidenum">
              <a:t>8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427F0F-628E-4BF5-9246-D80B0130976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k and Cancel Buttons, Revisite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Want Ok/Cancel to be same siz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ey’re adjacent…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lace them in a GridLayou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420" name="OkCancel2" descr=""/>
          <p:cNvPicPr/>
          <p:nvPr/>
        </p:nvPicPr>
        <p:blipFill>
          <a:blip r:embed="rId5"/>
          <a:stretch/>
        </p:blipFill>
        <p:spPr>
          <a:xfrm>
            <a:off x="2550960" y="3828960"/>
            <a:ext cx="4040280" cy="2495520"/>
          </a:xfrm>
          <a:prstGeom prst="rect">
            <a:avLst/>
          </a:prstGeom>
          <a:ln w="9360">
            <a:solidFill>
              <a:srgbClr val="545472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BF3E-72DC-4188-82D6-6BFA841F2A2E}" type="slidenum">
              <a:t>8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4857F4-C54B-45C6-9E32-C60ADEBD428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k and Cancel Buttons, Revisite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anel [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BorderLayout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]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OUTH=Panel 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[FlowLayout(RIGHT)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]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Panel [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GridLayout(1,0)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]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Button(</a:t>
            </a:r>
            <a:r>
              <a:rPr b="0" lang="en-US" sz="2000" spc="-1" strike="noStrike">
                <a:solidFill>
                  <a:srgbClr val="8888ae"/>
                </a:solidFill>
                <a:latin typeface="Tahoma"/>
              </a:rPr>
              <a:t>“Ok”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Button(</a:t>
            </a:r>
            <a:r>
              <a:rPr b="0" lang="en-US" sz="2000" spc="-1" strike="noStrike">
                <a:solidFill>
                  <a:srgbClr val="8888ae"/>
                </a:solidFill>
                <a:latin typeface="Tahoma"/>
              </a:rPr>
              <a:t>“Cancel”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423" name="OkCancel2" descr=""/>
          <p:cNvPicPr/>
          <p:nvPr/>
        </p:nvPicPr>
        <p:blipFill>
          <a:blip r:embed="rId7"/>
          <a:stretch/>
        </p:blipFill>
        <p:spPr>
          <a:xfrm>
            <a:off x="4952880" y="3524400"/>
            <a:ext cx="4040280" cy="2495520"/>
          </a:xfrm>
          <a:prstGeom prst="rect">
            <a:avLst/>
          </a:prstGeom>
          <a:ln w="9360">
            <a:solidFill>
              <a:srgbClr val="545472"/>
            </a:solidFill>
            <a:miter/>
          </a:ln>
        </p:spPr>
      </p:pic>
      <p:sp>
        <p:nvSpPr>
          <p:cNvPr id="424" name=""/>
          <p:cNvSpPr/>
          <p:nvPr/>
        </p:nvSpPr>
        <p:spPr>
          <a:xfrm>
            <a:off x="6686640" y="5353200"/>
            <a:ext cx="2209680" cy="533160"/>
          </a:xfrm>
          <a:prstGeom prst="rect">
            <a:avLst/>
          </a:prstGeom>
          <a:solidFill>
            <a:srgbClr val="a7ccd9">
              <a:alpha val="50000"/>
            </a:srgbClr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6707-21F2-4637-8A26-1C53A4EB85F2}" type="slidenum">
              <a:t>8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6A367B-02A6-45B2-BD5B-DB8BE471B20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k and Cancel Buttons, Revisite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426" name="OkCancel2a" descr=""/>
          <p:cNvPicPr/>
          <p:nvPr/>
        </p:nvPicPr>
        <p:blipFill>
          <a:blip r:embed="rId2"/>
          <a:stretch/>
        </p:blipFill>
        <p:spPr>
          <a:xfrm>
            <a:off x="2133720" y="1905120"/>
            <a:ext cx="4895640" cy="4246560"/>
          </a:xfrm>
          <a:prstGeom prst="rect">
            <a:avLst/>
          </a:prstGeom>
          <a:ln w="9360">
            <a:solidFill>
              <a:srgbClr val="545472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1102-8707-42C7-B9F8-E511A38474DF}" type="slidenum">
              <a:t>8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1F6FF0-DEDF-4F62-9036-A9787EBD3A9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Using a Layout Manag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Layout manager positions/sizes component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2800" spc="-1" strike="noStrike">
                <a:solidFill>
                  <a:srgbClr val="545472"/>
                </a:solidFill>
                <a:latin typeface="Courier New"/>
              </a:rPr>
              <a:t>Button b 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=</a:t>
            </a:r>
            <a:r>
              <a:rPr b="1" lang="en-US" sz="2800" spc="-1" strike="noStrike">
                <a:solidFill>
                  <a:srgbClr val="545472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c7c7df"/>
                </a:solidFill>
                <a:latin typeface="Courier New"/>
              </a:rPr>
              <a:t>new</a:t>
            </a:r>
            <a:r>
              <a:rPr b="1" lang="en-US" sz="2800" spc="-1" strike="noStrike">
                <a:solidFill>
                  <a:srgbClr val="545472"/>
                </a:solidFill>
                <a:latin typeface="Courier New"/>
              </a:rPr>
              <a:t> Button(</a:t>
            </a:r>
            <a:r>
              <a:rPr b="1" lang="en-US" sz="2800" spc="-1" strike="noStrike">
                <a:solidFill>
                  <a:srgbClr val="a7ccd9"/>
                </a:solidFill>
                <a:latin typeface="Courier New"/>
              </a:rPr>
              <a:t>“Ok”</a:t>
            </a:r>
            <a:r>
              <a:rPr b="1" lang="en-US" sz="2800" spc="-1" strike="noStrike">
                <a:solidFill>
                  <a:srgbClr val="545472"/>
                </a:solidFill>
                <a:latin typeface="Courier New"/>
              </a:rPr>
              <a:t>);</a:t>
            </a:r>
            <a:br>
              <a:rPr sz="2800"/>
            </a:br>
            <a:r>
              <a:rPr b="1" lang="en-US" sz="2800" spc="-1" strike="noStrike">
                <a:solidFill>
                  <a:srgbClr val="545472"/>
                </a:solidFill>
                <a:latin typeface="Courier New"/>
              </a:rPr>
              <a:t>panel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.</a:t>
            </a:r>
            <a:r>
              <a:rPr b="1" lang="en-US" sz="2800" spc="-1" strike="noStrike">
                <a:solidFill>
                  <a:srgbClr val="545472"/>
                </a:solidFill>
                <a:latin typeface="Courier New"/>
              </a:rPr>
              <a:t>setLayout(</a:t>
            </a:r>
            <a:r>
              <a:rPr b="1" lang="en-US" sz="2800" spc="-1" strike="noStrike">
                <a:solidFill>
                  <a:srgbClr val="c7c7df"/>
                </a:solidFill>
                <a:latin typeface="Courier New"/>
              </a:rPr>
              <a:t>new</a:t>
            </a:r>
            <a:r>
              <a:rPr b="1" lang="en-US" sz="2800" spc="-1" strike="noStrike">
                <a:solidFill>
                  <a:srgbClr val="545472"/>
                </a:solidFill>
                <a:latin typeface="Courier New"/>
              </a:rPr>
              <a:t> FlowLayout());</a:t>
            </a:r>
            <a:br>
              <a:rPr sz="2800"/>
            </a:br>
            <a:r>
              <a:rPr b="1" lang="en-US" sz="2800" spc="-1" strike="noStrike">
                <a:solidFill>
                  <a:srgbClr val="545472"/>
                </a:solidFill>
                <a:latin typeface="Courier New"/>
              </a:rPr>
              <a:t>panel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.</a:t>
            </a:r>
            <a:r>
              <a:rPr b="1" lang="en-US" sz="2800" spc="-1" strike="noStrike">
                <a:solidFill>
                  <a:srgbClr val="545472"/>
                </a:solidFill>
                <a:latin typeface="Courier New"/>
              </a:rPr>
              <a:t>add(b);</a:t>
            </a:r>
            <a:br>
              <a:rPr sz="2800"/>
            </a:b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00D7-6AAA-4535-A6CF-C9AF71374DD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8626B3-2029-45CD-A2E6-CFC620F9F40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eferred Size of GridLayou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Make sure all components are happy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Each cell must b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s wide as widest component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s tall as tallest component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ame size as all other cell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7C32-8763-4B87-8ECC-2E25000C7158}" type="slidenum">
              <a:t>9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B19C75-86F7-4490-97EB-57DE1AADB95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ardLayou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Like a stack of index card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One component visible at a tim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an move between card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Least used standard layout manager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BDDA-2525-4F94-B486-7023921DBFF7}" type="slidenum">
              <a:t>9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E47A44-FE8D-481F-BD9E-4110E573776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hat is CardLayout Useful For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abbed Panel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Wizard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433" name="tabsplitter" descr=""/>
          <p:cNvPicPr/>
          <p:nvPr/>
        </p:nvPicPr>
        <p:blipFill>
          <a:blip r:embed="rId4"/>
          <a:stretch/>
        </p:blipFill>
        <p:spPr>
          <a:xfrm>
            <a:off x="4343400" y="1933560"/>
            <a:ext cx="3038400" cy="1952640"/>
          </a:xfrm>
          <a:prstGeom prst="rect">
            <a:avLst/>
          </a:prstGeom>
          <a:ln w="9360">
            <a:solidFill>
              <a:srgbClr val="545472"/>
            </a:solidFill>
            <a:miter/>
          </a:ln>
        </p:spPr>
      </p:pic>
      <p:pic>
        <p:nvPicPr>
          <p:cNvPr id="434" name="wizard" descr=""/>
          <p:cNvPicPr/>
          <p:nvPr/>
        </p:nvPicPr>
        <p:blipFill>
          <a:blip r:embed="rId5"/>
          <a:stretch/>
        </p:blipFill>
        <p:spPr>
          <a:xfrm>
            <a:off x="4343400" y="4114800"/>
            <a:ext cx="3009960" cy="1981080"/>
          </a:xfrm>
          <a:prstGeom prst="rect">
            <a:avLst/>
          </a:prstGeom>
          <a:ln w="9360">
            <a:solidFill>
              <a:srgbClr val="545472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2E7F-35E4-4EA8-9E59-48CC7E05B632}" type="slidenum">
              <a:t>9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B42441-4D8C-4BC4-9556-AA9B9B12382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hat is CardLayout Useful For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Empty Border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Better to use Swing Border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2800" spc="-1" strike="noStrike">
                <a:solidFill>
                  <a:srgbClr val="c7c7df"/>
                </a:solidFill>
                <a:latin typeface="Courier New"/>
              </a:rPr>
              <a:t>Panel</a:t>
            </a:r>
            <a:r>
              <a:rPr b="1" lang="en-US" sz="2800" spc="-1" strike="noStrike">
                <a:solidFill>
                  <a:srgbClr val="545472"/>
                </a:solidFill>
                <a:latin typeface="Courier New"/>
              </a:rPr>
              <a:t> dummy 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=</a:t>
            </a:r>
            <a:r>
              <a:rPr b="1" lang="en-US" sz="2800" spc="-1" strike="noStrike">
                <a:solidFill>
                  <a:srgbClr val="545472"/>
                </a:solidFill>
                <a:latin typeface="Courier New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545472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c7c7df"/>
                </a:solidFill>
                <a:latin typeface="Courier New"/>
              </a:rPr>
              <a:t>new</a:t>
            </a:r>
            <a:r>
              <a:rPr b="1" lang="en-US" sz="2800" spc="-1" strike="noStrike">
                <a:solidFill>
                  <a:srgbClr val="545472"/>
                </a:solidFill>
                <a:latin typeface="Courier New"/>
              </a:rPr>
              <a:t> Panel(</a:t>
            </a:r>
            <a:r>
              <a:rPr b="1" lang="en-US" sz="2800" spc="-1" strike="noStrike">
                <a:solidFill>
                  <a:srgbClr val="c7c7df"/>
                </a:solidFill>
                <a:latin typeface="Courier New"/>
              </a:rPr>
              <a:t>new</a:t>
            </a:r>
            <a:r>
              <a:rPr b="1" lang="en-US" sz="2800" spc="-1" strike="noStrike">
                <a:solidFill>
                  <a:srgbClr val="545472"/>
                </a:solidFill>
                <a:latin typeface="Courier New"/>
              </a:rPr>
              <a:t> CardLayout(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10</a:t>
            </a:r>
            <a:r>
              <a:rPr b="1" lang="en-US" sz="2800" spc="-1" strike="noStrike">
                <a:solidFill>
                  <a:srgbClr val="545472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10</a:t>
            </a:r>
            <a:r>
              <a:rPr b="1" lang="en-US" sz="2800" spc="-1" strike="noStrike">
                <a:solidFill>
                  <a:srgbClr val="545472"/>
                </a:solidFill>
                <a:latin typeface="Courier New"/>
              </a:rPr>
              <a:t>));</a:t>
            </a:r>
            <a:br>
              <a:rPr sz="2800"/>
            </a:br>
            <a:r>
              <a:rPr b="1" lang="en-US" sz="2800" spc="-1" strike="noStrike">
                <a:solidFill>
                  <a:srgbClr val="545472"/>
                </a:solidFill>
                <a:latin typeface="Courier New"/>
              </a:rPr>
              <a:t>dummy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.</a:t>
            </a:r>
            <a:r>
              <a:rPr b="1" lang="en-US" sz="2800" spc="-1" strike="noStrike">
                <a:solidFill>
                  <a:srgbClr val="545472"/>
                </a:solidFill>
                <a:latin typeface="Courier New"/>
              </a:rPr>
              <a:t>add(realStuffPanel);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F62A-DA9B-4995-A3AE-725F1090AFF7}" type="slidenum">
              <a:t>9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24060F-5B81-430F-8913-49B9C4D5992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xed-Size Componen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Maximum = Minimum = Preferred size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Useful for BoxLayou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5875-E1AE-4AAF-B50E-86BE66D6BBEF}" type="slidenum">
              <a:t>9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A93AA5-A3B3-42E9-918C-979D5A9F48D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correct Size Fix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JButton b </a:t>
            </a:r>
            <a:r>
              <a:rPr b="1" lang="en-US" sz="2000" spc="-1" strike="noStrike">
                <a:solidFill>
                  <a:srgbClr val="ff5050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7c7df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 JButton(</a:t>
            </a:r>
            <a:r>
              <a:rPr b="1" lang="en-US" sz="2000" spc="-1" strike="noStrike">
                <a:solidFill>
                  <a:srgbClr val="8888ae"/>
                </a:solidFill>
                <a:latin typeface="Courier New"/>
              </a:rPr>
              <a:t>“Hello”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);</a:t>
            </a:r>
            <a:br>
              <a:rPr sz="2000"/>
            </a:b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b</a:t>
            </a:r>
            <a:r>
              <a:rPr b="1" lang="en-US" sz="2000" spc="-1" strike="noStrike">
                <a:solidFill>
                  <a:srgbClr val="ff5050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setMinimumSize(b</a:t>
            </a:r>
            <a:r>
              <a:rPr b="1" lang="en-US" sz="2000" spc="-1" strike="noStrike">
                <a:solidFill>
                  <a:srgbClr val="ff5050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getPreferredSize());</a:t>
            </a:r>
            <a:br>
              <a:rPr sz="2000"/>
            </a:b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b</a:t>
            </a:r>
            <a:r>
              <a:rPr b="1" lang="en-US" sz="2000" spc="-1" strike="noStrike">
                <a:solidFill>
                  <a:srgbClr val="ff5050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setMaximumSize(b</a:t>
            </a:r>
            <a:r>
              <a:rPr b="1" lang="en-US" sz="2000" spc="-1" strike="noStrike">
                <a:solidFill>
                  <a:srgbClr val="ff5050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getPreferredSize());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660066"/>
                </a:solidFill>
                <a:latin typeface="Courier New"/>
              </a:rPr>
              <a:t>// Locks max and min at </a:t>
            </a:r>
            <a:r>
              <a:rPr b="1" i="1" lang="en-US" sz="2000" spc="-1" strike="noStrike">
                <a:solidFill>
                  <a:srgbClr val="660066"/>
                </a:solidFill>
                <a:latin typeface="Courier New"/>
              </a:rPr>
              <a:t>current</a:t>
            </a:r>
            <a:r>
              <a:rPr b="1" lang="en-US" sz="2000" spc="-1" strike="noStrike">
                <a:solidFill>
                  <a:srgbClr val="660066"/>
                </a:solidFill>
                <a:latin typeface="Courier New"/>
              </a:rPr>
              <a:t> preferred siz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660066"/>
                </a:solidFill>
                <a:latin typeface="Courier New"/>
              </a:rPr>
              <a:t>// Think about</a:t>
            </a:r>
            <a:br>
              <a:rPr sz="2000"/>
            </a:b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b</a:t>
            </a:r>
            <a:r>
              <a:rPr b="1" lang="en-US" sz="2000" spc="-1" strike="noStrike">
                <a:solidFill>
                  <a:srgbClr val="ff5050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setText(</a:t>
            </a:r>
            <a:r>
              <a:rPr b="1" lang="en-US" sz="2000" spc="-1" strike="noStrike">
                <a:solidFill>
                  <a:srgbClr val="8888ae"/>
                </a:solidFill>
                <a:latin typeface="Courier New"/>
              </a:rPr>
              <a:t>“Duke loves Java”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);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660066"/>
                </a:solidFill>
                <a:latin typeface="Courier New"/>
              </a:rPr>
              <a:t>// max and min are still set for “Hello”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A4D0-71DF-4A33-A52D-3C031C5085ED}" type="slidenum">
              <a:t>9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26F3F2-08CD-43B6-8E13-AAD95AB4A3F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rrect Fixing Via Extens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2000" spc="-1" strike="noStrike">
                <a:solidFill>
                  <a:srgbClr val="c7c7df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7c7df"/>
                </a:solidFill>
                <a:latin typeface="Courier New"/>
              </a:rPr>
              <a:t>class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 FixedJButton </a:t>
            </a:r>
            <a:r>
              <a:rPr b="1" lang="en-US" sz="2000" spc="-1" strike="noStrike">
                <a:solidFill>
                  <a:srgbClr val="c7c7df"/>
                </a:solidFill>
                <a:latin typeface="Courier New"/>
              </a:rPr>
              <a:t>extends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 JButton {</a:t>
            </a:r>
            <a:br>
              <a:rPr sz="2000"/>
            </a:b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c7c7df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 FixedJButton(String text) {</a:t>
            </a:r>
            <a:br>
              <a:rPr sz="2000"/>
            </a:b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7c7df"/>
                </a:solidFill>
                <a:latin typeface="Courier New"/>
              </a:rPr>
              <a:t>super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(text);</a:t>
            </a:r>
            <a:br>
              <a:rPr sz="2000"/>
            </a:b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  }</a:t>
            </a:r>
            <a:br>
              <a:rPr sz="2000"/>
            </a:b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c7c7df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 Dimension getMaximumSize() {</a:t>
            </a:r>
            <a:br>
              <a:rPr sz="2000"/>
            </a:b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7c7df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 getPreferredSize();</a:t>
            </a:r>
            <a:br>
              <a:rPr sz="2000"/>
            </a:b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  }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c7c7df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 Dimension getMinimumSize() {</a:t>
            </a:r>
            <a:br>
              <a:rPr sz="2000"/>
            </a:b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7c7df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 getPreferredSize();</a:t>
            </a:r>
            <a:br>
              <a:rPr sz="2000"/>
            </a:b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  }</a:t>
            </a:r>
            <a:br>
              <a:rPr sz="2000"/>
            </a:b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D6A0-83CA-452D-9DC0-408009B5BD22}" type="slidenum">
              <a:t>9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B39FE4-5CFD-4795-A450-BC83CA4BA98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xing Via Decor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1800" spc="-1" strike="noStrike">
                <a:solidFill>
                  <a:srgbClr val="c7c7df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c7c7df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FixedDecorator 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c7c7df"/>
                </a:solidFill>
                <a:latin typeface="Courier New"/>
              </a:rPr>
              <a:t>extends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Container {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c7c7df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FixedDecorator() {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  setLayout(</a:t>
            </a:r>
            <a:r>
              <a:rPr b="1" lang="en-US" sz="1800" spc="-1" strike="noStrike">
                <a:solidFill>
                  <a:srgbClr val="c7c7df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GridLayout(</a:t>
            </a: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,</a:t>
            </a: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0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))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}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c7c7df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Dimension getMaximumSize() {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c7c7df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getPreferredSize()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}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c7c7df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Dimension getMinimumSize() {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c7c7df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getPreferredSize()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}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FEFE-10A8-4B05-BED5-34900942EF88}" type="slidenum">
              <a:t>9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4AAE2C-5A80-4F9C-B6FB-5665A7149E0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Using Fixed Componen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2000" spc="-1" strike="noStrike">
                <a:solidFill>
                  <a:srgbClr val="660066"/>
                </a:solidFill>
                <a:latin typeface="Courier New"/>
              </a:rPr>
              <a:t>// Using the extended button</a:t>
            </a:r>
            <a:br>
              <a:rPr sz="2000"/>
            </a:b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FixedJButton b </a:t>
            </a:r>
            <a:r>
              <a:rPr b="1" lang="en-US" sz="2000" spc="-1" strike="noStrike">
                <a:solidFill>
                  <a:srgbClr val="ff5050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7c7df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 FixedJButton(</a:t>
            </a:r>
            <a:r>
              <a:rPr b="1" lang="en-US" sz="2000" spc="-1" strike="noStrike">
                <a:solidFill>
                  <a:srgbClr val="8888ae"/>
                </a:solidFill>
                <a:latin typeface="Courier New"/>
              </a:rPr>
              <a:t>“Hello”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);</a:t>
            </a:r>
            <a:br>
              <a:rPr sz="2000"/>
            </a:br>
            <a:r>
              <a:rPr b="1" lang="en-US" sz="2000" spc="-1" strike="noStrike">
                <a:solidFill>
                  <a:srgbClr val="660066"/>
                </a:solidFill>
                <a:latin typeface="Courier New"/>
              </a:rPr>
              <a:t>// use b just like a normal JButton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660066"/>
                </a:solidFill>
                <a:latin typeface="Courier New"/>
              </a:rPr>
              <a:t>// Using the decorator</a:t>
            </a:r>
            <a:br>
              <a:rPr sz="2000"/>
            </a:b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FixedDecorator d </a:t>
            </a:r>
            <a:r>
              <a:rPr b="1" lang="en-US" sz="2000" spc="-1" strike="noStrike">
                <a:solidFill>
                  <a:srgbClr val="ff5050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7c7df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 FixedDecorator();</a:t>
            </a:r>
            <a:br>
              <a:rPr sz="2000"/>
            </a:b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JButton b </a:t>
            </a:r>
            <a:r>
              <a:rPr b="1" lang="en-US" sz="2000" spc="-1" strike="noStrike">
                <a:solidFill>
                  <a:srgbClr val="ff5050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7c7df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 JButton(</a:t>
            </a:r>
            <a:r>
              <a:rPr b="1" lang="en-US" sz="2000" spc="-1" strike="noStrike">
                <a:solidFill>
                  <a:srgbClr val="8888ae"/>
                </a:solidFill>
                <a:latin typeface="Courier New"/>
              </a:rPr>
              <a:t>“Hello”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);</a:t>
            </a:r>
            <a:br>
              <a:rPr sz="2000"/>
            </a:b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d</a:t>
            </a:r>
            <a:r>
              <a:rPr b="1" lang="en-US" sz="2000" spc="-1" strike="noStrike">
                <a:solidFill>
                  <a:srgbClr val="ff5050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add(b);</a:t>
            </a:r>
            <a:br>
              <a:rPr sz="2000"/>
            </a:br>
            <a:r>
              <a:rPr b="1" lang="en-US" sz="2000" spc="-1" strike="noStrike">
                <a:solidFill>
                  <a:srgbClr val="660066"/>
                </a:solidFill>
                <a:latin typeface="Courier New"/>
              </a:rPr>
              <a:t>// add d into the GUI where you want</a:t>
            </a:r>
            <a:br>
              <a:rPr sz="2000"/>
            </a:br>
            <a:r>
              <a:rPr b="1" lang="en-US" sz="2000" spc="-1" strike="noStrike">
                <a:solidFill>
                  <a:srgbClr val="660066"/>
                </a:solidFill>
                <a:latin typeface="Courier New"/>
              </a:rPr>
              <a:t>//   the button</a:t>
            </a:r>
            <a:br>
              <a:rPr sz="2000"/>
            </a:br>
            <a:r>
              <a:rPr b="1" lang="en-US" sz="2000" spc="-1" strike="noStrike">
                <a:solidFill>
                  <a:srgbClr val="660066"/>
                </a:solidFill>
                <a:latin typeface="Courier New"/>
              </a:rPr>
              <a:t>// interact with b for button events etc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86DB-9A3A-4746-AADE-2CE770E14B4A}" type="slidenum">
              <a:t>9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F411AE-0AFB-43B1-93E5-F8595268608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oxLayou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Arranges components in a single lin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Horizontally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Vertically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Respect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referred Siz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Maximum Siz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Minimum Siz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FD46-B44B-4152-954B-D610ADAB4DE6}" type="slidenum">
              <a:t>9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6ECC29-36CB-476D-9865-A5A26ABF815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9T00:58:45Z</dcterms:created>
  <dc:creator>Scott Stanchfield</dc:creator>
  <dc:description/>
  <dc:language>en-US</dc:language>
  <cp:lastModifiedBy>Scott Stanchfield</cp:lastModifiedBy>
  <dcterms:modified xsi:type="dcterms:W3CDTF">2002-04-08T01:02:28Z</dcterms:modified>
  <cp:revision>316</cp:revision>
  <dc:subject/>
  <dc:title>Effective Layout Management</dc:title>
</cp:coreProperties>
</file>