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BF4-3CB1-4FF1-8F0F-7BB5741D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80B-47FA-4CB6-90E8-C5031FD9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5A8-3464-4DD1-A5C3-4ED49539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261-FEE1-47D9-B720-6F1B9940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443-2982-48A4-8FDF-F85A1120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7711-7D92-41D9-9B5B-B3091EC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85CE-A436-43DC-B7A9-4FB75884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11B-135A-4D74-A039-567A4EC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8280-509B-4EF7-9645-56C4AE8A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1126-ABAD-4508-841A-27ACEA94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638A-0166-4F70-AF8A-CE5E15FB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6F8-F574-4DC6-BA02-69839FB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0D3-7379-45FE-A5E7-228659C6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A929-59E8-48E8-847D-0E0A24E5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7712-2169-43B6-A3E8-01CACA87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154D-CF43-4D75-A1AC-8075C4F8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022-ABF0-44C4-952A-384CCA65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E7F-AC2E-462D-8840-CBF1ACFD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AE2-010A-4DEC-9529-277C41C5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835-9BD7-4601-9755-84C8165F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7EC-280B-4C8F-8AF3-964EDBB3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C3F-7299-428F-ABF3-4474011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8C9-B853-464B-83F7-13F6B3C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71A-6726-42AE-9C01-39AE682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5480-4934-4B47-BFB4-F403D0F73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83A1-7D4D-4C5B-BB88-0454F2B1E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hetick@javadude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s: Experience and Specu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Stanch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r Technology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thetick@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 contained manipulation of a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Liste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associat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u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stro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use Ac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in term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attached to zero, one, or more GUI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reassigned at run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isabl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n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tr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model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s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47920" y="3429000"/>
            <a:ext cx="5770800" cy="1066680"/>
            <a:chOff x="1447920" y="3429000"/>
            <a:chExt cx="5770800" cy="1066680"/>
          </a:xfrm>
        </p:grpSpPr>
        <p:sp>
          <p:nvSpPr>
            <p:cNvPr id="98" name=""/>
            <p:cNvSpPr/>
            <p:nvPr/>
          </p:nvSpPr>
          <p:spPr>
            <a:xfrm>
              <a:off x="5715000" y="342900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9200" y="3581280"/>
              <a:ext cx="91440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920" y="352116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666160" y="3581280"/>
              <a:ext cx="83844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68440" y="3809520"/>
            <a:ext cx="1002960" cy="1146600"/>
            <a:chOff x="3268440" y="3809520"/>
            <a:chExt cx="1002960" cy="1146600"/>
          </a:xfrm>
        </p:grpSpPr>
        <p:cxnSp>
          <p:nvCxnSpPr>
            <p:cNvPr id="104" name=""/>
            <p:cNvCxnSpPr>
              <a:stCxn id="95" idx="7"/>
              <a:endCxn id="102" idx="4"/>
            </p:cNvCxnSpPr>
            <p:nvPr/>
          </p:nvCxnSpPr>
          <p:spPr>
            <a:xfrm flipV="1">
              <a:off x="3268440" y="3809520"/>
              <a:ext cx="99900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5" name=""/>
            <p:cNvSpPr/>
            <p:nvPr/>
          </p:nvSpPr>
          <p:spPr>
            <a:xfrm>
              <a:off x="3581640" y="4130640"/>
              <a:ext cx="68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580560" y="3809520"/>
            <a:ext cx="2066040" cy="2238840"/>
            <a:chOff x="3580560" y="3809520"/>
            <a:chExt cx="2066040" cy="2238840"/>
          </a:xfrm>
        </p:grpSpPr>
        <p:cxnSp>
          <p:nvCxnSpPr>
            <p:cNvPr id="107" name=""/>
            <p:cNvCxnSpPr>
              <a:stCxn id="96" idx="2"/>
              <a:endCxn id="95" idx="6"/>
            </p:cNvCxnSpPr>
            <p:nvPr/>
          </p:nvCxnSpPr>
          <p:spPr>
            <a:xfrm flipH="1">
              <a:off x="3580560" y="5143320"/>
              <a:ext cx="1753560" cy="108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1"/>
              <a:endCxn id="102" idx="4"/>
            </p:cNvCxnSpPr>
            <p:nvPr/>
          </p:nvCxnSpPr>
          <p:spPr>
            <a:xfrm flipH="1" flipV="1">
              <a:off x="4266720" y="3809520"/>
              <a:ext cx="138024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4106880" y="5222880"/>
              <a:ext cx="116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7360" y="4359240"/>
              <a:ext cx="106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pd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s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167652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200400"/>
            <a:ext cx="2133720" cy="1143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2"/>
            <a:endCxn id="112" idx="1"/>
          </p:cNvCxnSpPr>
          <p:nvPr/>
        </p:nvCxnSpPr>
        <p:spPr>
          <a:xfrm flipV="1" rot="10800000">
            <a:off x="1760400" y="2246760"/>
            <a:ext cx="1440360" cy="249156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3" idx="7"/>
          </p:cNvCxnSpPr>
          <p:nvPr/>
        </p:nvCxnSpPr>
        <p:spPr>
          <a:xfrm>
            <a:off x="5334120" y="2247480"/>
            <a:ext cx="1821600" cy="249156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5" idx="0"/>
            <a:endCxn id="114" idx="4"/>
          </p:cNvCxnSpPr>
          <p:nvPr/>
        </p:nvCxnSpPr>
        <p:spPr>
          <a:xfrm flipV="1">
            <a:off x="4266720" y="2819160"/>
            <a:ext cx="1080" cy="38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3" idx="1"/>
            <a:endCxn id="115" idx="5"/>
          </p:cNvCxnSpPr>
          <p:nvPr/>
        </p:nvCxnSpPr>
        <p:spPr>
          <a:xfrm flipH="1" flipV="1">
            <a:off x="5020560" y="4176000"/>
            <a:ext cx="626040" cy="562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5" idx="3"/>
            <a:endCxn id="112" idx="7"/>
          </p:cNvCxnSpPr>
          <p:nvPr/>
        </p:nvCxnSpPr>
        <p:spPr>
          <a:xfrm flipH="1">
            <a:off x="3268440" y="4176360"/>
            <a:ext cx="244800" cy="562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2" idx="0"/>
            <a:endCxn id="114" idx="3"/>
          </p:cNvCxnSpPr>
          <p:nvPr/>
        </p:nvCxnSpPr>
        <p:spPr>
          <a:xfrm flipV="1">
            <a:off x="2514600" y="2652120"/>
            <a:ext cx="999000" cy="1919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352680" y="4267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7160" y="40384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0920" y="220968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d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05920" y="220680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d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0040" y="3200400"/>
            <a:ext cx="6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9080" y="2819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4" idx="6"/>
            <a:endCxn id="115" idx="6"/>
          </p:cNvCxnSpPr>
          <p:nvPr/>
        </p:nvCxnSpPr>
        <p:spPr>
          <a:xfrm>
            <a:off x="5334120" y="2247840"/>
            <a:ext cx="2160" cy="1524960"/>
          </a:xfrm>
          <a:prstGeom prst="curvedConnector5">
            <a:avLst>
              <a:gd name="adj1" fmla="val 14400000"/>
              <a:gd name="adj2" fmla="val 49988"/>
              <a:gd name="adj3" fmla="val 1440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499000" y="32004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2"/>
            <a:endCxn id="112" idx="6"/>
          </p:cNvCxnSpPr>
          <p:nvPr/>
        </p:nvCxnSpPr>
        <p:spPr>
          <a:xfrm flipH="1">
            <a:off x="3580560" y="5143320"/>
            <a:ext cx="1753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946680" y="51465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mple 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class AddA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extends AbstractAction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// property AddressBookModel 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// property AddressDataModel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AddActio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super("Add", addIcon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public void actionPerformed(ActionEvent e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odel.add(dat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6:31:12Z</dcterms:created>
  <dc:creator>Scott Stanchfield</dc:creator>
  <dc:description/>
  <dc:language>en-US</dc:language>
  <cp:lastModifiedBy>Scott Stanchfield</cp:lastModifiedBy>
  <dcterms:modified xsi:type="dcterms:W3CDTF">2000-06-08T00:10:18Z</dcterms:modified>
  <cp:revision>21</cp:revision>
  <dc:subject/>
  <dc:title>MVC for You and Me</dc:title>
</cp:coreProperties>
</file>